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D8B-54FE-445B-8FC8-2656FB78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91D-DBD8-4F0A-A6C8-1B03EA4A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A43-C92E-4977-8FA4-C9B14F1D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CA65-1C5C-4ED1-BD26-5879E088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FC0-6E5B-481B-8BC4-F55F0B2E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060E-A3F2-4885-9FA4-0E33560C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ECC-989A-4304-9B25-7FB1ED5D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BCD-37BC-4DD8-B2E3-B4BD3A03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2CD-F1D9-44FC-AE33-C6AEB907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2999-827C-49CF-AB30-1003CD6E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787-5F60-44E6-B18F-8EE555F4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81D-F46B-477F-A288-675F861D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49B3-DA2D-4F5B-9B50-224F32A4C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057400" y="228600"/>
          <a:ext cx="5064120" cy="638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8600"/>
                    <a:ext cx="506412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7812000" y="609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28000" y="595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22200" y="6021360"/>
            <a:ext cx="1311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Sacado de Bascuñán R.Anton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00" spc="-1" strike="noStrike">
                <a:solidFill>
                  <a:srgbClr val="000000"/>
                </a:solidFill>
                <a:latin typeface="Times New Roman"/>
              </a:rPr>
              <a:t>Modos de Creación de Norm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00" spc="-1" strike="noStrike">
                <a:solidFill>
                  <a:srgbClr val="000000"/>
                </a:solidFill>
                <a:latin typeface="Times New Roman"/>
              </a:rPr>
              <a:t>en el Derecho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600" spc="-1" strike="noStrike">
                <a:solidFill>
                  <a:srgbClr val="000000"/>
                </a:solidFill>
                <a:latin typeface="Times New Roman"/>
              </a:rPr>
              <a:t>Chil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(1998, separata, Escuela de Derecho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Universidad de Chile)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Libertad de expresión (medios) y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privacidad (telecomunicaciones)</a:t>
            </a:r>
            <a:br>
              <a:rPr sz="28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Reglamento Constitucion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visorio del Pueblo de Chil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18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Derechos y garantías individ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X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Se respetará el derecho que los ciudadanos tienen a la seguridad de sus personas, casa, efectos y papel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XX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La imprenta gozará de una libertad legal; y para que esta no degenere en licencia nociva a la Religión, costumbres y honor de los ciudadanos y del pais; se prescribirán reglas por el Gobierno y Sen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ibertad de expresión (medios) y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ivacidad (telecomunicaciones)</a:t>
            </a:r>
            <a:br>
              <a:rPr sz="28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glamento Constitucional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visorio del Pueblo de Chil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8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otestades norm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Habrá un Senado compuesto de siete individuos… Sin su dictamen no podrá el Gobierno resolver en los grandes negocios que interesen la seguridad de la Patri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or negocios graves se entiende: imponer contribuciones; declarar la guerra; hacer la paz; acuñar moneda; establecer alianzas y tratados de comercio; nombrar Enviados; trasladar tropas, levantarlas de nuevo; decidir las desavenencias de las Provincias entre s, ó con las que estan fuera del territorio; proveer los empleos de Gobernadores y Gefes de todas clases; dar patentes de corso; emprehender obras; crear nuevas Autoridades; entablar relaciones exteriores, y alterar ese reglamento: y las facultades que no le estan expresamente declaradas en ésta Constitución, quedan reservadas al Pueblo Sober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836640"/>
          <a:ext cx="5600880" cy="51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836640"/>
                    <a:ext cx="560088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33520" y="301680"/>
          <a:ext cx="7802280" cy="968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01680"/>
                    <a:ext cx="78022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1080" y="228600"/>
          <a:ext cx="5486400" cy="788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486400" cy="78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6269920" y="19080"/>
          <a:ext cx="15239880" cy="2114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69920" y="19080"/>
                    <a:ext cx="152398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447920" y="0"/>
          <a:ext cx="5638680" cy="60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0"/>
                    <a:ext cx="56386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523880" y="3124080"/>
          <a:ext cx="5600880" cy="3448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124080"/>
                    <a:ext cx="560088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981080" y="228600"/>
          <a:ext cx="5486400" cy="788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486400" cy="78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771560" y="2971800"/>
          <a:ext cx="5486400" cy="226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2971800"/>
                    <a:ext cx="548640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523880" y="228600"/>
          <a:ext cx="560088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8600"/>
                    <a:ext cx="560088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981080" y="228600"/>
          <a:ext cx="5486400" cy="788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486400" cy="78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71560" y="2971800"/>
          <a:ext cx="5486400" cy="226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2971800"/>
                    <a:ext cx="548640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905120" y="228600"/>
          <a:ext cx="5486400" cy="5753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28600"/>
                    <a:ext cx="548640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20:25:28Z</dcterms:created>
  <dc:creator>Centro Estudios Publicos</dc:creator>
  <dc:description/>
  <dc:language>en-US</dc:language>
  <cp:lastModifiedBy>Lucas Sierra</cp:lastModifiedBy>
  <dcterms:modified xsi:type="dcterms:W3CDTF">2005-09-03T18:13:22Z</dcterms:modified>
  <cp:revision>9</cp:revision>
  <dc:subject/>
  <dc:title>Sin título de diapositiva</dc:title>
</cp:coreProperties>
</file>