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3.docx" ContentType="application/vnd.openxmlformats-officedocument.wordprocessingml.document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9B94-EFB9-4D21-90C8-BAA672572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9862-5C2D-405E-B431-D09E7459B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DC90D-906C-4D2D-A21B-FCF198139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8EE44-B83F-4DC3-845D-FE7A166B0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D698-2971-43E1-9DD7-E34C8FCB5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6256-9486-4AD5-BB67-15BCD80D0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2A775-33A3-436B-841F-DF15D217B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806A3-0B29-40FF-8558-0586F1F0D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59C4-D0C2-46D1-94DD-9B4D8C7D2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4D46-3BAF-4759-ACF0-8CB150C57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DC13-355E-4E83-8840-906C8A315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D38F7-B672-40E9-9BD8-109075820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D081C-4C72-487A-B8E4-B9C0B5602D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9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2.wmf"/><Relationship Id="rId5" Type="http://schemas.openxmlformats.org/officeDocument/2006/relationships/package" Target="../embeddings/oleObject3.docx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057400" y="228600"/>
          <a:ext cx="5064120" cy="6388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28600"/>
                    <a:ext cx="5064120" cy="638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7812000" y="6093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028000" y="5950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522200" y="6021360"/>
            <a:ext cx="13114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Times New Roman"/>
              </a:rPr>
              <a:t>Sacado de Bascuñán R.Antoni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00" spc="-1" strike="noStrike">
                <a:solidFill>
                  <a:srgbClr val="000000"/>
                </a:solidFill>
                <a:latin typeface="Times New Roman"/>
              </a:rPr>
              <a:t>Modos de Creación de Normas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600" spc="-1" strike="noStrike">
                <a:solidFill>
                  <a:srgbClr val="000000"/>
                </a:solidFill>
                <a:latin typeface="Times New Roman"/>
              </a:rPr>
              <a:t>en el Derecho</a:t>
            </a:r>
            <a:r>
              <a:rPr b="0" lang="es-ES" sz="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s-ES" sz="600" spc="-1" strike="noStrike">
                <a:solidFill>
                  <a:srgbClr val="000000"/>
                </a:solidFill>
                <a:latin typeface="Times New Roman"/>
              </a:rPr>
              <a:t>Chileno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Times New Roman"/>
              </a:rPr>
              <a:t>(1998, separata, Escuela de Derecho,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" spc="-1" strike="noStrike">
                <a:solidFill>
                  <a:srgbClr val="000000"/>
                </a:solidFill>
                <a:latin typeface="Times New Roman"/>
              </a:rPr>
              <a:t>Universidad de Chile).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Libertad de expresión (medios) y</a:t>
            </a:r>
            <a:br>
              <a:rPr sz="2800"/>
            </a:br>
            <a:r>
              <a:rPr b="1" lang="es-ES" sz="2800" spc="-1" strike="noStrike">
                <a:solidFill>
                  <a:srgbClr val="ffff00"/>
                </a:solidFill>
                <a:latin typeface="Times New Roman"/>
              </a:rPr>
              <a:t>privacidad (telecomunicaciones)</a:t>
            </a:r>
            <a:br>
              <a:rPr sz="2800"/>
            </a:b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Reglamento Constitucional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Provisorio del Pueblo de Chile</a:t>
            </a:r>
            <a:br>
              <a:rPr sz="2400"/>
            </a:br>
            <a:r>
              <a:rPr b="0" lang="es-ES" sz="2400" spc="-1" strike="noStrike">
                <a:solidFill>
                  <a:srgbClr val="ffff00"/>
                </a:solidFill>
                <a:latin typeface="Times New Roman"/>
              </a:rPr>
              <a:t>18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4360" y="2492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00"/>
                </a:solidFill>
                <a:latin typeface="Times New Roman"/>
              </a:rPr>
              <a:t>Derechos y garantías individu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XV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</a:rPr>
              <a:t>Se respetará el derecho que los ciudadanos tienen a la seguridad de sus personas, casa, efectos y papele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1" lang="es-ES" sz="1800" spc="-1" strike="noStrike">
                <a:solidFill>
                  <a:srgbClr val="ffff00"/>
                </a:solidFill>
                <a:latin typeface="Times New Roman"/>
              </a:rPr>
              <a:t>XX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ffff00"/>
                </a:solidFill>
                <a:latin typeface="Times New Roman"/>
              </a:rPr>
              <a:t>La imprenta gozará de una libertad legal; y para que esta no degenere en licencia nociva a la Religión, costumbres y honor de los ciudadanos y del pais; se prescribirán reglas por el Gobierno y Sen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Libertad de expresión (medios) y</a:t>
            </a:r>
            <a:br>
              <a:rPr sz="2800"/>
            </a:br>
            <a:r>
              <a:rPr b="1" lang="es-ES" sz="2800" spc="-1" strike="noStrike">
                <a:solidFill>
                  <a:srgbClr val="000000"/>
                </a:solidFill>
                <a:latin typeface="Times New Roman"/>
              </a:rPr>
              <a:t>privacidad (telecomunicaciones)</a:t>
            </a:r>
            <a:br>
              <a:rPr sz="2800"/>
            </a:b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glamento Constitucional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visorio del Pueblo de Chile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181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otestades norma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V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Habrá un Senado compuesto de siete individuos… Sin su dictamen no podrá el Gobierno resolver en los grandes negocios que interesen la seguridad de la Patria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V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Por negocios graves se entiende: imponer contribuciones; declarar la guerra; hacer la paz; acuñar moneda; establecer alianzas y tratados de comercio; nombrar Enviados; trasladar tropas, levantarlas de nuevo; decidir las desavenencias de las Provincias entre s, ó con las que estan fuera del territorio; proveer los empleos de Gobernadores y Gefes de todas clases; dar patentes de corso; emprehender obras; crear nuevas Autoridades; entablar relaciones exteriores, y alterar ese reglamento: y las facultades que no le estan expresamente declaradas en ésta Constitución, quedan reservadas al Pueblo Soberan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1476360" y="836640"/>
          <a:ext cx="5600880" cy="5184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836640"/>
                    <a:ext cx="5600880" cy="518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"/>
          <p:cNvGraphicFramePr/>
          <p:nvPr/>
        </p:nvGraphicFramePr>
        <p:xfrm>
          <a:off x="533520" y="301680"/>
          <a:ext cx="7802280" cy="96840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301680"/>
                    <a:ext cx="7802280" cy="96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981080" y="228600"/>
          <a:ext cx="5486400" cy="788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28600"/>
                    <a:ext cx="5486400" cy="788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6" name=""/>
          <p:cNvGraphicFramePr/>
          <p:nvPr/>
        </p:nvGraphicFramePr>
        <p:xfrm>
          <a:off x="26269920" y="19080"/>
          <a:ext cx="15239880" cy="21146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269920" y="19080"/>
                    <a:ext cx="15239880" cy="211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1447920" y="0"/>
          <a:ext cx="5638680" cy="6019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0"/>
                    <a:ext cx="563868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"/>
          <p:cNvGraphicFramePr/>
          <p:nvPr/>
        </p:nvGraphicFramePr>
        <p:xfrm>
          <a:off x="1523880" y="3124080"/>
          <a:ext cx="5600880" cy="34480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3124080"/>
                    <a:ext cx="5600880" cy="344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2" name=""/>
          <p:cNvGraphicFramePr/>
          <p:nvPr/>
        </p:nvGraphicFramePr>
        <p:xfrm>
          <a:off x="1981080" y="228600"/>
          <a:ext cx="5486400" cy="788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28600"/>
                    <a:ext cx="5486400" cy="788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"/>
          <p:cNvGraphicFramePr/>
          <p:nvPr/>
        </p:nvGraphicFramePr>
        <p:xfrm>
          <a:off x="1771560" y="2971800"/>
          <a:ext cx="5486400" cy="2266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1560" y="2971800"/>
                    <a:ext cx="548640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" name=""/>
          <p:cNvGraphicFramePr/>
          <p:nvPr/>
        </p:nvGraphicFramePr>
        <p:xfrm>
          <a:off x="1523880" y="228600"/>
          <a:ext cx="5600880" cy="6210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228600"/>
                    <a:ext cx="5600880" cy="621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1981080" y="228600"/>
          <a:ext cx="5486400" cy="7886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228600"/>
                    <a:ext cx="5486400" cy="788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1771560" y="2971800"/>
          <a:ext cx="5486400" cy="22669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771560" y="2971800"/>
                    <a:ext cx="548640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1905120" y="228600"/>
          <a:ext cx="5486400" cy="5753160"/>
        </p:xfrm>
        <a:graphic>
          <a:graphicData uri="http://schemas.openxmlformats.org/presentationml/2006/ole">
            <p:oleObj progId="Word.Document.12" r:id="rId5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905120" y="228600"/>
                    <a:ext cx="5486400" cy="575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20:25:28Z</dcterms:created>
  <dc:creator>Centro Estudios Publicos</dc:creator>
  <dc:description/>
  <dc:language>en-US</dc:language>
  <cp:lastModifiedBy>Lucas Sierra</cp:lastModifiedBy>
  <dcterms:modified xsi:type="dcterms:W3CDTF">2005-09-03T18:13:22Z</dcterms:modified>
  <cp:revision>9</cp:revision>
  <dc:subject/>
  <dc:title>Sin título de diapositiva</dc:title>
</cp:coreProperties>
</file>