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5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5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860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440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4600" y="106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56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440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4600" y="393264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458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56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8600" y="393264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06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560" y="393264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3366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3366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1. Introducción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Modernidad y difusión del contenido simbólico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Telecomunicaciones y medios de comunicación 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Tecnologías de telecomunicacione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La tecnología digital y el fenómeno de la </a:t>
            </a:r>
            <a:r>
              <a:rPr b="1" i="1" lang="es-ES" sz="1800" spc="-1" strike="noStrike">
                <a:solidFill>
                  <a:srgbClr val="003366"/>
                </a:solidFill>
                <a:latin typeface="Verdana"/>
              </a:rPr>
              <a:t>convergencia</a:t>
            </a: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. Discusión en Chile: institucionalidad, </a:t>
            </a:r>
            <a:r>
              <a:rPr b="1" i="1" lang="es-ES" sz="1800" spc="-1" strike="noStrike">
                <a:solidFill>
                  <a:srgbClr val="003366"/>
                </a:solidFill>
                <a:latin typeface="Verdana"/>
              </a:rPr>
              <a:t>VoIP</a:t>
            </a: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 y desagregación de redes. El desafío de la tradición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0" algn="just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0" algn="just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2. La perspectiva de las potestades normativas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0" algn="just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Constituyente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Legislativa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Administrativa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Autónoma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676440" indent="-198720" algn="just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Jurisdiccional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92320" indent="0" algn="just">
              <a:lnSpc>
                <a:spcPct val="95000"/>
              </a:lnSpc>
              <a:spcBef>
                <a:spcPts val="113"/>
              </a:spcBef>
              <a:buNone/>
              <a:tabLst>
                <a:tab algn="l" pos="28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Bibliografía básic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99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Agenda Pro Crecimiento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y telecomunicaciones: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Bascuñán R., A. (1998a)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Los Modos de Creación de las Normas Jurídicas en el Derecho Chileno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, materiales de lectura sin editar, Escuela de Derecho de la Universidad de Chile, Santiago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Bitrán, Eduardo y Serra, Pablo (1998) </a:t>
            </a:r>
            <a:r>
              <a:rPr b="0" i="1" lang="en-GB" sz="1600" spc="-1" strike="noStrike">
                <a:solidFill>
                  <a:srgbClr val="003366"/>
                </a:solidFill>
                <a:latin typeface="Verdana"/>
              </a:rPr>
              <a:t>Regulation of Privatized Utilities: The Chilean Experience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, Documentos de Trabajo n. 32 (Santiago: Universidad de Chile, CEA); en www.dii.uchile.cl/~cea/ pags/publicaciones/cont_pu1_c.html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Collier, Simon y Sater, William F., (1998)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Historia de Chile 1808-1994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(Cambridge: Cambridge University Press)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Galetovic, Alexander y Sanhueza, Ricardo (2002) “Regulaciones de servicios públicos: ¿Hacia dónde debemos ir?”, en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Estudios Público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n. 85, Verano, pp. 101-137; y en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Góngora, Mario (1998)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Ensayo Histórico sobre la Noción de Estado en Chile en los Siglos XIX y XX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(Santiago: Universitaria)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spcBef>
                <a:spcPts val="400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Jadresic, Alejandro (2002) “Agenda pro crecimiento y telecomunicaciones”, en </a:t>
            </a:r>
            <a:r>
              <a:rPr b="0" i="1" lang="es-ES" sz="1600" spc="-1" strike="noStrike">
                <a:solidFill>
                  <a:srgbClr val="003366"/>
                </a:solidFill>
                <a:latin typeface="Verdana"/>
              </a:rPr>
              <a:t>Perspectiva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v. 6, n. 1 (Santiago: Universidad de Chile, DII), pp. 129-39, y en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Bibliografía básica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Lasagni, María Cristina,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dwards, Paula, and Bonnefoy, Josiane (1985)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La Radio en Chile. </a:t>
            </a:r>
            <a:r>
              <a:rPr b="0" i="1" lang="es-CL" sz="1600" spc="-1" strike="noStrike">
                <a:solidFill>
                  <a:srgbClr val="000000"/>
                </a:solidFill>
                <a:latin typeface="Verdana"/>
              </a:rPr>
              <a:t>Historia, modelos y perspectivas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(Santiago: CENECA)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inisterio de Economía (2000)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Experiencias Regulatorias de una Década. Balance y Propuestas para el Futuro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(Santiago: LOM)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elo, José Ricardo y Serra, Pablo (1998) “Competencia y regulación en telecomunicaciones: La experiencia chilena”, en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erspectiv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v. 1, n. 2 (Santiago: Universidad de Chile, DII), pp. 215-247; en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aredes, Ricardo (2001) “Regulación económica en Chile: la opción por un enfoque no estructural”; en Larraín, Felipe y Vergara, Rodrigo (2001)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La Transformación Económica de Chil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(Santiago: CEP); en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rra, Pablo y Fischer, Ronald (2002) “Evolución de la regulación de telecomunicaciones en Chile”, en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erspectivas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, Vol. 6, n. 1, pp. 45-77; en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ierra, Lucas (2004) “La esfera pública y la transición” (por aparecer en la revista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ersona y Sociedad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ubtel,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Documento de Consulta, </a:t>
            </a:r>
            <a:r>
              <a:rPr b="0" i="1" lang="es-CL" sz="1600" spc="-1" strike="noStrike">
                <a:solidFill>
                  <a:srgbClr val="000000"/>
                </a:solidFill>
                <a:latin typeface="Verdana"/>
              </a:rPr>
              <a:t>Regulación de los Servicios de VoIP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, (Agenda Digital), Julio 2004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ubtel, </a:t>
            </a:r>
            <a:r>
              <a:rPr b="0" i="1" lang="es-CL" sz="1600" spc="-1" strike="noStrike">
                <a:solidFill>
                  <a:srgbClr val="000000"/>
                </a:solidFill>
                <a:latin typeface="Verdana"/>
              </a:rPr>
              <a:t>Documento de Consulta: Marco de Referencia Reglamento par Servicios de Desagregación de Redes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, Documento no oficial.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Thompson, John (1997)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Los Media y la Modernidad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(Barcelona: Paidós), Introducción y Capítulo 2.</a:t>
            </a: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3. La época de la potestad legislativa y de un Estado </a:t>
            </a:r>
            <a:r>
              <a:rPr b="1" i="1" lang="es-ES" sz="1800" spc="-1" strike="noStrike">
                <a:solidFill>
                  <a:srgbClr val="003366"/>
                </a:solidFill>
                <a:latin typeface="Verdana"/>
              </a:rPr>
              <a:t>reactivo</a:t>
            </a: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 (hasta la década de 1930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Ley Postal 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(1852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Ley de Telégraf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852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Ordenanza General de Corre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857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Decreto sobre Líneas Telegráficas, Telefónicas y Cable Sub-Marino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888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Ley que crea la Dirección de Obras Pública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888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Ley sobre Correos y Telégraf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—fusión (1898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Ley 1.665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sobre Instalaciones Eléctricas en la República (190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Ley que Aprueba Convenio Radiotelegráfico Internacional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1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Ley que hace depender de una Dirección Jeneral Unica los Servicios de Correos, Telégrafos y Teléfon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20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Decreto ley 245</a:t>
            </a: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 reglamenta los servicios de Correos y Telégraf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25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252 sobre Instalaciones Eléctrica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(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Verdana"/>
              </a:rPr>
              <a:t>Radiodifusión</a:t>
            </a:r>
            <a:r>
              <a:rPr b="0" lang="es-CL" sz="1800" spc="-1" strike="noStrike">
                <a:solidFill>
                  <a:srgbClr val="003366"/>
                </a:solidFill>
                <a:latin typeface="Verdana"/>
              </a:rPr>
              <a:t>) 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(1925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749 Ley Orgánica de Correos y Telégraf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26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2" marL="1192320" indent="0" algn="just">
              <a:lnSpc>
                <a:spcPct val="95000"/>
              </a:lnSpc>
              <a:spcBef>
                <a:spcPts val="113"/>
              </a:spcBef>
              <a:buNone/>
              <a:tabLst>
                <a:tab algn="l" pos="28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4. El auge de la potestad administrativa (desde 1927 hasta 1973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4.402 Fija la Organización de los Servicios de Correos y Telégrafo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28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4.791 Aprueba los Contratos Celebrados entre el Gobierno y la Chile Telephone Company Limited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30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con fuerza de ley 220 Crea el Servicio Nacional de Radiodifusión dependiente del Ministerio del Interior 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(1931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 u="sng">
                <a:solidFill>
                  <a:srgbClr val="003366"/>
                </a:solidFill>
                <a:uFillTx/>
                <a:latin typeface="Verdana"/>
              </a:rPr>
              <a:t>Decreto con fuerza de ley 244</a:t>
            </a: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, aprueba Ley General de Servicios Eléctrico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31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7.392 Orgánica de los Servicios de Correos y Telégrafos del Estado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42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4.581, fija texto de Reglamento de Transmisiones de </a:t>
            </a:r>
            <a:r>
              <a:rPr b="0" i="1" lang="es-CL" sz="1400" spc="-1" strike="noStrike">
                <a:solidFill>
                  <a:srgbClr val="003366"/>
                </a:solidFill>
                <a:latin typeface="Verdana"/>
              </a:rPr>
              <a:t>Radiodifusión</a:t>
            </a:r>
            <a:r>
              <a:rPr b="0" lang="es-CL" sz="1400" spc="-1" strike="noStrike">
                <a:solidFill>
                  <a:srgbClr val="003366"/>
                </a:solidFill>
                <a:latin typeface="Verdana"/>
              </a:rPr>
              <a:t> (1949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7.039, Reglamento de Estaciones de Radiocomunicacione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</a:t>
            </a:r>
            <a:r>
              <a:rPr b="0" lang="es-ES" sz="1400" spc="-1" strike="noStrike" u="sng">
                <a:solidFill>
                  <a:srgbClr val="003366"/>
                </a:solidFill>
                <a:uFillTx/>
                <a:latin typeface="Verdana"/>
              </a:rPr>
              <a:t>Televisión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)</a:t>
            </a: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(1958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 u="sng">
                <a:solidFill>
                  <a:srgbClr val="003366"/>
                </a:solidFill>
                <a:uFillTx/>
                <a:latin typeface="Verdana"/>
              </a:rPr>
              <a:t>Decreto con fuerza de ley 4</a:t>
            </a: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, Ley General de Servicios Eléctrico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59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con fuerza de ley 171, fija texto Ley Orgánica del Servicio de Correos y Telégrafo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60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con fuerza de ley 315, crea Comisión Nacional de Telecomunicaciones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60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Decreto que ordena inscripción de la Empresa Nacional de Telecomunicaciones ENTEL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64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17.377, primera Ley de Televisión</a:t>
            </a:r>
            <a:r>
              <a:rPr b="0" lang="es-ES" sz="1400" spc="-1" strike="noStrike">
                <a:solidFill>
                  <a:srgbClr val="003366"/>
                </a:solidFill>
                <a:latin typeface="Verdana"/>
              </a:rPr>
              <a:t> (1970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88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3366"/>
                </a:solidFill>
                <a:latin typeface="Verdana"/>
              </a:rPr>
              <a:t>Ley 17.910, declara extinguidos los contratos aprobados por la Ley 4.791, entre el Estado y la Chile Telephone Company (02/73)</a:t>
            </a:r>
            <a:endParaRPr b="0" lang="en-US" sz="1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5. Rediseño del esquema de potestades normativas (1973-1989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229, crea el Registro Nacional de Telecomunicacione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7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258, crea Radio Nacional de Chile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Radio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) (197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891, Declara de Utilidad Pública y Expropia Acciones Serie A de la CTC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74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Decreto ley 1.762</a:t>
            </a: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, crea la Subsecretaría de Telecomunicaciones, Subtel, dependiente del Ministerio de Transporte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77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ley 2.301, pone término al régimen de intervención de la CTC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78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Decreto ley 3.464</a:t>
            </a: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, Constitución de 1980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0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con fuerza de ley 10, crea Empresa de Correos de Chile, crea Telex Chile Comunicaciones Telegráficas S.A., y pone término al Servicio de Correos y Telégraf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2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 u="sng">
                <a:solidFill>
                  <a:srgbClr val="003366"/>
                </a:solidFill>
                <a:uFillTx/>
                <a:latin typeface="Verdana"/>
              </a:rPr>
              <a:t>Ley 18.168</a:t>
            </a: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, Ley General de Telecomunicacione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2) y su reforma por el DFL 1 (1987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Decreto supremo 15, aprueba Plan General de Uso del Espectro Radioeléctrico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3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13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3366"/>
                </a:solidFill>
                <a:latin typeface="Verdana"/>
              </a:rPr>
              <a:t>Ley 18.838, segunda Ley de Televisión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(1989)</a:t>
            </a: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13"/>
              </a:spcBef>
              <a:buNone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" dur="1" fill="hold"/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6. Esquema complejo de potestades normativas (1990 a la fecha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19.131, tercera Ley de Televisión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92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12.132, Ley de Televisión Nacional de Chile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92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(Fallo rol 176 del Tribunal Constitucional, noviembre 1993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Ley 19.277, Modifica Ley General de Telecomunicacione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(1994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Actividad regulatoria administrativa de la Subtel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El ingreso de la potestad jurisdiccional: la (ex)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 Comisión Resolutiva 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del decreto ley 211, y la judicatura constitucional y ordinaria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El ingreso de la potestad normativa autónoma (CNTV)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lvl="2" marL="1192320" indent="0" algn="just">
              <a:spcBef>
                <a:spcPts val="400"/>
              </a:spcBef>
              <a:buNone/>
              <a:tabLst>
                <a:tab algn="l" pos="28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7. Evaluación del diseño y práctica del esquema de potestades normativa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0">
              <a:lnSpc>
                <a:spcPct val="95000"/>
              </a:lnSpc>
              <a:spcBef>
                <a:spcPts val="125"/>
              </a:spcBef>
              <a:buNone/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Debate en curso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Consolidación del mercado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Procesos de fijación tarifaria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Evaluación: ¿Un modelo regulatorio para tecnologías 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divergentes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y con competencias eventualmente contradictorias: diseño de políticas y 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regulación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? ¿Es una superintendencia la solución?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  <a:p>
            <a:pPr marL="284040" indent="-284040">
              <a:lnSpc>
                <a:spcPct val="95000"/>
              </a:lnSpc>
              <a:spcBef>
                <a:spcPts val="125"/>
              </a:spcBef>
              <a:buClr>
                <a:srgbClr val="003366"/>
              </a:buClr>
              <a:buFont typeface="Verdana"/>
              <a:buChar char="•"/>
              <a:tabLst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El futuro: desafíos regulatorios planteados por la tecnología digital y el fenómeno de 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convergencia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que ella facilita: los casos 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VoIP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y la </a:t>
            </a:r>
            <a:r>
              <a:rPr b="0" i="1" lang="es-ES" sz="2000" spc="-1" strike="noStrike">
                <a:solidFill>
                  <a:srgbClr val="003366"/>
                </a:solidFill>
                <a:latin typeface="Verdana"/>
              </a:rPr>
              <a:t>desagregación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de redes.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4680" rIns="94680" tIns="51480" bIns="514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769080" cy="532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4680" rIns="94680" tIns="51480" bIns="514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2520" y="1197000"/>
            <a:ext cx="8238960" cy="528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El lugar de las telecomunicaciones en el Derecho chileno 2005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4680" rIns="94680" tIns="51480" bIns="514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1319040"/>
            <a:ext cx="6985080" cy="470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17:12:04Z</dcterms:created>
  <dc:creator>Centro Estudios Publicos</dc:creator>
  <dc:description/>
  <dc:language>en-US</dc:language>
  <cp:lastModifiedBy>Lucas Sierra</cp:lastModifiedBy>
  <cp:lastPrinted>2004-07-28T20:03:09Z</cp:lastPrinted>
  <dcterms:modified xsi:type="dcterms:W3CDTF">2005-08-01T23:49:44Z</dcterms:modified>
  <cp:revision>58</cp:revision>
  <dc:subject/>
  <dc:title>La situación legal anterior a esta ley</dc:title>
</cp:coreProperties>
</file>