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EBB-79B0-4867-A37B-506AF1CB2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E48-B5D5-4913-94CA-496C934F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784-F7E9-45AB-B2A3-BDDF37D9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CC3-0D92-4405-BBEC-3BFFF781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98863-005B-4E27-A835-E4C50656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9D0D2-E663-4373-8057-863E8FA23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F5560-E78B-43AE-975E-1C97D2BA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208DE-E4B1-4825-BD9F-EA9A00ED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BF52A-7BE4-4885-AF1B-E97640D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F3DF0-6746-45BB-834E-076280C0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24102-8FEB-439F-B04F-35C9A90E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AD3-A097-409E-A544-D22DA3A8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8E849-0F76-456D-BF8B-837320FC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E9386-F828-4FC6-AC91-4984F6A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1D5E1-8FF6-4E43-90BA-35F34512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CFC23-E889-4A0B-81CE-44407518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83877-69AA-4F49-BF27-C3D023A6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D20-B03C-49E5-92DE-2A204B24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B643-CC95-4831-BAB1-25B0F256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2D3-E954-48CC-B63D-5A761C32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E5E-0268-4702-B7E2-C84E880B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1D2F-B75C-4B04-A89F-9F0E449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77D-E6AE-48B8-A659-7E5885E5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5A18-D076-4883-A614-A2E68E6F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B405-FFF0-441D-A5DA-B7FBA0744A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103B-EAA1-4CD3-A2E8-1264E6DDB31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JEFATURA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DE </a:t>
            </a:r>
            <a:br>
              <a:rPr sz="5400"/>
            </a:br>
            <a:r>
              <a:rPr b="1" lang="es-CL" sz="5400" spc="-1" strike="noStrike">
                <a:solidFill>
                  <a:srgbClr val="ffcc00"/>
                </a:solidFill>
                <a:latin typeface="Tahoma"/>
              </a:rPr>
              <a:t>FAMILI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7432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umna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aren Arévalo 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olina Saez 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04920"/>
            <a:ext cx="45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Facultad de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átedra: Género y Derec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Profesora: Patsilí Tole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forma en que se recolectan los datos es más que nada práctica, y  no limita en análisis posterior que pueda hacer el analist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 perfectamente posible reclasificar la jefatura de hogar de la forma que se estime conveni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La encuesta no fomenta una visión discriminatoria de la parej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o se podría concluir de una interpretación errada de la información, lo cual es responsabilidad de cada analista al ser una encuesta de manejo relativamente público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escarta que los encuestado respondan que el hogar se puede componer de dos jef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bjetivo ambiguo de la formulación de una pregunta uni-parental. Al parecer busca un enfoque subjetivista del hog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 legitimidad como reflejo de la sociedad que se le otorga a esta encuesta puede producir efectos negativ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162920" y="380880"/>
            <a:ext cx="1447560" cy="106704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0" h="21600">
                <a:moveTo>
                  <a:pt x="0" y="0"/>
                </a:moveTo>
                <a:lnTo>
                  <a:pt x="29300" y="0"/>
                </a:lnTo>
                <a:lnTo>
                  <a:pt x="29300" y="21600"/>
                </a:lnTo>
                <a:lnTo>
                  <a:pt x="0" y="21600"/>
                </a:lnTo>
                <a:close/>
              </a:path>
              <a:path fill="lightenLess" w="29300" h="21600">
                <a:moveTo>
                  <a:pt x="0" y="0"/>
                </a:moveTo>
                <a:lnTo>
                  <a:pt x="29300" y="0"/>
                </a:lnTo>
                <a:lnTo>
                  <a:pt x="27900" y="1400"/>
                </a:lnTo>
                <a:lnTo>
                  <a:pt x="1400" y="1400"/>
                </a:lnTo>
                <a:close/>
              </a:path>
              <a:path fill="darken" w="29300" h="21600">
                <a:moveTo>
                  <a:pt x="29300" y="0"/>
                </a:moveTo>
                <a:lnTo>
                  <a:pt x="29300" y="21600"/>
                </a:lnTo>
                <a:lnTo>
                  <a:pt x="27900" y="20200"/>
                </a:lnTo>
                <a:lnTo>
                  <a:pt x="27900" y="1400"/>
                </a:lnTo>
                <a:close/>
              </a:path>
              <a:path fill="darkenLess" w="29300" h="21600">
                <a:moveTo>
                  <a:pt x="29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0" y="20200"/>
                </a:lnTo>
                <a:close/>
              </a:path>
              <a:path fill="lighten" w="29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0" h="21600">
                <a:moveTo>
                  <a:pt x="146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00" h="21600">
                <a:moveTo>
                  <a:pt x="146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00" h="21600">
                <a:moveTo>
                  <a:pt x="12074" y="8224"/>
                </a:moveTo>
                <a:lnTo>
                  <a:pt x="15938" y="8224"/>
                </a:lnTo>
                <a:lnTo>
                  <a:pt x="15938" y="15221"/>
                </a:lnTo>
                <a:lnTo>
                  <a:pt x="17226" y="15221"/>
                </a:lnTo>
                <a:lnTo>
                  <a:pt x="17226" y="16144"/>
                </a:lnTo>
                <a:lnTo>
                  <a:pt x="12074" y="16144"/>
                </a:lnTo>
                <a:lnTo>
                  <a:pt x="12074" y="15221"/>
                </a:lnTo>
                <a:lnTo>
                  <a:pt x="13362" y="15221"/>
                </a:lnTo>
                <a:lnTo>
                  <a:pt x="13362" y="9129"/>
                </a:lnTo>
                <a:lnTo>
                  <a:pt x="12074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8077320" y="4191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ffcc00"/>
                </a:solidFill>
                <a:latin typeface="Tahoma"/>
              </a:rPr>
              <a:t>MIDEPLA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reado por la Ley N° 18.989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ó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- Diseñar y aplicar políticas, planes y programas de desarrollo nacional y regional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- Proponer las metas de inversión pública y evaluar los proyectos de inversión financiados por el Estado.</a:t>
            </a: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 - Implementar y ejecutar las políticas y programas orientados hacia grupos prioritarios: infancia, juventud, adulto mayor, discapacitados, mujeres e indígenas, a través de sus servicios relacionados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cc00"/>
                </a:solidFill>
                <a:latin typeface="Tahoma"/>
              </a:rPr>
              <a:t>ENCUESTA CASE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CASEN: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“Encuesta de Caracterización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Socioeconómica Nacional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Diagnóstico y evaluación del impacto de la política social en los hogares y programas más importantes que componen el gasto soc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porciona información acerca de las condiciones socioeconómicas de los diferentes sectores sociales del paí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09440"/>
            <a:ext cx="868680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295280" y="685800"/>
          <a:ext cx="6758280" cy="516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685800"/>
                    <a:ext cx="675828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s-CL" sz="4400" spc="-1" strike="noStrike">
                <a:solidFill>
                  <a:srgbClr val="ffcc00"/>
                </a:solidFill>
                <a:latin typeface="Tahoma"/>
              </a:rPr>
              <a:t>JEFATURAS DE FAMIL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ent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encuesta CASEN se trabaja a nivel de “hogar” y no de “famili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amilia: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 un grupo numeroso de personas. Se pueden considerar como familiares a personas que no posean un vínculo sanguíneo comú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ogar: aquel construido por una persona o un grupo de personas, con o sin vínculos de parentesco, que comparten de los ingresos de los hogares. </a:t>
            </a: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uente: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Tahoma"/>
              </a:rPr>
              <a:t> www.mideplan.c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efe o Jefa de Hogar: "Miembro del hogar (hombre o mujer) considerado como tal por las otras personas del hogar, ya sea por razones de dependencia económica, parentesco, edad, autoridad o respeto"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7086600" y="5486400"/>
            <a:ext cx="1447920" cy="106668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7" h="21600">
                <a:moveTo>
                  <a:pt x="0" y="0"/>
                </a:moveTo>
                <a:lnTo>
                  <a:pt x="29317" y="0"/>
                </a:lnTo>
                <a:lnTo>
                  <a:pt x="29317" y="21600"/>
                </a:lnTo>
                <a:lnTo>
                  <a:pt x="0" y="21600"/>
                </a:lnTo>
                <a:close/>
              </a:path>
              <a:path fill="lightenLess" w="29317" h="21600">
                <a:moveTo>
                  <a:pt x="0" y="0"/>
                </a:moveTo>
                <a:lnTo>
                  <a:pt x="29317" y="0"/>
                </a:lnTo>
                <a:lnTo>
                  <a:pt x="27917" y="1400"/>
                </a:lnTo>
                <a:lnTo>
                  <a:pt x="1400" y="1400"/>
                </a:lnTo>
                <a:close/>
              </a:path>
              <a:path fill="darken" w="29317" h="21600">
                <a:moveTo>
                  <a:pt x="29317" y="0"/>
                </a:moveTo>
                <a:lnTo>
                  <a:pt x="29317" y="21600"/>
                </a:lnTo>
                <a:lnTo>
                  <a:pt x="27917" y="20200"/>
                </a:lnTo>
                <a:lnTo>
                  <a:pt x="27917" y="1400"/>
                </a:lnTo>
                <a:close/>
              </a:path>
              <a:path fill="darkenLess" w="29317" h="21600">
                <a:moveTo>
                  <a:pt x="29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7" y="20200"/>
                </a:lnTo>
                <a:close/>
              </a:path>
              <a:path fill="lighten" w="29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7" h="21600">
                <a:moveTo>
                  <a:pt x="146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9317" h="21600">
                <a:moveTo>
                  <a:pt x="146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9317" h="21600">
                <a:moveTo>
                  <a:pt x="12082" y="8224"/>
                </a:moveTo>
                <a:lnTo>
                  <a:pt x="15947" y="8224"/>
                </a:lnTo>
                <a:lnTo>
                  <a:pt x="15947" y="15221"/>
                </a:lnTo>
                <a:lnTo>
                  <a:pt x="17235" y="15221"/>
                </a:lnTo>
                <a:lnTo>
                  <a:pt x="17235" y="16144"/>
                </a:lnTo>
                <a:lnTo>
                  <a:pt x="12082" y="16144"/>
                </a:lnTo>
                <a:lnTo>
                  <a:pt x="12082" y="15221"/>
                </a:lnTo>
                <a:lnTo>
                  <a:pt x="13371" y="15221"/>
                </a:lnTo>
                <a:lnTo>
                  <a:pt x="13371" y="9129"/>
                </a:lnTo>
                <a:lnTo>
                  <a:pt x="12082" y="912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imera encuesta CASEN se realizó en el año 1985, contándose con dicha información desde 1987.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pregunta por la jefatura de hogar siempre se ha incluido en la caracterización de los residentes del hoga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Por qué sólo un jefe o jefa de hog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sociolo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azones prac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¿Qué se busca determinar con dicha pregunt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respuesta generalmente se encamina en forma autodeclarativa, lo que nos permite determinar un nivel de parentesco entre las personas del hogar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forma en que se recolectan y almacenan los datos permite una gran flexibilidad en la interpretación de ésto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l analista puede analizar cuántos son los hogares uniparentales, donde sólo hay presencia de una mujer adulta a cargo del hogar, o bien hogares donde sólo "la" mujer es la proveedora, o la principal proveedora, etc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2T19:31:08Z</dcterms:created>
  <dc:creator>referencia03</dc:creator>
  <dc:description/>
  <dc:language>en-US</dc:language>
  <cp:lastModifiedBy>Telefónica CTC Chile</cp:lastModifiedBy>
  <dcterms:modified xsi:type="dcterms:W3CDTF">2005-08-23T04:12:24Z</dcterms:modified>
  <cp:revision>17</cp:revision>
  <dc:subject/>
  <dc:title>JEFATURA DE FAMIL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