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B93-1208-4F6A-952F-C4EDA7E3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AE8-FB57-434D-A090-5D410AC6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BC5-1E05-480B-82A8-41D5BA3A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D58-7B8B-4BF7-9D39-E3FF294D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424A8-2D78-4AD7-AB17-53E905A6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524D2-B096-42F9-B62A-84D8A1D9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8BC38-E260-43AB-8A6D-7888A72C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140B1-D451-43C1-AA05-CE789E4A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65C59-2E61-4FB8-8332-E64C0C2F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DEA3B-1769-4DD4-836C-E53DA56A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CA920-6B46-46EE-A0D9-552FF9C9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E79-B73A-4A8C-B7C7-005CB800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33249-5E08-4353-8F09-82EEBAA2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583DB-33C3-4DA8-9FB4-C19593F2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FE466-6A99-4137-9FB6-36636062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7DE4A-5275-40AB-A75D-AEC76BE0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EA01C-5A2E-472B-BA61-13E58B12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B234-EB2D-4B7E-A564-96BCCCFE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262-F0CE-4345-9901-B40C4056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EA2-FFB3-4252-A006-56CE84B9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21F-38D7-4D64-9F75-A95D3F6C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CDD-23E2-4A24-8683-E1B27986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7F8-589C-48DB-B41E-BE8967FF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B25-C271-4B28-A9C5-5B5AF728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C97C-47AF-4A27-97B8-8DBED8C7FFB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1481-5A47-4834-8576-1C9AF23B155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JEFATURA </a:t>
            </a:r>
            <a:br>
              <a:rPr sz="5400"/>
            </a:b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DE </a:t>
            </a:r>
            <a:br>
              <a:rPr sz="5400"/>
            </a:b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FAMILIA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umn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aren Arévalo 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olina Saez 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45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átedra: Género y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fesora: Patsilí Tole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forma en que se recolectan los datos es más que nada práctica, y  no limita en análisis posterior que pueda hacer el analis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perfectamente posible reclasificar la jefatura de hogar de la forma que se estime conveni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encuesta no fomenta una visión discriminatoria de la pareja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o se podría concluir de una interpretación errada de la información, lo cual es responsabilidad de cada analista al ser una encuesta de manejo relativamente público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scarta que los encuestado respondan que el hogar se puede componer de dos jef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Objetivo ambiguo de la formulación de una pregunta uni-parental. Al parecer busca un enfoque subjetivista del hog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legitimidad como reflejo de la sociedad que se le otorga a esta encuesta puede producir efectos negativ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7162920" y="380880"/>
            <a:ext cx="1447560" cy="106704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9300" h="21600">
                <a:moveTo>
                  <a:pt x="0" y="0"/>
                </a:moveTo>
                <a:lnTo>
                  <a:pt x="29300" y="0"/>
                </a:lnTo>
                <a:lnTo>
                  <a:pt x="29300" y="21600"/>
                </a:lnTo>
                <a:lnTo>
                  <a:pt x="0" y="21600"/>
                </a:lnTo>
                <a:close/>
              </a:path>
              <a:path fill="lightenLess" w="29300" h="21600">
                <a:moveTo>
                  <a:pt x="0" y="0"/>
                </a:moveTo>
                <a:lnTo>
                  <a:pt x="29300" y="0"/>
                </a:lnTo>
                <a:lnTo>
                  <a:pt x="27900" y="1400"/>
                </a:lnTo>
                <a:lnTo>
                  <a:pt x="1400" y="1400"/>
                </a:lnTo>
                <a:close/>
              </a:path>
              <a:path fill="darken" w="29300" h="21600">
                <a:moveTo>
                  <a:pt x="29300" y="0"/>
                </a:moveTo>
                <a:lnTo>
                  <a:pt x="29300" y="21600"/>
                </a:lnTo>
                <a:lnTo>
                  <a:pt x="27900" y="20200"/>
                </a:lnTo>
                <a:lnTo>
                  <a:pt x="27900" y="1400"/>
                </a:lnTo>
                <a:close/>
              </a:path>
              <a:path fill="darkenLess" w="29300" h="21600">
                <a:moveTo>
                  <a:pt x="29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00" y="20200"/>
                </a:lnTo>
                <a:close/>
              </a:path>
              <a:path fill="lighten" w="29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00" h="21600">
                <a:moveTo>
                  <a:pt x="1465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300" h="21600">
                <a:moveTo>
                  <a:pt x="1465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300" h="21600">
                <a:moveTo>
                  <a:pt x="12074" y="8224"/>
                </a:moveTo>
                <a:lnTo>
                  <a:pt x="15938" y="8224"/>
                </a:lnTo>
                <a:lnTo>
                  <a:pt x="15938" y="15221"/>
                </a:lnTo>
                <a:lnTo>
                  <a:pt x="17226" y="15221"/>
                </a:lnTo>
                <a:lnTo>
                  <a:pt x="17226" y="16144"/>
                </a:lnTo>
                <a:lnTo>
                  <a:pt x="12074" y="16144"/>
                </a:lnTo>
                <a:lnTo>
                  <a:pt x="12074" y="15221"/>
                </a:lnTo>
                <a:lnTo>
                  <a:pt x="13362" y="15221"/>
                </a:lnTo>
                <a:lnTo>
                  <a:pt x="13362" y="9129"/>
                </a:lnTo>
                <a:lnTo>
                  <a:pt x="12074" y="912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8077320" y="4191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cc00"/>
                </a:solidFill>
                <a:latin typeface="Tahoma"/>
              </a:rPr>
              <a:t>MIDEPL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reado por la Ley N° 18.989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n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Diseñar y aplicar políticas, planes y programas de desarrollo nacional y regional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- Proponer las metas de inversión pública y evaluar los proyectos de inversión financiados por el Estado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- Implementar y ejecutar las políticas y programas orientados hacia grupos prioritarios: infancia, juventud, adulto mayor, discapacitados, mujeres e indígenas, a través de sus servicios relacionados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cc00"/>
                </a:solidFill>
                <a:latin typeface="Tahoma"/>
              </a:rPr>
              <a:t>ENCUESTA CASE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SEN: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“Encuesta de Caracterización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Socioeconómica Nacion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agnóstico y evaluación del impacto de la política social en los hogares y programas más importantes que componen el gasto so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porciona información acerca de las condiciones socioeconómicas de los diferentes sectores sociales del paí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09440"/>
            <a:ext cx="868680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295280" y="685800"/>
          <a:ext cx="6758280" cy="51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685800"/>
                    <a:ext cx="675828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JEFATURAS DE FAMIL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ent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encuesta CASEN se trabaja a nivel de “hogar” y no de “famili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amilia: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 un grupo numeroso de personas. Se pueden considerar como familiares a personas que no posean un vínculo sanguíneo comú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ogar: aquel construido por una persona o un grupo de personas, con o sin vínculos de parentesco, que comparten de los ingresos de los hogares.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uente: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Tahoma"/>
              </a:rPr>
              <a:t> www.mideplan.c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efe o Jefa de Hogar: "Miembro del hogar (hombre o mujer) considerado como tal por las otras personas del hogar, ya sea por razones de dependencia económica, parentesco, edad, autoridad o respeto"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708660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1465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317" h="21600">
                <a:moveTo>
                  <a:pt x="1465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317" h="21600">
                <a:moveTo>
                  <a:pt x="12082" y="8224"/>
                </a:moveTo>
                <a:lnTo>
                  <a:pt x="15947" y="8224"/>
                </a:lnTo>
                <a:lnTo>
                  <a:pt x="15947" y="15221"/>
                </a:lnTo>
                <a:lnTo>
                  <a:pt x="17235" y="15221"/>
                </a:lnTo>
                <a:lnTo>
                  <a:pt x="17235" y="16144"/>
                </a:lnTo>
                <a:lnTo>
                  <a:pt x="12082" y="16144"/>
                </a:lnTo>
                <a:lnTo>
                  <a:pt x="12082" y="15221"/>
                </a:lnTo>
                <a:lnTo>
                  <a:pt x="13371" y="15221"/>
                </a:lnTo>
                <a:lnTo>
                  <a:pt x="13371" y="9129"/>
                </a:lnTo>
                <a:lnTo>
                  <a:pt x="12082" y="912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primera encuesta CASEN se realizó en el año 1985, contándose con dicha información desde 1987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pregunta por la jefatura de hogar siempre se ha incluido en la caracterización de los residentes del hog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¿Por qué sólo un jefe o jefa de hog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azones sociolog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azones prac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¿Qué se busca determinar con dicha pregun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respuesta generalmente se encamina en forma autodeclarativa, lo que nos permite determinar un nivel de parentesco entre las personas del hogar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forma en que se recolectan y almacenan los datos permite una gran flexibilidad en la interpretación de éstos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analista puede analizar cuántos son los hogares uniparentales, donde sólo hay presencia de una mujer adulta a cargo del hogar, o bien hogares donde sólo "la" mujer es la proveedora, o la principal proveedora, etc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19:31:08Z</dcterms:created>
  <dc:creator>referencia03</dc:creator>
  <dc:description/>
  <dc:language>en-US</dc:language>
  <cp:lastModifiedBy>Telefónica CTC Chile</cp:lastModifiedBy>
  <dcterms:modified xsi:type="dcterms:W3CDTF">2005-08-23T04:12:24Z</dcterms:modified>
  <cp:revision>17</cp:revision>
  <dc:subject/>
  <dc:title>JEFATURA DE FAMIL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