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1EEF-28FA-4F0E-BDE6-F0C56065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D6DD-DD5F-4888-A566-056722F4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C132-5446-4914-BDAD-55928D1A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D66F-5A6B-4FAE-B38A-FBCD0D99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A921-7EB0-443A-835A-047FA3B1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AC3C-BF27-43A9-8C84-61E82013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9801-E96B-412E-8919-B09B2B58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E741-3AFF-4794-96B3-C3AC67AF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FAC2-06FC-402D-98CA-96B19CF0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C946-1276-443A-B62D-4BD7CC48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96C0-7C73-49D3-883B-F681D052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68B4-B6FE-4330-8282-BADC408A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66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66ff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DEB9-494C-4867-9D64-EFE0D79F238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121480" y="5208480"/>
            <a:ext cx="6792120" cy="642600"/>
            <a:chOff x="2121480" y="5208480"/>
            <a:chExt cx="6792120" cy="642600"/>
          </a:xfrm>
        </p:grpSpPr>
        <p:sp>
          <p:nvSpPr>
            <p:cNvPr id="42" name=""/>
            <p:cNvSpPr/>
            <p:nvPr/>
          </p:nvSpPr>
          <p:spPr>
            <a:xfrm>
              <a:off x="4267080" y="5334120"/>
              <a:ext cx="76320" cy="30456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724280" y="5334120"/>
              <a:ext cx="76320" cy="30456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181480" y="5334120"/>
              <a:ext cx="76320" cy="30456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638680" y="5334120"/>
              <a:ext cx="76320" cy="30456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067440" y="5334120"/>
              <a:ext cx="76320" cy="30456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524640" y="5334120"/>
              <a:ext cx="76320" cy="30456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905520" y="5334120"/>
              <a:ext cx="76320" cy="30456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62720" y="5334120"/>
              <a:ext cx="76320" cy="30456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819920" y="5334120"/>
              <a:ext cx="76320" cy="30456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389800" y="52084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600" spc="-1" strike="noStrike">
                  <a:solidFill>
                    <a:srgbClr val="ccff66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121480" y="5257800"/>
              <a:ext cx="1438200" cy="30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ccff66"/>
                  </a:solidFill>
                  <a:latin typeface="Arial Narrow"/>
                </a:rPr>
                <a:t>Sistemas psíqu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025720" y="2254320"/>
            <a:ext cx="6859440" cy="1174680"/>
            <a:chOff x="2025720" y="2254320"/>
            <a:chExt cx="6859440" cy="1174680"/>
          </a:xfrm>
        </p:grpSpPr>
        <p:sp>
          <p:nvSpPr>
            <p:cNvPr id="54" name=""/>
            <p:cNvSpPr/>
            <p:nvPr/>
          </p:nvSpPr>
          <p:spPr>
            <a:xfrm>
              <a:off x="3857760" y="2286000"/>
              <a:ext cx="761760" cy="457200"/>
            </a:xfrm>
            <a:prstGeom prst="ellipse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54520" y="2286000"/>
              <a:ext cx="762120" cy="457200"/>
            </a:xfrm>
            <a:prstGeom prst="ellipse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86560" y="2286000"/>
              <a:ext cx="761760" cy="457200"/>
            </a:xfrm>
            <a:prstGeom prst="ellipse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00960" y="2286000"/>
              <a:ext cx="761760" cy="457200"/>
            </a:xfrm>
            <a:prstGeom prst="ellipse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532640" y="2286000"/>
              <a:ext cx="762120" cy="457200"/>
            </a:xfrm>
            <a:prstGeom prst="ellipse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61360" y="225432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600" spc="-1" strike="noStrike">
                  <a:solidFill>
                    <a:srgbClr val="ccff66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25720" y="2362320"/>
              <a:ext cx="1558440" cy="30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ccff66"/>
                  </a:solidFill>
                  <a:latin typeface="Arial Narrow"/>
                </a:rPr>
                <a:t>Sistemas funcio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62" idx="0"/>
              <a:endCxn id="54" idx="4"/>
            </p:cNvCxnSpPr>
            <p:nvPr/>
          </p:nvCxnSpPr>
          <p:spPr>
            <a:xfrm flipV="1" rot="16200000">
              <a:off x="4010040" y="2971440"/>
              <a:ext cx="686160" cy="228960"/>
            </a:xfrm>
            <a:prstGeom prst="curvedConnector3">
              <a:avLst>
                <a:gd name="adj1" fmla="val 24986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3" name=""/>
            <p:cNvCxnSpPr>
              <a:stCxn id="62" idx="0"/>
              <a:endCxn id="56" idx="4"/>
            </p:cNvCxnSpPr>
            <p:nvPr/>
          </p:nvCxnSpPr>
          <p:spPr>
            <a:xfrm flipH="1" flipV="1" rot="5400000">
              <a:off x="4924080" y="2286000"/>
              <a:ext cx="686160" cy="1600560"/>
            </a:xfrm>
            <a:prstGeom prst="curvedConnector3">
              <a:avLst>
                <a:gd name="adj1" fmla="val 24986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4" name=""/>
            <p:cNvCxnSpPr>
              <a:stCxn id="55" idx="4"/>
              <a:endCxn id="65" idx="0"/>
            </p:cNvCxnSpPr>
            <p:nvPr/>
          </p:nvCxnSpPr>
          <p:spPr>
            <a:xfrm flipH="1" rot="16200000">
              <a:off x="5144400" y="2734200"/>
              <a:ext cx="686160" cy="703440"/>
            </a:xfrm>
            <a:prstGeom prst="curvedConnector3">
              <a:avLst>
                <a:gd name="adj1" fmla="val 25039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6" name=""/>
            <p:cNvCxnSpPr>
              <a:stCxn id="65" idx="0"/>
              <a:endCxn id="57" idx="4"/>
            </p:cNvCxnSpPr>
            <p:nvPr/>
          </p:nvCxnSpPr>
          <p:spPr>
            <a:xfrm flipH="1" flipV="1" rot="5400000">
              <a:off x="6067080" y="2514600"/>
              <a:ext cx="686160" cy="1143360"/>
            </a:xfrm>
            <a:prstGeom prst="curvedConnector3">
              <a:avLst>
                <a:gd name="adj1" fmla="val 24986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7" name=""/>
            <p:cNvCxnSpPr>
              <a:stCxn id="65" idx="0"/>
              <a:endCxn id="58" idx="4"/>
            </p:cNvCxnSpPr>
            <p:nvPr/>
          </p:nvCxnSpPr>
          <p:spPr>
            <a:xfrm flipH="1" flipV="1" rot="5400000">
              <a:off x="6533280" y="2048400"/>
              <a:ext cx="686160" cy="2075400"/>
            </a:xfrm>
            <a:prstGeom prst="curvedConnector3">
              <a:avLst>
                <a:gd name="adj1" fmla="val 24986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8" name=""/>
            <p:cNvCxnSpPr>
              <a:stCxn id="69" idx="0"/>
              <a:endCxn id="56" idx="4"/>
            </p:cNvCxnSpPr>
            <p:nvPr/>
          </p:nvCxnSpPr>
          <p:spPr>
            <a:xfrm flipV="1" rot="16200000">
              <a:off x="6296040" y="2514240"/>
              <a:ext cx="686160" cy="1143360"/>
            </a:xfrm>
            <a:prstGeom prst="curvedConnector3">
              <a:avLst>
                <a:gd name="adj1" fmla="val 24986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0" name=""/>
            <p:cNvCxnSpPr>
              <a:stCxn id="69" idx="0"/>
              <a:endCxn id="57" idx="4"/>
            </p:cNvCxnSpPr>
            <p:nvPr/>
          </p:nvCxnSpPr>
          <p:spPr>
            <a:xfrm flipV="1" rot="16200000">
              <a:off x="6753240" y="2971440"/>
              <a:ext cx="686160" cy="228960"/>
            </a:xfrm>
            <a:prstGeom prst="curvedConnector3">
              <a:avLst>
                <a:gd name="adj1" fmla="val 24986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71" name=""/>
          <p:cNvGrpSpPr/>
          <p:nvPr/>
        </p:nvGrpSpPr>
        <p:grpSpPr>
          <a:xfrm>
            <a:off x="2381760" y="3244680"/>
            <a:ext cx="6514200" cy="1098720"/>
            <a:chOff x="2381760" y="3244680"/>
            <a:chExt cx="6514200" cy="1098720"/>
          </a:xfrm>
        </p:grpSpPr>
        <p:sp>
          <p:nvSpPr>
            <p:cNvPr id="62" name=""/>
            <p:cNvSpPr/>
            <p:nvPr/>
          </p:nvSpPr>
          <p:spPr>
            <a:xfrm>
              <a:off x="4314960" y="3429000"/>
              <a:ext cx="30456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72160" y="3429000"/>
              <a:ext cx="30456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29360" y="3429000"/>
              <a:ext cx="30456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86560" y="3429000"/>
              <a:ext cx="30456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43760" y="3429000"/>
              <a:ext cx="30456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00960" y="3429000"/>
              <a:ext cx="30456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058160" y="3429000"/>
              <a:ext cx="30456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515360" y="3429000"/>
              <a:ext cx="30456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372160" y="32446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600" spc="-1" strike="noStrike">
                  <a:solidFill>
                    <a:srgbClr val="ccff66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381760" y="3429000"/>
              <a:ext cx="1192680" cy="30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ccff66"/>
                  </a:solidFill>
                  <a:latin typeface="Arial Narrow"/>
                </a:rPr>
                <a:t>Organiz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"/>
            <p:cNvCxnSpPr>
              <a:stCxn id="80" idx="0"/>
              <a:endCxn id="72" idx="2"/>
            </p:cNvCxnSpPr>
            <p:nvPr/>
          </p:nvCxnSpPr>
          <p:spPr>
            <a:xfrm flipH="1" flipV="1" rot="5400000">
              <a:off x="4371840" y="3790800"/>
              <a:ext cx="609840" cy="495720"/>
            </a:xfrm>
            <a:prstGeom prst="curvedConnector3">
              <a:avLst>
                <a:gd name="adj1" fmla="val 25044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1" name=""/>
            <p:cNvCxnSpPr>
              <a:stCxn id="82" idx="0"/>
              <a:endCxn id="72" idx="2"/>
            </p:cNvCxnSpPr>
            <p:nvPr/>
          </p:nvCxnSpPr>
          <p:spPr>
            <a:xfrm flipV="1" rot="16200000">
              <a:off x="5210280" y="3447720"/>
              <a:ext cx="609840" cy="1181520"/>
            </a:xfrm>
            <a:prstGeom prst="curvedConnector3">
              <a:avLst>
                <a:gd name="adj1" fmla="val 25044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3" name=""/>
            <p:cNvCxnSpPr>
              <a:stCxn id="84" idx="0"/>
              <a:endCxn id="69" idx="2"/>
            </p:cNvCxnSpPr>
            <p:nvPr/>
          </p:nvCxnSpPr>
          <p:spPr>
            <a:xfrm flipV="1" rot="16200000">
              <a:off x="7191360" y="3752640"/>
              <a:ext cx="609840" cy="571680"/>
            </a:xfrm>
            <a:prstGeom prst="curvedConnector3">
              <a:avLst>
                <a:gd name="adj1" fmla="val 25044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5" name=""/>
            <p:cNvCxnSpPr>
              <a:stCxn id="86" idx="0"/>
              <a:endCxn id="74" idx="2"/>
            </p:cNvCxnSpPr>
            <p:nvPr/>
          </p:nvCxnSpPr>
          <p:spPr>
            <a:xfrm flipV="1" rot="16200000">
              <a:off x="6315120" y="3714480"/>
              <a:ext cx="609840" cy="648000"/>
            </a:xfrm>
            <a:prstGeom prst="curvedConnector3">
              <a:avLst>
                <a:gd name="adj1" fmla="val 25044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87" name=""/>
          <p:cNvGrpSpPr/>
          <p:nvPr/>
        </p:nvGrpSpPr>
        <p:grpSpPr>
          <a:xfrm>
            <a:off x="2657160" y="4191120"/>
            <a:ext cx="6256440" cy="1143000"/>
            <a:chOff x="2657160" y="4191120"/>
            <a:chExt cx="6256440" cy="1143000"/>
          </a:xfrm>
        </p:grpSpPr>
        <p:grpSp>
          <p:nvGrpSpPr>
            <p:cNvPr id="88" name=""/>
            <p:cNvGrpSpPr/>
            <p:nvPr/>
          </p:nvGrpSpPr>
          <p:grpSpPr>
            <a:xfrm>
              <a:off x="4162320" y="4343400"/>
              <a:ext cx="3886200" cy="304920"/>
              <a:chOff x="4162320" y="4343400"/>
              <a:chExt cx="3886200" cy="304920"/>
            </a:xfrm>
          </p:grpSpPr>
          <p:sp>
            <p:nvSpPr>
              <p:cNvPr id="89" name=""/>
              <p:cNvSpPr/>
              <p:nvPr/>
            </p:nvSpPr>
            <p:spPr>
              <a:xfrm>
                <a:off x="4162320" y="4495680"/>
                <a:ext cx="5335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238640" y="4343400"/>
                <a:ext cx="7632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390920" y="4343400"/>
                <a:ext cx="7632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543560" y="4343400"/>
                <a:ext cx="7596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00760" y="4495680"/>
                <a:ext cx="5331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076720" y="4343400"/>
                <a:ext cx="7632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229360" y="4343400"/>
                <a:ext cx="7596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381640" y="4343400"/>
                <a:ext cx="7632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838840" y="4495680"/>
                <a:ext cx="5335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915160" y="4343400"/>
                <a:ext cx="7596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67440" y="4343400"/>
                <a:ext cx="7632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219720" y="4343400"/>
                <a:ext cx="7632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676920" y="4495680"/>
                <a:ext cx="5335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53240" y="4343400"/>
                <a:ext cx="7632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905520" y="4343400"/>
                <a:ext cx="7632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058160" y="4343400"/>
                <a:ext cx="7596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515360" y="4495680"/>
                <a:ext cx="5331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591320" y="4343400"/>
                <a:ext cx="7632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743960" y="4343400"/>
                <a:ext cx="7596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896240" y="4343400"/>
                <a:ext cx="7632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8389800" y="419112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600" spc="-1" strike="noStrike">
                  <a:solidFill>
                    <a:srgbClr val="ccff66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57160" y="4343400"/>
              <a:ext cx="893880" cy="30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ccff66"/>
                  </a:solidFill>
                  <a:latin typeface="Arial Narrow"/>
                </a:rPr>
                <a:t>Intera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"/>
            <p:cNvCxnSpPr>
              <a:stCxn id="42" idx="0"/>
              <a:endCxn id="94" idx="2"/>
            </p:cNvCxnSpPr>
            <p:nvPr/>
          </p:nvCxnSpPr>
          <p:spPr>
            <a:xfrm flipH="1" flipV="1" rot="5400000">
              <a:off x="4443120" y="4510080"/>
              <a:ext cx="686160" cy="962280"/>
            </a:xfrm>
            <a:prstGeom prst="curvedConnector3">
              <a:avLst>
                <a:gd name="adj1" fmla="val 25039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8" name=""/>
            <p:cNvCxnSpPr>
              <a:stCxn id="42" idx="0"/>
              <a:endCxn id="86" idx="2"/>
            </p:cNvCxnSpPr>
            <p:nvPr/>
          </p:nvCxnSpPr>
          <p:spPr>
            <a:xfrm flipH="1" flipV="1" rot="5400000">
              <a:off x="5281200" y="3672000"/>
              <a:ext cx="686160" cy="2638800"/>
            </a:xfrm>
            <a:prstGeom prst="curvedConnector3">
              <a:avLst>
                <a:gd name="adj1" fmla="val 25039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9" name=""/>
            <p:cNvCxnSpPr>
              <a:stCxn id="47" idx="0"/>
              <a:endCxn id="82" idx="2"/>
            </p:cNvCxnSpPr>
            <p:nvPr/>
          </p:nvCxnSpPr>
          <p:spPr>
            <a:xfrm flipV="1" rot="16200000">
              <a:off x="5991480" y="4762440"/>
              <a:ext cx="686160" cy="457560"/>
            </a:xfrm>
            <a:prstGeom prst="curvedConnector3">
              <a:avLst>
                <a:gd name="adj1" fmla="val 25039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0" name=""/>
            <p:cNvCxnSpPr>
              <a:stCxn id="47" idx="0"/>
              <a:endCxn id="84" idx="2"/>
            </p:cNvCxnSpPr>
            <p:nvPr/>
          </p:nvCxnSpPr>
          <p:spPr>
            <a:xfrm flipH="1" flipV="1" rot="5400000">
              <a:off x="6829200" y="4381560"/>
              <a:ext cx="686160" cy="1219320"/>
            </a:xfrm>
            <a:prstGeom prst="curvedConnector3">
              <a:avLst>
                <a:gd name="adj1" fmla="val 25039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111" name=""/>
          <p:cNvGrpSpPr/>
          <p:nvPr/>
        </p:nvGrpSpPr>
        <p:grpSpPr>
          <a:xfrm>
            <a:off x="4201560" y="533520"/>
            <a:ext cx="4637520" cy="647640"/>
            <a:chOff x="4201560" y="533520"/>
            <a:chExt cx="4637520" cy="647640"/>
          </a:xfrm>
        </p:grpSpPr>
        <p:sp>
          <p:nvSpPr>
            <p:cNvPr id="112" name=""/>
            <p:cNvSpPr/>
            <p:nvPr/>
          </p:nvSpPr>
          <p:spPr>
            <a:xfrm>
              <a:off x="8091360" y="533520"/>
              <a:ext cx="747720" cy="647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01560" y="644400"/>
              <a:ext cx="430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Niveles de formación de siste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66840" y="957240"/>
            <a:ext cx="8443440" cy="5369400"/>
            <a:chOff x="366840" y="957240"/>
            <a:chExt cx="8443440" cy="5369400"/>
          </a:xfrm>
        </p:grpSpPr>
        <p:sp>
          <p:nvSpPr>
            <p:cNvPr id="115" name=""/>
            <p:cNvSpPr/>
            <p:nvPr/>
          </p:nvSpPr>
          <p:spPr>
            <a:xfrm>
              <a:off x="1231920" y="1663560"/>
              <a:ext cx="290520" cy="3279960"/>
            </a:xfrm>
            <a:prstGeom prst="rect">
              <a:avLst/>
            </a:prstGeom>
            <a:gradFill rotWithShape="0">
              <a:gsLst>
                <a:gs pos="0">
                  <a:srgbClr val="5e752f">
                    <a:alpha val="50196"/>
                  </a:srgbClr>
                </a:gs>
                <a:gs pos="100000">
                  <a:srgbClr val="ccff66">
                    <a:alpha val="50196"/>
                  </a:srgbClr>
                </a:gs>
              </a:gsLst>
              <a:lin ang="5400000"/>
            </a:gra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9320" y="5089680"/>
              <a:ext cx="303120" cy="1234800"/>
            </a:xfrm>
            <a:prstGeom prst="rect">
              <a:avLst/>
            </a:prstGeom>
            <a:gradFill rotWithShape="0">
              <a:gsLst>
                <a:gs pos="0">
                  <a:srgbClr val="ccff66">
                    <a:alpha val="50196"/>
                  </a:srgbClr>
                </a:gs>
                <a:gs pos="100000">
                  <a:srgbClr val="5e752f">
                    <a:alpha val="50196"/>
                  </a:srgbClr>
                </a:gs>
              </a:gsLst>
              <a:lin ang="5400000"/>
            </a:gra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2057400" y="2133720"/>
              <a:ext cx="6752880" cy="3733560"/>
              <a:chOff x="2057400" y="2133720"/>
              <a:chExt cx="6752880" cy="373356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057400" y="3124080"/>
                <a:ext cx="6752880" cy="1905120"/>
                <a:chOff x="2057400" y="3124080"/>
                <a:chExt cx="6752880" cy="19051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057400" y="3124080"/>
                  <a:ext cx="6752880" cy="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057400" y="4038480"/>
                  <a:ext cx="6752880" cy="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057400" y="5029200"/>
                  <a:ext cx="6752880" cy="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3733920" y="2133720"/>
                <a:ext cx="1440" cy="3733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1217880" y="1660680"/>
              <a:ext cx="362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ccff66"/>
                  </a:solidFill>
                  <a:latin typeface="Arial Narrow"/>
                  <a:ea typeface="ＭＳ Ｐゴシック"/>
                </a:rPr>
                <a:t>Sistemas sociales &gt; comunic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6840" y="957240"/>
              <a:ext cx="304560" cy="5367240"/>
            </a:xfrm>
            <a:prstGeom prst="rect">
              <a:avLst/>
            </a:prstGeom>
            <a:gradFill rotWithShape="0">
              <a:gsLst>
                <a:gs pos="0">
                  <a:srgbClr val="5e752f">
                    <a:alpha val="50196"/>
                  </a:srgbClr>
                </a:gs>
                <a:gs pos="100000">
                  <a:srgbClr val="ccff66">
                    <a:alpha val="50196"/>
                  </a:srgbClr>
                </a:gs>
              </a:gsLst>
              <a:lin ang="5400000"/>
            </a:gra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9440" y="990720"/>
              <a:ext cx="333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ccff66"/>
                  </a:solidFill>
                  <a:latin typeface="Arial Narrow"/>
                  <a:ea typeface="ＭＳ Ｐゴシック"/>
                </a:rPr>
                <a:t>Sistemas basados en el senti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16440" y="5927760"/>
              <a:ext cx="377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ccff66"/>
                  </a:solidFill>
                  <a:latin typeface="Arial Narrow"/>
                  <a:ea typeface="ＭＳ Ｐゴシック"/>
                </a:rPr>
                <a:t>Sistemas psíquicos &gt; pensamien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705720" y="914400"/>
            <a:ext cx="2314440" cy="556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04920" y="1122480"/>
            <a:ext cx="8686800" cy="1404000"/>
            <a:chOff x="304920" y="1122480"/>
            <a:chExt cx="8686800" cy="1404000"/>
          </a:xfrm>
        </p:grpSpPr>
        <p:grpSp>
          <p:nvGrpSpPr>
            <p:cNvPr id="337" name=""/>
            <p:cNvGrpSpPr/>
            <p:nvPr/>
          </p:nvGrpSpPr>
          <p:grpSpPr>
            <a:xfrm>
              <a:off x="304920" y="1122480"/>
              <a:ext cx="8610480" cy="337320"/>
              <a:chOff x="304920" y="1122480"/>
              <a:chExt cx="8610480" cy="337320"/>
            </a:xfrm>
          </p:grpSpPr>
          <p:sp>
            <p:nvSpPr>
              <p:cNvPr id="338" name=""/>
              <p:cNvSpPr/>
              <p:nvPr/>
            </p:nvSpPr>
            <p:spPr>
              <a:xfrm>
                <a:off x="304920" y="112248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ALT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057400" y="112248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EG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809880" y="112248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ALT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562720" y="112248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EG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315200" y="112248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..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638280" y="1676520"/>
              <a:ext cx="8353440" cy="849960"/>
              <a:chOff x="638280" y="1676520"/>
              <a:chExt cx="8353440" cy="849960"/>
            </a:xfrm>
          </p:grpSpPr>
          <p:sp>
            <p:nvSpPr>
              <p:cNvPr id="344" name=""/>
              <p:cNvSpPr/>
              <p:nvPr/>
            </p:nvSpPr>
            <p:spPr>
              <a:xfrm>
                <a:off x="7927560" y="1808280"/>
                <a:ext cx="31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..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5" name=""/>
              <p:cNvGrpSpPr/>
              <p:nvPr/>
            </p:nvGrpSpPr>
            <p:grpSpPr>
              <a:xfrm>
                <a:off x="638280" y="1676520"/>
                <a:ext cx="809640" cy="761760"/>
                <a:chOff x="638280" y="1676520"/>
                <a:chExt cx="809640" cy="76176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990720" y="1905120"/>
                  <a:ext cx="152280" cy="15228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066680" y="2112840"/>
                  <a:ext cx="15264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809640" y="2085840"/>
                  <a:ext cx="15228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295280" y="2209680"/>
                  <a:ext cx="15264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914400" y="2286000"/>
                  <a:ext cx="152280" cy="15228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38280" y="1938240"/>
                  <a:ext cx="15228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28640" y="1738440"/>
                  <a:ext cx="152280" cy="15228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961920" y="1676520"/>
                  <a:ext cx="152640" cy="15228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219320" y="1752480"/>
                  <a:ext cx="15228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295280" y="1981080"/>
                  <a:ext cx="15264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2362320" y="1752480"/>
                <a:ext cx="990000" cy="706320"/>
                <a:chOff x="2362320" y="1752480"/>
                <a:chExt cx="990000" cy="70632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2579400" y="1904760"/>
                  <a:ext cx="15192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819160" y="2091960"/>
                  <a:ext cx="151920" cy="15264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590560" y="2133360"/>
                  <a:ext cx="15192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971440" y="1904760"/>
                  <a:ext cx="15228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362320" y="1869840"/>
                  <a:ext cx="15192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362320" y="2057040"/>
                  <a:ext cx="151920" cy="15264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514240" y="1752480"/>
                  <a:ext cx="15228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742840" y="2306520"/>
                  <a:ext cx="15228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895480" y="1752480"/>
                  <a:ext cx="15192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200040" y="1752480"/>
                  <a:ext cx="15228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760480" y="1904760"/>
                  <a:ext cx="15192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" name=""/>
              <p:cNvSpPr/>
              <p:nvPr/>
            </p:nvSpPr>
            <p:spPr>
              <a:xfrm>
                <a:off x="7162920" y="2189160"/>
                <a:ext cx="182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Doble contingenci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4191120" y="1676520"/>
                <a:ext cx="809640" cy="761760"/>
                <a:chOff x="4191120" y="1676520"/>
                <a:chExt cx="809640" cy="76176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4543560" y="1905120"/>
                  <a:ext cx="152280" cy="15228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619520" y="2112840"/>
                  <a:ext cx="15264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362480" y="2085840"/>
                  <a:ext cx="15228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848120" y="2209680"/>
                  <a:ext cx="15264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467240" y="2286000"/>
                  <a:ext cx="152280" cy="15228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191120" y="1938240"/>
                  <a:ext cx="15228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281480" y="1738440"/>
                  <a:ext cx="152280" cy="15228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4514760" y="1676520"/>
                  <a:ext cx="152640" cy="15228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772160" y="1752480"/>
                  <a:ext cx="15228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848120" y="1981080"/>
                  <a:ext cx="15264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5915160" y="1752480"/>
                <a:ext cx="990000" cy="706320"/>
                <a:chOff x="5915160" y="1752480"/>
                <a:chExt cx="990000" cy="70632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6132240" y="1904760"/>
                  <a:ext cx="15192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372000" y="2091960"/>
                  <a:ext cx="151920" cy="15264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143400" y="2133360"/>
                  <a:ext cx="15192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524280" y="1904760"/>
                  <a:ext cx="15228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915160" y="1869840"/>
                  <a:ext cx="15192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915160" y="2057040"/>
                  <a:ext cx="151920" cy="15264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067080" y="1752480"/>
                  <a:ext cx="15228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295680" y="2306520"/>
                  <a:ext cx="15228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448320" y="1752480"/>
                  <a:ext cx="15192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752880" y="1752480"/>
                  <a:ext cx="15228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313320" y="1904760"/>
                  <a:ext cx="15192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2" name=""/>
          <p:cNvGrpSpPr/>
          <p:nvPr/>
        </p:nvGrpSpPr>
        <p:grpSpPr>
          <a:xfrm>
            <a:off x="304920" y="2874960"/>
            <a:ext cx="8686800" cy="1591920"/>
            <a:chOff x="304920" y="2874960"/>
            <a:chExt cx="8686800" cy="1591920"/>
          </a:xfrm>
        </p:grpSpPr>
        <p:grpSp>
          <p:nvGrpSpPr>
            <p:cNvPr id="393" name=""/>
            <p:cNvGrpSpPr/>
            <p:nvPr/>
          </p:nvGrpSpPr>
          <p:grpSpPr>
            <a:xfrm>
              <a:off x="304920" y="2874960"/>
              <a:ext cx="8610480" cy="337320"/>
              <a:chOff x="304920" y="2874960"/>
              <a:chExt cx="8610480" cy="337320"/>
            </a:xfrm>
          </p:grpSpPr>
          <p:sp>
            <p:nvSpPr>
              <p:cNvPr id="394" name=""/>
              <p:cNvSpPr/>
              <p:nvPr/>
            </p:nvSpPr>
            <p:spPr>
              <a:xfrm>
                <a:off x="304920" y="287496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ALT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057400" y="287496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EG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809880" y="287496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ALT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562720" y="287496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EG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315200" y="287496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..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7162920" y="3886200"/>
              <a:ext cx="182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Complejidad reduci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90720" y="36576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66680" y="386568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09640" y="383868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95280" y="396252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14400" y="4038480"/>
              <a:ext cx="152280" cy="152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38280" y="369108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8640" y="349092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61920" y="342900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19320" y="350532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95280" y="373392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79760" y="365760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19520" y="3844800"/>
              <a:ext cx="15228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90920" y="3886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71800" y="365760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62320" y="362268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362320" y="3809880"/>
              <a:ext cx="15228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14600" y="350532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743200" y="4081320"/>
              <a:ext cx="15228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895480" y="3505320"/>
              <a:ext cx="15264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00400" y="350532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60840" y="365760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543560" y="365760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619520" y="386568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62480" y="383868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48120" y="396252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467240" y="4038480"/>
              <a:ext cx="152280" cy="152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191120" y="369108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281480" y="349092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14760" y="342900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772160" y="3505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48120" y="373392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132600" y="365760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72360" y="3844800"/>
              <a:ext cx="15228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143760" y="388620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524640" y="365760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15160" y="362268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915160" y="38098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067440" y="350532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96040" y="405936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48320" y="3505320"/>
              <a:ext cx="15264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53240" y="350532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13320" y="3657600"/>
              <a:ext cx="15264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927560" y="3549600"/>
              <a:ext cx="31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3" name=""/>
            <p:cNvCxnSpPr>
              <a:stCxn id="400" idx="7"/>
              <a:endCxn id="412" idx="1"/>
            </p:cNvCxnSpPr>
            <p:nvPr/>
          </p:nvCxnSpPr>
          <p:spPr>
            <a:xfrm flipH="1" rot="16200000">
              <a:off x="1752120" y="3047040"/>
              <a:ext cx="229320" cy="1492920"/>
            </a:xfrm>
            <a:prstGeom prst="curvedConnector5">
              <a:avLst>
                <a:gd name="adj1" fmla="val -109591"/>
                <a:gd name="adj2" fmla="val 50000"/>
                <a:gd name="adj3" fmla="val -109591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44" name=""/>
            <p:cNvCxnSpPr>
              <a:stCxn id="412" idx="4"/>
              <a:endCxn id="429" idx="3"/>
            </p:cNvCxnSpPr>
            <p:nvPr/>
          </p:nvCxnSpPr>
          <p:spPr>
            <a:xfrm flipH="1" flipV="1" rot="5400000">
              <a:off x="3527640" y="2772720"/>
              <a:ext cx="403920" cy="2127960"/>
            </a:xfrm>
            <a:prstGeom prst="curvedConnector5">
              <a:avLst>
                <a:gd name="adj1" fmla="val -56645"/>
                <a:gd name="adj2" fmla="val 50000"/>
                <a:gd name="adj3" fmla="val -56645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45" name=""/>
            <p:cNvCxnSpPr>
              <a:stCxn id="429" idx="0"/>
              <a:endCxn id="436" idx="1"/>
            </p:cNvCxnSpPr>
            <p:nvPr/>
          </p:nvCxnSpPr>
          <p:spPr>
            <a:xfrm flipH="1" rot="16200000">
              <a:off x="5229000" y="3124080"/>
              <a:ext cx="327600" cy="1089720"/>
            </a:xfrm>
            <a:prstGeom prst="curvedConnector5">
              <a:avLst>
                <a:gd name="adj1" fmla="val -69856"/>
                <a:gd name="adj2" fmla="val 50000"/>
                <a:gd name="adj3" fmla="val -69856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46" name=""/>
            <p:cNvCxnSpPr>
              <a:stCxn id="436" idx="4"/>
              <a:endCxn id="442" idx="0"/>
            </p:cNvCxnSpPr>
            <p:nvPr/>
          </p:nvCxnSpPr>
          <p:spPr>
            <a:xfrm flipH="1" flipV="1" rot="5400000">
              <a:off x="6831360" y="2707560"/>
              <a:ext cx="413640" cy="2096280"/>
            </a:xfrm>
            <a:prstGeom prst="curvedConnector5">
              <a:avLst>
                <a:gd name="adj1" fmla="val -55313"/>
                <a:gd name="adj2" fmla="val 23960"/>
                <a:gd name="adj3" fmla="val -55313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447" name=""/>
          <p:cNvGrpSpPr/>
          <p:nvPr/>
        </p:nvGrpSpPr>
        <p:grpSpPr>
          <a:xfrm>
            <a:off x="304920" y="4648320"/>
            <a:ext cx="8686800" cy="1828440"/>
            <a:chOff x="304920" y="4648320"/>
            <a:chExt cx="8686800" cy="1828440"/>
          </a:xfrm>
        </p:grpSpPr>
        <p:grpSp>
          <p:nvGrpSpPr>
            <p:cNvPr id="448" name=""/>
            <p:cNvGrpSpPr/>
            <p:nvPr/>
          </p:nvGrpSpPr>
          <p:grpSpPr>
            <a:xfrm>
              <a:off x="304920" y="4648320"/>
              <a:ext cx="8610480" cy="337320"/>
              <a:chOff x="304920" y="4648320"/>
              <a:chExt cx="8610480" cy="337320"/>
            </a:xfrm>
          </p:grpSpPr>
          <p:sp>
            <p:nvSpPr>
              <p:cNvPr id="449" name=""/>
              <p:cNvSpPr/>
              <p:nvPr/>
            </p:nvSpPr>
            <p:spPr>
              <a:xfrm>
                <a:off x="304920" y="464832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ALT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057400" y="464832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EG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809880" y="464832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ALT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62720" y="464832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EG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315200" y="464832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..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>
              <a:off x="7984800" y="5073480"/>
              <a:ext cx="31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019160" y="5313240"/>
              <a:ext cx="152280" cy="152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95480" y="552132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38080" y="549432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24080" y="56181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942840" y="569448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6720" y="534672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080" y="5146560"/>
              <a:ext cx="152640" cy="152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990720" y="5084640"/>
              <a:ext cx="152280" cy="152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47760" y="516096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24080" y="538956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608200" y="5313240"/>
              <a:ext cx="15264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47960" y="550080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619360" y="5541840"/>
              <a:ext cx="15228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00240" y="5313240"/>
              <a:ext cx="15264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390760" y="5278320"/>
              <a:ext cx="15228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390760" y="546588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543040" y="5160960"/>
              <a:ext cx="15264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771640" y="5715000"/>
              <a:ext cx="15264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924280" y="51609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228840" y="5160960"/>
              <a:ext cx="15264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789280" y="5313240"/>
              <a:ext cx="15228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72000" y="5313240"/>
              <a:ext cx="152280" cy="152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648320" y="552132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390920" y="549432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876920" y="561816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95680" y="569448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19560" y="53467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809880" y="5146560"/>
              <a:ext cx="152640" cy="152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43560" y="5084640"/>
              <a:ext cx="152280" cy="152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00600" y="516096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876920" y="538956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161040" y="5313240"/>
              <a:ext cx="15228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400800" y="550080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172200" y="5541840"/>
              <a:ext cx="15228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553080" y="5313240"/>
              <a:ext cx="15264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943600" y="5278320"/>
              <a:ext cx="15228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43600" y="546588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095880" y="5160960"/>
              <a:ext cx="15264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324480" y="57150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7120" y="516096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81680" y="5160960"/>
              <a:ext cx="15264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42120" y="5313240"/>
              <a:ext cx="15228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7" name=""/>
            <p:cNvCxnSpPr>
              <a:stCxn id="458" idx="4"/>
              <a:endCxn id="473" idx="0"/>
            </p:cNvCxnSpPr>
            <p:nvPr/>
          </p:nvCxnSpPr>
          <p:spPr>
            <a:xfrm flipH="1" flipV="1" rot="5400000">
              <a:off x="1894320" y="4664880"/>
              <a:ext cx="610200" cy="1600920"/>
            </a:xfrm>
            <a:prstGeom prst="curvedConnector5">
              <a:avLst>
                <a:gd name="adj1" fmla="val -37485"/>
                <a:gd name="adj2" fmla="val 24988"/>
                <a:gd name="adj3" fmla="val -37485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98" name=""/>
            <p:cNvCxnSpPr>
              <a:stCxn id="473" idx="5"/>
              <a:endCxn id="481" idx="3"/>
            </p:cNvCxnSpPr>
            <p:nvPr/>
          </p:nvCxnSpPr>
          <p:spPr>
            <a:xfrm flipH="1" rot="16200000">
              <a:off x="3554280" y="4790160"/>
              <a:ext cx="186480" cy="1188360"/>
            </a:xfrm>
            <a:prstGeom prst="curvedConnector5">
              <a:avLst>
                <a:gd name="adj1" fmla="val 235009"/>
                <a:gd name="adj2" fmla="val 50000"/>
                <a:gd name="adj3" fmla="val 235009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99" name=""/>
            <p:cNvCxnSpPr>
              <a:stCxn id="481" idx="0"/>
              <a:endCxn id="493" idx="0"/>
            </p:cNvCxnSpPr>
            <p:nvPr/>
          </p:nvCxnSpPr>
          <p:spPr>
            <a:xfrm flipH="1" rot="16200000">
              <a:off x="5163840" y="4477320"/>
              <a:ext cx="369000" cy="2105640"/>
            </a:xfrm>
            <a:prstGeom prst="curvedConnector5">
              <a:avLst>
                <a:gd name="adj1" fmla="val -62011"/>
                <a:gd name="adj2" fmla="val 50000"/>
                <a:gd name="adj3" fmla="val -62011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00" name=""/>
            <p:cNvCxnSpPr>
              <a:stCxn id="493" idx="4"/>
              <a:endCxn id="454" idx="2"/>
            </p:cNvCxnSpPr>
            <p:nvPr/>
          </p:nvCxnSpPr>
          <p:spPr>
            <a:xfrm flipH="1" flipV="1" rot="5400000">
              <a:off x="7043400" y="4766760"/>
              <a:ext cx="457920" cy="1743840"/>
            </a:xfrm>
            <a:prstGeom prst="curvedConnector5">
              <a:avLst>
                <a:gd name="adj1" fmla="val -49960"/>
                <a:gd name="adj2" fmla="val 49989"/>
                <a:gd name="adj3" fmla="val -4996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5715000" y="5896080"/>
              <a:ext cx="327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Reducción contingente de complej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6095880" y="838080"/>
            <a:ext cx="2924280" cy="516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895480" y="159876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66"/>
                </a:solidFill>
                <a:latin typeface="Arial Narrow"/>
              </a:rPr>
              <a:t>No pueden coordinar selecciones porque no pueden seleccionar todas las posi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505320" y="274176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66"/>
                </a:solidFill>
                <a:latin typeface="Arial Narrow"/>
              </a:rPr>
              <a:t>Limita posibilidades (negación, silencio, engaño) pero no da mo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52440" y="5105520"/>
            <a:ext cx="8639280" cy="825480"/>
            <a:chOff x="352440" y="5105520"/>
            <a:chExt cx="8639280" cy="825480"/>
          </a:xfrm>
        </p:grpSpPr>
        <p:sp>
          <p:nvSpPr>
            <p:cNvPr id="506" name=""/>
            <p:cNvSpPr/>
            <p:nvPr/>
          </p:nvSpPr>
          <p:spPr>
            <a:xfrm>
              <a:off x="352440" y="5310360"/>
              <a:ext cx="220968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cff66"/>
                  </a:solidFill>
                  <a:latin typeface="Arial Narrow"/>
                </a:rPr>
                <a:t>Alternat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971800" y="5105520"/>
              <a:ext cx="6019920" cy="825480"/>
            </a:xfrm>
            <a:prstGeom prst="rect">
              <a:avLst/>
            </a:prstGeom>
            <a:solidFill>
              <a:srgbClr val="ffcc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Medios de comunicación simbólicamente generaliz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4038480" y="387036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66"/>
                </a:solidFill>
                <a:latin typeface="Arial Narrow"/>
              </a:rPr>
              <a:t>Obligan a pensar que la sociedad ya exist</a:t>
            </a:r>
            <a:r>
              <a:rPr b="1" lang="es-ES_tradnl" sz="2000" spc="-1" strike="noStrike">
                <a:solidFill>
                  <a:srgbClr val="ccff66"/>
                </a:solidFill>
                <a:latin typeface="Arial Narrow"/>
                <a:ea typeface="ＭＳ Ｐゴシック"/>
              </a:rPr>
              <a:t>ía</a:t>
            </a:r>
            <a:r>
              <a:rPr b="1" lang="es-ES_tradnl" sz="2000" spc="-1" strike="noStrike">
                <a:solidFill>
                  <a:srgbClr val="ccff66"/>
                </a:solidFill>
                <a:latin typeface="Arial Narrow"/>
              </a:rPr>
              <a:t> antes de exis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352440" y="838080"/>
            <a:ext cx="3381480" cy="3614040"/>
            <a:chOff x="352440" y="838080"/>
            <a:chExt cx="3381480" cy="3614040"/>
          </a:xfrm>
        </p:grpSpPr>
        <p:sp>
          <p:nvSpPr>
            <p:cNvPr id="510" name=""/>
            <p:cNvSpPr/>
            <p:nvPr/>
          </p:nvSpPr>
          <p:spPr>
            <a:xfrm>
              <a:off x="352440" y="838080"/>
              <a:ext cx="2209680" cy="398880"/>
            </a:xfrm>
            <a:prstGeom prst="rect">
              <a:avLst/>
            </a:prstGeom>
            <a:noFill/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ff66"/>
                  </a:solidFill>
                  <a:latin typeface="Arial Narrow"/>
                </a:rPr>
                <a:t>Limitacione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2440" y="1706400"/>
              <a:ext cx="220968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cff66"/>
                  </a:solidFill>
                  <a:latin typeface="Arial Narrow"/>
                </a:rPr>
                <a:t>Suje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990720" y="2849400"/>
              <a:ext cx="220968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cff66"/>
                  </a:solidFill>
                  <a:latin typeface="Arial Narrow"/>
                </a:rPr>
                <a:t>Lenguaj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523880" y="3992400"/>
              <a:ext cx="221004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cff66"/>
                  </a:solidFill>
                  <a:latin typeface="Arial Narrow"/>
                </a:rPr>
                <a:t>Norm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>
            <a:hlinkClick r:id="" action="ppaction://hlinkshowjump?jump=nextslide"/>
          </p:cNvPr>
          <p:cNvSpPr/>
          <p:nvPr/>
        </p:nvSpPr>
        <p:spPr>
          <a:xfrm>
            <a:off x="8458200" y="4648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14312" y="10800"/>
                </a:moveTo>
                <a:lnTo>
                  <a:pt x="3806" y="17806"/>
                </a:lnTo>
                <a:lnTo>
                  <a:pt x="3806" y="3794"/>
                </a:lnTo>
                <a:close/>
              </a:path>
              <a:path fill="darken" w="21626" h="21600">
                <a:moveTo>
                  <a:pt x="16157" y="3794"/>
                </a:moveTo>
                <a:lnTo>
                  <a:pt x="16157" y="17806"/>
                </a:lnTo>
                <a:lnTo>
                  <a:pt x="17819" y="17806"/>
                </a:lnTo>
                <a:lnTo>
                  <a:pt x="17819" y="379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>
            <a:hlinkClick r:id="rId1" action="ppaction://hlinksldjump"/>
          </p:cNvPr>
          <p:cNvSpPr/>
          <p:nvPr/>
        </p:nvSpPr>
        <p:spPr>
          <a:xfrm>
            <a:off x="8458200" y="61722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6095880" y="838080"/>
            <a:ext cx="2924280" cy="516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0" y="0"/>
            <a:ext cx="3657600" cy="762120"/>
            <a:chOff x="0" y="0"/>
            <a:chExt cx="3657600" cy="762120"/>
          </a:xfrm>
        </p:grpSpPr>
        <p:sp>
          <p:nvSpPr>
            <p:cNvPr id="518" name=""/>
            <p:cNvSpPr/>
            <p:nvPr/>
          </p:nvSpPr>
          <p:spPr>
            <a:xfrm>
              <a:off x="0" y="0"/>
              <a:ext cx="3657600" cy="762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2480" y="76320"/>
              <a:ext cx="3221280" cy="52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ccff66"/>
                  </a:solidFill>
                  <a:latin typeface="Arial Narrow"/>
                </a:rPr>
                <a:t>Cadenas de selec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304920" y="1219320"/>
            <a:ext cx="8610480" cy="1447200"/>
            <a:chOff x="304920" y="1219320"/>
            <a:chExt cx="8610480" cy="1447200"/>
          </a:xfrm>
        </p:grpSpPr>
        <p:sp>
          <p:nvSpPr>
            <p:cNvPr id="521" name=""/>
            <p:cNvSpPr/>
            <p:nvPr/>
          </p:nvSpPr>
          <p:spPr>
            <a:xfrm>
              <a:off x="304920" y="1219320"/>
              <a:ext cx="1600200" cy="337320"/>
            </a:xfrm>
            <a:prstGeom prst="rect">
              <a:avLst/>
            </a:prstGeom>
            <a:noFill/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AL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057400" y="1219320"/>
              <a:ext cx="1600200" cy="337320"/>
            </a:xfrm>
            <a:prstGeom prst="rect">
              <a:avLst/>
            </a:prstGeom>
            <a:noFill/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E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609480" y="1905120"/>
              <a:ext cx="990720" cy="668160"/>
              <a:chOff x="609480" y="1905120"/>
              <a:chExt cx="990720" cy="668160"/>
            </a:xfrm>
          </p:grpSpPr>
          <p:sp>
            <p:nvSpPr>
              <p:cNvPr id="524" name=""/>
              <p:cNvSpPr/>
              <p:nvPr/>
            </p:nvSpPr>
            <p:spPr>
              <a:xfrm>
                <a:off x="914400" y="20574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066680" y="2209680"/>
                <a:ext cx="152280" cy="1526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38080" y="228600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218960" y="2057400"/>
                <a:ext cx="15264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09480" y="202248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09480" y="2209680"/>
                <a:ext cx="152280" cy="1526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61760" y="1905120"/>
                <a:ext cx="15264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990360" y="2421000"/>
                <a:ext cx="15264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143000" y="190512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447560" y="1905120"/>
                <a:ext cx="15264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2286000" y="1905120"/>
              <a:ext cx="990360" cy="668160"/>
              <a:chOff x="2286000" y="1905120"/>
              <a:chExt cx="990360" cy="668160"/>
            </a:xfrm>
          </p:grpSpPr>
          <p:sp>
            <p:nvSpPr>
              <p:cNvPr id="535" name=""/>
              <p:cNvSpPr/>
              <p:nvPr/>
            </p:nvSpPr>
            <p:spPr>
              <a:xfrm>
                <a:off x="2503440" y="205740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743200" y="2244600"/>
                <a:ext cx="152280" cy="1526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514600" y="22860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895480" y="205740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286000" y="202248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286000" y="2209680"/>
                <a:ext cx="152280" cy="1526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438280" y="190512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666880" y="242100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819160" y="1905120"/>
                <a:ext cx="15264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124080" y="190512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684520" y="205740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3809880" y="1219320"/>
              <a:ext cx="1600200" cy="337320"/>
            </a:xfrm>
            <a:prstGeom prst="rect">
              <a:avLst/>
            </a:prstGeom>
            <a:noFill/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AL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62720" y="1219320"/>
              <a:ext cx="1600200" cy="337320"/>
            </a:xfrm>
            <a:prstGeom prst="rect">
              <a:avLst/>
            </a:prstGeom>
            <a:noFill/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E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4114800" y="1905120"/>
              <a:ext cx="990360" cy="668160"/>
              <a:chOff x="4114800" y="1905120"/>
              <a:chExt cx="990360" cy="668160"/>
            </a:xfrm>
          </p:grpSpPr>
          <p:sp>
            <p:nvSpPr>
              <p:cNvPr id="549" name=""/>
              <p:cNvSpPr/>
              <p:nvPr/>
            </p:nvSpPr>
            <p:spPr>
              <a:xfrm>
                <a:off x="4419360" y="2057400"/>
                <a:ext cx="15264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572000" y="2209680"/>
                <a:ext cx="152280" cy="1526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343400" y="228600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724280" y="205740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114800" y="202248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114800" y="2209680"/>
                <a:ext cx="152280" cy="1526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267080" y="190512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495680" y="242100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647960" y="190512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952880" y="190512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5791320" y="1905120"/>
              <a:ext cx="990000" cy="668160"/>
              <a:chOff x="5791320" y="1905120"/>
              <a:chExt cx="990000" cy="668160"/>
            </a:xfrm>
          </p:grpSpPr>
          <p:sp>
            <p:nvSpPr>
              <p:cNvPr id="560" name=""/>
              <p:cNvSpPr/>
              <p:nvPr/>
            </p:nvSpPr>
            <p:spPr>
              <a:xfrm>
                <a:off x="6008400" y="205740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248160" y="2244600"/>
                <a:ext cx="152280" cy="1526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19560" y="228600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400800" y="2057400"/>
                <a:ext cx="15192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791320" y="202248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791320" y="22096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943600" y="1905120"/>
                <a:ext cx="15192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172200" y="2421000"/>
                <a:ext cx="15192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324480" y="1905120"/>
                <a:ext cx="15192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629400" y="1905120"/>
                <a:ext cx="15192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189480" y="205740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71" name=""/>
            <p:cNvCxnSpPr>
              <a:stCxn id="524" idx="7"/>
              <a:endCxn id="537" idx="3"/>
            </p:cNvCxnSpPr>
            <p:nvPr/>
          </p:nvCxnSpPr>
          <p:spPr>
            <a:xfrm flipH="1" rot="16200000">
              <a:off x="1622160" y="1500840"/>
              <a:ext cx="337320" cy="1492920"/>
            </a:xfrm>
            <a:prstGeom prst="curvedConnector5">
              <a:avLst>
                <a:gd name="adj1" fmla="val -74465"/>
                <a:gd name="adj2" fmla="val 24987"/>
                <a:gd name="adj3" fmla="val -74465"/>
              </a:avLst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  <p:cxnSp>
          <p:nvCxnSpPr>
            <p:cNvPr id="572" name=""/>
            <p:cNvCxnSpPr>
              <a:stCxn id="537" idx="1"/>
              <a:endCxn id="557" idx="1"/>
            </p:cNvCxnSpPr>
            <p:nvPr/>
          </p:nvCxnSpPr>
          <p:spPr>
            <a:xfrm flipH="1" flipV="1" rot="5400000">
              <a:off x="3412800" y="1050480"/>
              <a:ext cx="381960" cy="2134080"/>
            </a:xfrm>
            <a:prstGeom prst="curvedConnector5">
              <a:avLst>
                <a:gd name="adj1" fmla="val 165754"/>
                <a:gd name="adj2" fmla="val 49991"/>
                <a:gd name="adj3" fmla="val 165754"/>
              </a:avLst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  <p:cxnSp>
          <p:nvCxnSpPr>
            <p:cNvPr id="573" name=""/>
            <p:cNvCxnSpPr>
              <a:stCxn id="557" idx="3"/>
              <a:endCxn id="565" idx="5"/>
            </p:cNvCxnSpPr>
            <p:nvPr/>
          </p:nvCxnSpPr>
          <p:spPr>
            <a:xfrm flipH="1" rot="16200000">
              <a:off x="5142240" y="1561680"/>
              <a:ext cx="305640" cy="1251720"/>
            </a:xfrm>
            <a:prstGeom prst="curvedConnector5">
              <a:avLst>
                <a:gd name="adj1" fmla="val 182193"/>
                <a:gd name="adj2" fmla="val 50000"/>
                <a:gd name="adj3" fmla="val 182193"/>
              </a:avLst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  <p:sp>
          <p:nvSpPr>
            <p:cNvPr id="574" name=""/>
            <p:cNvSpPr/>
            <p:nvPr/>
          </p:nvSpPr>
          <p:spPr>
            <a:xfrm>
              <a:off x="7932240" y="1905120"/>
              <a:ext cx="317880" cy="337320"/>
            </a:xfrm>
            <a:prstGeom prst="rect">
              <a:avLst/>
            </a:prstGeom>
            <a:noFill/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5" name=""/>
            <p:cNvCxnSpPr>
              <a:stCxn id="565" idx="7"/>
              <a:endCxn id="574" idx="0"/>
            </p:cNvCxnSpPr>
            <p:nvPr/>
          </p:nvCxnSpPr>
          <p:spPr>
            <a:xfrm flipH="1" flipV="1" rot="5400000">
              <a:off x="6840000" y="985320"/>
              <a:ext cx="327600" cy="2166120"/>
            </a:xfrm>
            <a:prstGeom prst="curvedConnector5">
              <a:avLst>
                <a:gd name="adj1" fmla="val 169856"/>
                <a:gd name="adj2" fmla="val 50000"/>
                <a:gd name="adj3" fmla="val 169856"/>
              </a:avLst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  <p:sp>
          <p:nvSpPr>
            <p:cNvPr id="576" name=""/>
            <p:cNvSpPr/>
            <p:nvPr/>
          </p:nvSpPr>
          <p:spPr>
            <a:xfrm>
              <a:off x="7315200" y="1219320"/>
              <a:ext cx="1600200" cy="337320"/>
            </a:xfrm>
            <a:prstGeom prst="rect">
              <a:avLst/>
            </a:prstGeom>
            <a:noFill/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459720" y="3159000"/>
            <a:ext cx="5367240" cy="42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ccff66"/>
                </a:solidFill>
                <a:latin typeface="Arial Narrow"/>
              </a:rPr>
              <a:t>Teoría tradicional </a:t>
            </a:r>
            <a:r>
              <a:rPr b="1" lang="es-ES_tradnl" sz="22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1" lang="es-ES_tradnl" sz="2200" spc="-1" strike="noStrike">
                <a:solidFill>
                  <a:srgbClr val="ccff66"/>
                </a:solidFill>
                <a:latin typeface="Arial Narrow"/>
              </a:rPr>
              <a:t> Normas son obligatorias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457920" y="3809880"/>
            <a:ext cx="7334280" cy="398880"/>
            <a:chOff x="457920" y="3809880"/>
            <a:chExt cx="7334280" cy="398880"/>
          </a:xfrm>
        </p:grpSpPr>
        <p:sp>
          <p:nvSpPr>
            <p:cNvPr id="579" name=""/>
            <p:cNvSpPr/>
            <p:nvPr/>
          </p:nvSpPr>
          <p:spPr>
            <a:xfrm>
              <a:off x="457920" y="3809880"/>
              <a:ext cx="16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ff66"/>
                  </a:solidFill>
                  <a:latin typeface="Arial Narrow"/>
                </a:rPr>
                <a:t>Por naturalez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53040" y="3809880"/>
              <a:ext cx="156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ff66"/>
                  </a:solidFill>
                  <a:latin typeface="Arial Narrow"/>
                </a:rPr>
                <a:t>Por consens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06400" y="3809880"/>
              <a:ext cx="15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ff66"/>
                  </a:solidFill>
                  <a:latin typeface="Arial Narrow"/>
                </a:rPr>
                <a:t>Por tautolog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457200" y="419904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Todos deben pensar ig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porque piensan igual </a:t>
            </a:r>
            <a:r>
              <a:rPr b="0" lang="es-ES_tradnl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 eliminación de contingencia de sel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317760" y="41911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Todos deben pensar ig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porque las normas se institucionalizan y se internaliz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172200" y="419112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“</a:t>
            </a: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Una norma es una regla más o menos clara que expresa los aspectos del deber de las relaciones entre seres humanos” (Bohannan 19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63920" y="5562720"/>
            <a:ext cx="5063760" cy="1008720"/>
          </a:xfrm>
          <a:prstGeom prst="rect">
            <a:avLst/>
          </a:prstGeom>
          <a:solidFill>
            <a:srgbClr val="99cc00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Ontología de la norma / paradoj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obligatoriedad no obligatoria / se de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presuponer la sociedad para explicar la socie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>
            <a:hlinkClick r:id="" action="ppaction://hlinkshowjump?jump=previousslide"/>
          </p:cNvPr>
          <p:cNvSpPr/>
          <p:nvPr/>
        </p:nvSpPr>
        <p:spPr>
          <a:xfrm>
            <a:off x="8610480" y="62485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7311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5466" y="3794"/>
                </a:lnTo>
                <a:lnTo>
                  <a:pt x="5466" y="17806"/>
                </a:lnTo>
                <a:lnTo>
                  <a:pt x="3804" y="17806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"/>
          <p:cNvGrpSpPr/>
          <p:nvPr/>
        </p:nvGrpSpPr>
        <p:grpSpPr>
          <a:xfrm>
            <a:off x="351000" y="1025640"/>
            <a:ext cx="8791560" cy="642600"/>
            <a:chOff x="351000" y="1025640"/>
            <a:chExt cx="8791560" cy="642600"/>
          </a:xfrm>
        </p:grpSpPr>
        <p:sp>
          <p:nvSpPr>
            <p:cNvPr id="588" name=""/>
            <p:cNvSpPr/>
            <p:nvPr/>
          </p:nvSpPr>
          <p:spPr>
            <a:xfrm>
              <a:off x="351000" y="1025640"/>
              <a:ext cx="7269120" cy="64260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Constelación significativa de selectividad coordinada que otorga ‘entendimientos comunes’, expectativas complementarias y temas determin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846920" y="116208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ff66"/>
                  </a:solidFill>
                  <a:latin typeface="Arial Narrow"/>
                </a:rPr>
                <a:t>Defini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351000" y="1987560"/>
            <a:ext cx="8793000" cy="642600"/>
            <a:chOff x="351000" y="1987560"/>
            <a:chExt cx="8793000" cy="642600"/>
          </a:xfrm>
        </p:grpSpPr>
        <p:sp>
          <p:nvSpPr>
            <p:cNvPr id="591" name=""/>
            <p:cNvSpPr/>
            <p:nvPr/>
          </p:nvSpPr>
          <p:spPr>
            <a:xfrm>
              <a:off x="7848720" y="21178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ff66"/>
                  </a:solidFill>
                  <a:latin typeface="Arial Narrow"/>
                </a:rPr>
                <a:t>Mode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51000" y="1987560"/>
              <a:ext cx="7269120" cy="64260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Utilizan la codificaci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  <a:ea typeface="ＭＳ Ｐゴシック"/>
                </a:rPr>
                <a:t>ón SI / NO del lenguaje y requieren de generalización de escritura e impres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2616120" y="2971800"/>
            <a:ext cx="3861000" cy="416520"/>
            <a:chOff x="2616120" y="2971800"/>
            <a:chExt cx="3861000" cy="416520"/>
          </a:xfrm>
        </p:grpSpPr>
        <p:sp>
          <p:nvSpPr>
            <p:cNvPr id="594" name=""/>
            <p:cNvSpPr/>
            <p:nvPr/>
          </p:nvSpPr>
          <p:spPr>
            <a:xfrm>
              <a:off x="2616120" y="3002040"/>
              <a:ext cx="1930320" cy="380880"/>
            </a:xfrm>
            <a:prstGeom prst="rect">
              <a:avLst/>
            </a:prstGeom>
            <a:solidFill>
              <a:srgbClr val="99cc00"/>
            </a:solidFill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719800" y="2989440"/>
              <a:ext cx="156132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 Narrow"/>
                </a:rPr>
                <a:t>Valor positiv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546440" y="3002040"/>
              <a:ext cx="1930680" cy="380880"/>
            </a:xfrm>
            <a:prstGeom prst="rect">
              <a:avLst/>
            </a:prstGeom>
            <a:noFill/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826160" y="297180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ccff66"/>
                  </a:solidFill>
                  <a:latin typeface="Arial Narrow"/>
                </a:rPr>
                <a:t>Valor negativ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304920" y="3505320"/>
            <a:ext cx="8762760" cy="2848320"/>
            <a:chOff x="304920" y="3505320"/>
            <a:chExt cx="8762760" cy="2848320"/>
          </a:xfrm>
        </p:grpSpPr>
        <p:grpSp>
          <p:nvGrpSpPr>
            <p:cNvPr id="599" name=""/>
            <p:cNvGrpSpPr/>
            <p:nvPr/>
          </p:nvGrpSpPr>
          <p:grpSpPr>
            <a:xfrm>
              <a:off x="1219320" y="3505320"/>
              <a:ext cx="6705360" cy="836640"/>
              <a:chOff x="1219320" y="3505320"/>
              <a:chExt cx="6705360" cy="836640"/>
            </a:xfrm>
          </p:grpSpPr>
          <p:sp>
            <p:nvSpPr>
              <p:cNvPr id="600" name=""/>
              <p:cNvSpPr/>
              <p:nvPr/>
            </p:nvSpPr>
            <p:spPr>
              <a:xfrm>
                <a:off x="1219320" y="3517920"/>
                <a:ext cx="30477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Motivación a la aceptación de un elemento que probabiliza una cadena de selección en relación al medi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876920" y="3505320"/>
                <a:ext cx="30477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Motivación al rechazo de elementos que probabilizan otras cadenas de selección en relación al medi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304920" y="4486320"/>
              <a:ext cx="8762760" cy="1221120"/>
              <a:chOff x="304920" y="4486320"/>
              <a:chExt cx="8762760" cy="122112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304920" y="4486320"/>
                <a:ext cx="4266720" cy="1221120"/>
                <a:chOff x="304920" y="4486320"/>
                <a:chExt cx="4266720" cy="122112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380880" y="5400360"/>
                  <a:ext cx="3200400" cy="307080"/>
                </a:xfrm>
                <a:prstGeom prst="rect">
                  <a:avLst/>
                </a:prstGeom>
                <a:noFill/>
                <a:ln w="9360">
                  <a:solidFill>
                    <a:srgbClr val="8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ccff66"/>
                      </a:solidFill>
                      <a:latin typeface="Arial Narrow"/>
                    </a:rPr>
                    <a:t>Complejidad reducid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05" name=""/>
                <p:cNvCxnSpPr>
                  <a:stCxn id="606" idx="7"/>
                  <a:endCxn id="607" idx="3"/>
                </p:cNvCxnSpPr>
                <p:nvPr/>
              </p:nvCxnSpPr>
              <p:spPr>
                <a:xfrm flipH="1" rot="16200000">
                  <a:off x="957960" y="4626360"/>
                  <a:ext cx="167040" cy="740520"/>
                </a:xfrm>
                <a:prstGeom prst="curvedConnector5">
                  <a:avLst>
                    <a:gd name="adj1" fmla="val -74514"/>
                    <a:gd name="adj2" fmla="val 25000"/>
                    <a:gd name="adj3" fmla="val -74514"/>
                  </a:avLst>
                </a:prstGeom>
                <a:ln w="9360">
                  <a:solidFill>
                    <a:srgbClr val="80ff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08" name=""/>
                <p:cNvCxnSpPr>
                  <a:stCxn id="607" idx="1"/>
                  <a:endCxn id="609" idx="1"/>
                </p:cNvCxnSpPr>
                <p:nvPr/>
              </p:nvCxnSpPr>
              <p:spPr>
                <a:xfrm flipH="1" flipV="1" rot="5400000">
                  <a:off x="1845000" y="4402080"/>
                  <a:ext cx="189360" cy="1058040"/>
                </a:xfrm>
                <a:prstGeom prst="curvedConnector5">
                  <a:avLst>
                    <a:gd name="adj1" fmla="val 165714"/>
                    <a:gd name="adj2" fmla="val 50000"/>
                    <a:gd name="adj3" fmla="val 165714"/>
                  </a:avLst>
                </a:prstGeom>
                <a:ln w="9360">
                  <a:solidFill>
                    <a:srgbClr val="80ff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10" name=""/>
                <p:cNvCxnSpPr>
                  <a:stCxn id="609" idx="3"/>
                  <a:endCxn id="611" idx="5"/>
                </p:cNvCxnSpPr>
                <p:nvPr/>
              </p:nvCxnSpPr>
              <p:spPr>
                <a:xfrm flipH="1" rot="16200000">
                  <a:off x="2702880" y="4656240"/>
                  <a:ext cx="151200" cy="619920"/>
                </a:xfrm>
                <a:prstGeom prst="curvedConnector5">
                  <a:avLst>
                    <a:gd name="adj1" fmla="val 182100"/>
                    <a:gd name="adj2" fmla="val 49970"/>
                    <a:gd name="adj3" fmla="val 182100"/>
                  </a:avLst>
                </a:prstGeom>
                <a:ln w="9360">
                  <a:solidFill>
                    <a:srgbClr val="80ff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612" name=""/>
                <p:cNvGrpSpPr/>
                <p:nvPr/>
              </p:nvGrpSpPr>
              <p:grpSpPr>
                <a:xfrm>
                  <a:off x="455760" y="4825800"/>
                  <a:ext cx="3936600" cy="337320"/>
                  <a:chOff x="455760" y="4825800"/>
                  <a:chExt cx="3936600" cy="33732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>
                    <a:off x="606600" y="4901400"/>
                    <a:ext cx="75240" cy="752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682200" y="497700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568800" y="501480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757800" y="49014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455760" y="488412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455760" y="497700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531360" y="4825800"/>
                    <a:ext cx="7524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644400" y="5081400"/>
                    <a:ext cx="7524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720000" y="4825800"/>
                    <a:ext cx="7524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871200" y="4825800"/>
                    <a:ext cx="7524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1394280" y="49014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1513080" y="499428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1399680" y="5014800"/>
                    <a:ext cx="75240" cy="752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1588680" y="490140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1286640" y="488412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1286640" y="49770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1361880" y="4825800"/>
                    <a:ext cx="7560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1475280" y="5081400"/>
                    <a:ext cx="7560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1550880" y="4825800"/>
                    <a:ext cx="7524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1701720" y="4825800"/>
                    <a:ext cx="7560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1483920" y="49014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2343960" y="49014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2419560" y="49770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2306160" y="50148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2494800" y="490140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2192760" y="488412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2192760" y="49770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2268360" y="4825800"/>
                    <a:ext cx="7560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2381760" y="5081400"/>
                    <a:ext cx="7560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2457360" y="4825800"/>
                    <a:ext cx="75240" cy="75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2608200" y="4825800"/>
                    <a:ext cx="7560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3131640" y="49014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3250440" y="499428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3137040" y="50148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3325680" y="49014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3023640" y="488412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3023640" y="4977000"/>
                    <a:ext cx="75240" cy="752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3099240" y="4825800"/>
                    <a:ext cx="7524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3212640" y="5081400"/>
                    <a:ext cx="7524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3287880" y="4825800"/>
                    <a:ext cx="7560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3439080" y="4825800"/>
                    <a:ext cx="7524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3221280" y="49014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4074480" y="4825800"/>
                    <a:ext cx="31788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...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652" name=""/>
                <p:cNvCxnSpPr>
                  <a:stCxn id="611" idx="7"/>
                  <a:endCxn id="651" idx="0"/>
                </p:cNvCxnSpPr>
                <p:nvPr/>
              </p:nvCxnSpPr>
              <p:spPr>
                <a:xfrm flipH="1" flipV="1" rot="5400000">
                  <a:off x="3542760" y="4369680"/>
                  <a:ext cx="162360" cy="1073520"/>
                </a:xfrm>
                <a:prstGeom prst="curvedConnector5">
                  <a:avLst>
                    <a:gd name="adj1" fmla="val 169777"/>
                    <a:gd name="adj2" fmla="val 49983"/>
                    <a:gd name="adj3" fmla="val 169777"/>
                  </a:avLst>
                </a:prstGeom>
                <a:ln w="9360">
                  <a:solidFill>
                    <a:srgbClr val="80ff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653" name=""/>
                <p:cNvGrpSpPr/>
                <p:nvPr/>
              </p:nvGrpSpPr>
              <p:grpSpPr>
                <a:xfrm>
                  <a:off x="304920" y="4486320"/>
                  <a:ext cx="4266720" cy="337320"/>
                  <a:chOff x="304920" y="4486320"/>
                  <a:chExt cx="4266720" cy="337320"/>
                </a:xfrm>
              </p:grpSpPr>
              <p:sp>
                <p:nvSpPr>
                  <p:cNvPr id="654" name=""/>
                  <p:cNvSpPr/>
                  <p:nvPr/>
                </p:nvSpPr>
                <p:spPr>
                  <a:xfrm>
                    <a:off x="304920" y="4486320"/>
                    <a:ext cx="79344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ALTE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1173240" y="4486320"/>
                    <a:ext cx="79344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EG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2041920" y="4486320"/>
                    <a:ext cx="79272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ALTE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2909520" y="4486320"/>
                    <a:ext cx="79380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EG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3778200" y="4486320"/>
                    <a:ext cx="79344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...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9" name=""/>
              <p:cNvGrpSpPr/>
              <p:nvPr/>
            </p:nvGrpSpPr>
            <p:grpSpPr>
              <a:xfrm>
                <a:off x="4800600" y="4486320"/>
                <a:ext cx="4267080" cy="1211760"/>
                <a:chOff x="4800600" y="4486320"/>
                <a:chExt cx="4267080" cy="1211760"/>
              </a:xfrm>
            </p:grpSpPr>
            <p:grpSp>
              <p:nvGrpSpPr>
                <p:cNvPr id="660" name=""/>
                <p:cNvGrpSpPr/>
                <p:nvPr/>
              </p:nvGrpSpPr>
              <p:grpSpPr>
                <a:xfrm>
                  <a:off x="4800600" y="4486320"/>
                  <a:ext cx="4266720" cy="337320"/>
                  <a:chOff x="4800600" y="4486320"/>
                  <a:chExt cx="4266720" cy="337320"/>
                </a:xfrm>
              </p:grpSpPr>
              <p:sp>
                <p:nvSpPr>
                  <p:cNvPr id="661" name=""/>
                  <p:cNvSpPr/>
                  <p:nvPr/>
                </p:nvSpPr>
                <p:spPr>
                  <a:xfrm>
                    <a:off x="4800600" y="4486320"/>
                    <a:ext cx="79344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ALTE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5668920" y="4486320"/>
                    <a:ext cx="79344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EG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6537600" y="4486320"/>
                    <a:ext cx="79272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ALTE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7405200" y="4486320"/>
                    <a:ext cx="79380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EG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8273880" y="4486320"/>
                    <a:ext cx="79344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...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666" name=""/>
                <p:cNvCxnSpPr>
                  <a:stCxn id="667" idx="7"/>
                  <a:endCxn id="668" idx="1"/>
                </p:cNvCxnSpPr>
                <p:nvPr/>
              </p:nvCxnSpPr>
              <p:spPr>
                <a:xfrm flipH="1" flipV="1" rot="5400000">
                  <a:off x="5503680" y="4537440"/>
                  <a:ext cx="255960" cy="853560"/>
                </a:xfrm>
                <a:prstGeom prst="curvedConnector5">
                  <a:avLst>
                    <a:gd name="adj1" fmla="val 193661"/>
                    <a:gd name="adj2" fmla="val 50000"/>
                    <a:gd name="adj3" fmla="val 193661"/>
                  </a:avLst>
                </a:prstGeom>
                <a:ln w="9360">
                  <a:solidFill>
                    <a:srgbClr val="80ff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69" name=""/>
                <p:cNvCxnSpPr>
                  <a:stCxn id="668" idx="7"/>
                  <a:endCxn id="670" idx="3"/>
                </p:cNvCxnSpPr>
                <p:nvPr/>
              </p:nvCxnSpPr>
              <p:spPr>
                <a:xfrm flipH="1" rot="16200000">
                  <a:off x="6302520" y="4644360"/>
                  <a:ext cx="205200" cy="589680"/>
                </a:xfrm>
                <a:prstGeom prst="curvedConnector5">
                  <a:avLst>
                    <a:gd name="adj1" fmla="val -117047"/>
                    <a:gd name="adj2" fmla="val 24923"/>
                    <a:gd name="adj3" fmla="val -117047"/>
                  </a:avLst>
                </a:prstGeom>
                <a:ln w="9360">
                  <a:solidFill>
                    <a:srgbClr val="80ff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71" name=""/>
                <p:cNvCxnSpPr>
                  <a:stCxn id="670" idx="0"/>
                  <a:endCxn id="672" idx="5"/>
                </p:cNvCxnSpPr>
                <p:nvPr/>
              </p:nvCxnSpPr>
              <p:spPr>
                <a:xfrm flipH="1" flipV="1" rot="5400000">
                  <a:off x="7301160" y="4391640"/>
                  <a:ext cx="11160" cy="1161360"/>
                </a:xfrm>
                <a:prstGeom prst="curvedConnector5">
                  <a:avLst>
                    <a:gd name="adj1" fmla="val 2056666"/>
                    <a:gd name="adj2" fmla="val 24403"/>
                    <a:gd name="adj3" fmla="val 2056666"/>
                  </a:avLst>
                </a:prstGeom>
                <a:ln w="9360">
                  <a:solidFill>
                    <a:srgbClr val="80ff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673" name=""/>
                <p:cNvGrpSpPr/>
                <p:nvPr/>
              </p:nvGrpSpPr>
              <p:grpSpPr>
                <a:xfrm>
                  <a:off x="4951440" y="4825800"/>
                  <a:ext cx="3936600" cy="337320"/>
                  <a:chOff x="4951440" y="4825800"/>
                  <a:chExt cx="3936600" cy="337320"/>
                </a:xfrm>
              </p:grpSpPr>
              <p:sp>
                <p:nvSpPr>
                  <p:cNvPr id="674" name=""/>
                  <p:cNvSpPr/>
                  <p:nvPr/>
                </p:nvSpPr>
                <p:spPr>
                  <a:xfrm>
                    <a:off x="5102280" y="49017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5177880" y="49773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5064480" y="50151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5253480" y="49017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4951440" y="488448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4951440" y="49773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5027040" y="48261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5140080" y="5081760"/>
                    <a:ext cx="75240" cy="752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5215680" y="48261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5366880" y="48261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5889960" y="49017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6008760" y="499464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5895360" y="50151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6084360" y="49017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5782320" y="488448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5782320" y="49773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5857560" y="48261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5970960" y="50817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6046560" y="4826160"/>
                    <a:ext cx="75240" cy="752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197400" y="48261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5979600" y="49017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6839640" y="49017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6915240" y="49773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6801840" y="50151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6990480" y="49017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6688440" y="488448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6688440" y="4977360"/>
                    <a:ext cx="75240" cy="752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6764040" y="48261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6877440" y="50817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6953040" y="48261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7103880" y="48261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7627320" y="49017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7746120" y="499464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7632720" y="50151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7821360" y="4901760"/>
                    <a:ext cx="75240" cy="752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7519320" y="488448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7519320" y="49773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7594920" y="48261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7708320" y="50817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7783560" y="48261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7934760" y="48261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7716960" y="49017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8570160" y="4825800"/>
                    <a:ext cx="31788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...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713" name=""/>
                <p:cNvCxnSpPr>
                  <a:stCxn id="672" idx="5"/>
                  <a:endCxn id="712" idx="0"/>
                </p:cNvCxnSpPr>
                <p:nvPr/>
              </p:nvCxnSpPr>
              <p:spPr>
                <a:xfrm flipH="1" flipV="1" rot="5400000">
                  <a:off x="8235000" y="4476960"/>
                  <a:ext cx="141840" cy="838800"/>
                </a:xfrm>
                <a:prstGeom prst="curvedConnector5">
                  <a:avLst>
                    <a:gd name="adj1" fmla="val -169465"/>
                    <a:gd name="adj2" fmla="val 20523"/>
                    <a:gd name="adj3" fmla="val -169465"/>
                  </a:avLst>
                </a:prstGeom>
                <a:ln w="9360">
                  <a:solidFill>
                    <a:srgbClr val="80ff00"/>
                  </a:solidFill>
                  <a:miter/>
                  <a:tailEnd len="med" type="triangle" w="med"/>
                </a:ln>
              </p:spPr>
            </p:cxnSp>
            <p:sp>
              <p:nvSpPr>
                <p:cNvPr id="714" name=""/>
                <p:cNvSpPr/>
                <p:nvPr/>
              </p:nvSpPr>
              <p:spPr>
                <a:xfrm>
                  <a:off x="5791320" y="5391000"/>
                  <a:ext cx="3276360" cy="307080"/>
                </a:xfrm>
                <a:prstGeom prst="rect">
                  <a:avLst/>
                </a:prstGeom>
                <a:noFill/>
                <a:ln w="9360">
                  <a:solidFill>
                    <a:srgbClr val="8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ccff66"/>
                      </a:solidFill>
                      <a:latin typeface="Arial Narrow"/>
                    </a:rPr>
                    <a:t>Reducción contingente de complejida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5" name=""/>
            <p:cNvGrpSpPr/>
            <p:nvPr/>
          </p:nvGrpSpPr>
          <p:grpSpPr>
            <a:xfrm>
              <a:off x="4078440" y="5748840"/>
              <a:ext cx="1330920" cy="604800"/>
              <a:chOff x="4078440" y="5748840"/>
              <a:chExt cx="1330920" cy="604800"/>
            </a:xfrm>
          </p:grpSpPr>
          <p:cxnSp>
            <p:nvCxnSpPr>
              <p:cNvPr id="716" name=""/>
              <p:cNvCxnSpPr/>
              <p:nvPr/>
            </p:nvCxnSpPr>
            <p:spPr>
              <a:xfrm flipH="1" rot="16200000">
                <a:off x="4078440" y="6094080"/>
                <a:ext cx="2160" cy="2160"/>
              </a:xfrm>
              <a:prstGeom prst="curvedConnector5">
                <a:avLst>
                  <a:gd name="adj1" fmla="val 14400000"/>
                  <a:gd name="adj2" fmla="val 16240000"/>
                  <a:gd name="adj3" fmla="val 14400000"/>
                </a:avLst>
              </a:prstGeom>
              <a:ln w="76320">
                <a:solidFill>
                  <a:srgbClr val="80ff00"/>
                </a:solidFill>
                <a:miter/>
                <a:tailEnd len="med" type="triangle" w="med"/>
              </a:ln>
            </p:spPr>
          </p:cxnSp>
          <p:sp>
            <p:nvSpPr>
              <p:cNvPr id="717" name=""/>
              <p:cNvSpPr/>
              <p:nvPr/>
            </p:nvSpPr>
            <p:spPr>
              <a:xfrm flipH="1">
                <a:off x="4571640" y="6059520"/>
                <a:ext cx="837720" cy="0"/>
              </a:xfrm>
              <a:prstGeom prst="line">
                <a:avLst/>
              </a:prstGeom>
              <a:ln w="76320">
                <a:solidFill>
                  <a:srgbClr val="8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"/>
          <p:cNvGrpSpPr/>
          <p:nvPr/>
        </p:nvGrpSpPr>
        <p:grpSpPr>
          <a:xfrm>
            <a:off x="351000" y="685800"/>
            <a:ext cx="8107200" cy="5334120"/>
            <a:chOff x="351000" y="685800"/>
            <a:chExt cx="8107200" cy="5334120"/>
          </a:xfrm>
        </p:grpSpPr>
        <p:grpSp>
          <p:nvGrpSpPr>
            <p:cNvPr id="719" name=""/>
            <p:cNvGrpSpPr/>
            <p:nvPr/>
          </p:nvGrpSpPr>
          <p:grpSpPr>
            <a:xfrm>
              <a:off x="351000" y="685800"/>
              <a:ext cx="8107200" cy="5334120"/>
              <a:chOff x="351000" y="685800"/>
              <a:chExt cx="8107200" cy="5334120"/>
            </a:xfrm>
          </p:grpSpPr>
          <p:grpSp>
            <p:nvGrpSpPr>
              <p:cNvPr id="720" name=""/>
              <p:cNvGrpSpPr/>
              <p:nvPr/>
            </p:nvGrpSpPr>
            <p:grpSpPr>
              <a:xfrm>
                <a:off x="351000" y="685800"/>
                <a:ext cx="8107200" cy="1122120"/>
                <a:chOff x="351000" y="685800"/>
                <a:chExt cx="8107200" cy="112212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162920" y="68580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</a:rPr>
                    <a:t>Motivaci</a:t>
                  </a: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  <a:ea typeface="ＭＳ Ｐゴシック"/>
                    </a:rPr>
                    <a:t>ó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351000" y="1165320"/>
                  <a:ext cx="7954920" cy="64260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ccff66"/>
                      </a:solidFill>
                      <a:latin typeface="Arial Narrow"/>
                    </a:rPr>
                    <a:t>Aceptación de las vivencias y acciones de alter, lo que es relevante para las vivencias y acciones de eg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357120" y="2117880"/>
                <a:ext cx="7948800" cy="3902040"/>
                <a:chOff x="357120" y="2117880"/>
                <a:chExt cx="7948800" cy="390204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2362320" y="2133720"/>
                  <a:ext cx="5943600" cy="381240"/>
                </a:xfrm>
                <a:prstGeom prst="rect">
                  <a:avLst/>
                </a:prstGeom>
                <a:solidFill>
                  <a:srgbClr val="408000"/>
                </a:solidFill>
                <a:ln w="381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 rot="16200000">
                  <a:off x="-1006920" y="4274280"/>
                  <a:ext cx="3109680" cy="381240"/>
                </a:xfrm>
                <a:prstGeom prst="rect">
                  <a:avLst/>
                </a:prstGeom>
                <a:solidFill>
                  <a:srgbClr val="408000"/>
                </a:solidFill>
                <a:ln w="381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4724280" y="2117880"/>
                  <a:ext cx="129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</a:rPr>
                    <a:t>E G O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385920" y="3642120"/>
                  <a:ext cx="304560" cy="161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</a:rPr>
                    <a:t>ALTE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2362320" y="2534040"/>
                  <a:ext cx="2971800" cy="380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00">
                        <a:alpha val="50196"/>
                      </a:srgbClr>
                    </a:gs>
                    <a:gs pos="100000">
                      <a:srgbClr val="99cc00">
                        <a:alpha val="50196"/>
                      </a:srgbClr>
                    </a:gs>
                  </a:gsLst>
                  <a:lin ang="5400000"/>
                </a:gradFill>
                <a:ln w="381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334120" y="2529000"/>
                  <a:ext cx="2971800" cy="381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00">
                        <a:alpha val="50196"/>
                      </a:srgbClr>
                    </a:gs>
                    <a:gs pos="100000">
                      <a:srgbClr val="99cc00">
                        <a:alpha val="50196"/>
                      </a:srgbClr>
                    </a:gs>
                  </a:gsLst>
                  <a:lin ang="5400000"/>
                </a:gradFill>
                <a:ln w="381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3200400" y="251496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</a:rPr>
                    <a:t> </a:t>
                  </a: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</a:rPr>
                    <a:t>Vivenci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172200" y="251496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</a:rPr>
                    <a:t> </a:t>
                  </a: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</a:rPr>
                    <a:t>Acci</a:t>
                  </a: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  <a:ea typeface="ＭＳ Ｐゴシック"/>
                    </a:rPr>
                    <a:t>ó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rot="16200000">
                  <a:off x="773280" y="2874960"/>
                  <a:ext cx="1554120" cy="162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00">
                        <a:alpha val="50196"/>
                      </a:srgbClr>
                    </a:gs>
                    <a:gs pos="100000">
                      <a:srgbClr val="99cc00">
                        <a:alpha val="50196"/>
                      </a:srgbClr>
                    </a:gs>
                  </a:gsLst>
                  <a:lin ang="5400000"/>
                </a:gradFill>
                <a:ln w="381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914400" y="348948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</a:rPr>
                    <a:t> </a:t>
                  </a: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</a:rPr>
                    <a:t>Vivenci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rot="16200000">
                  <a:off x="773280" y="4430520"/>
                  <a:ext cx="1554120" cy="162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00">
                        <a:alpha val="50196"/>
                      </a:srgbClr>
                    </a:gs>
                    <a:gs pos="100000">
                      <a:srgbClr val="99cc00">
                        <a:alpha val="50196"/>
                      </a:srgbClr>
                    </a:gs>
                  </a:gsLst>
                  <a:lin ang="5400000"/>
                </a:gradFill>
                <a:ln w="381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885960" y="508968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</a:rPr>
                    <a:t> </a:t>
                  </a: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</a:rPr>
                    <a:t>Acci</a:t>
                  </a: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  <a:ea typeface="ＭＳ Ｐゴシック"/>
                    </a:rPr>
                    <a:t>ó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6" name=""/>
            <p:cNvGrpSpPr/>
            <p:nvPr/>
          </p:nvGrpSpPr>
          <p:grpSpPr>
            <a:xfrm>
              <a:off x="2362320" y="2909520"/>
              <a:ext cx="5943600" cy="3109680"/>
              <a:chOff x="2362320" y="2909520"/>
              <a:chExt cx="5943600" cy="3109680"/>
            </a:xfrm>
          </p:grpSpPr>
          <p:sp>
            <p:nvSpPr>
              <p:cNvPr id="737" name=""/>
              <p:cNvSpPr/>
              <p:nvPr/>
            </p:nvSpPr>
            <p:spPr>
              <a:xfrm rot="16200000">
                <a:off x="3071160" y="2200680"/>
                <a:ext cx="1554120" cy="2971800"/>
              </a:xfrm>
              <a:prstGeom prst="rect">
                <a:avLst/>
              </a:prstGeom>
              <a:solidFill>
                <a:srgbClr val="99cc00"/>
              </a:solidFill>
              <a:ln w="381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16200000">
                <a:off x="6042960" y="2200680"/>
                <a:ext cx="1554120" cy="2971800"/>
              </a:xfrm>
              <a:prstGeom prst="rect">
                <a:avLst/>
              </a:prstGeom>
              <a:solidFill>
                <a:srgbClr val="99cc00"/>
              </a:solidFill>
              <a:ln w="381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16200000">
                <a:off x="3071160" y="3756240"/>
                <a:ext cx="1554120" cy="2971800"/>
              </a:xfrm>
              <a:prstGeom prst="rect">
                <a:avLst/>
              </a:prstGeom>
              <a:solidFill>
                <a:srgbClr val="99cc00"/>
              </a:solidFill>
              <a:ln w="381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16200000">
                <a:off x="6042960" y="3756240"/>
                <a:ext cx="1554120" cy="2971800"/>
              </a:xfrm>
              <a:prstGeom prst="rect">
                <a:avLst/>
              </a:prstGeom>
              <a:solidFill>
                <a:srgbClr val="99cc00"/>
              </a:solidFill>
              <a:ln w="381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1" name=""/>
          <p:cNvSpPr/>
          <p:nvPr/>
        </p:nvSpPr>
        <p:spPr>
          <a:xfrm>
            <a:off x="2529000" y="304812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Alter desencadena una vivencia en ego a través de la comunicación de su viv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533920" y="306072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La vivencia de alter lleva a una correspondiente conducta de 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533920" y="457200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La acción de alter da lugar a una correspondiente acción en 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514600" y="457200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La acción de alter selecciona una vivencia en ego y es aceptada como 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529000" y="391464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VERDAD / VAL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533920" y="39276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AMOR / INFLU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533920" y="543888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P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VALIDEZ LEG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514600" y="543888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PROPIEDAD/DIN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A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"/>
          <p:cNvGrpSpPr/>
          <p:nvPr/>
        </p:nvGrpSpPr>
        <p:grpSpPr>
          <a:xfrm>
            <a:off x="304920" y="4921920"/>
            <a:ext cx="8534160" cy="1480680"/>
            <a:chOff x="304920" y="4921920"/>
            <a:chExt cx="8534160" cy="1480680"/>
          </a:xfrm>
        </p:grpSpPr>
        <p:sp>
          <p:nvSpPr>
            <p:cNvPr id="750" name=""/>
            <p:cNvSpPr/>
            <p:nvPr/>
          </p:nvSpPr>
          <p:spPr>
            <a:xfrm>
              <a:off x="3276720" y="600372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ff66"/>
                  </a:solidFill>
                  <a:latin typeface="Arial Narrow"/>
                </a:rPr>
                <a:t>Evolu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304920" y="4921920"/>
              <a:ext cx="8534160" cy="921960"/>
              <a:chOff x="304920" y="4921920"/>
              <a:chExt cx="8534160" cy="921960"/>
            </a:xfrm>
          </p:grpSpPr>
          <p:grpSp>
            <p:nvGrpSpPr>
              <p:cNvPr id="752" name=""/>
              <p:cNvGrpSpPr/>
              <p:nvPr/>
            </p:nvGrpSpPr>
            <p:grpSpPr>
              <a:xfrm>
                <a:off x="304920" y="4921920"/>
                <a:ext cx="8534160" cy="725760"/>
                <a:chOff x="304920" y="4921920"/>
                <a:chExt cx="8534160" cy="72576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304920" y="5522760"/>
                  <a:ext cx="7596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8763120" y="5527800"/>
                  <a:ext cx="75960" cy="7596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755" name=""/>
                <p:cNvCxnSpPr/>
                <p:nvPr/>
              </p:nvCxnSpPr>
              <p:spPr>
                <a:xfrm flipH="1" rot="16200000">
                  <a:off x="907200" y="5335200"/>
                  <a:ext cx="2160" cy="2520"/>
                </a:xfrm>
                <a:prstGeom prst="curvedConnector5">
                  <a:avLst>
                    <a:gd name="adj1" fmla="val 14400000"/>
                    <a:gd name="adj2" fmla="val 16233333"/>
                    <a:gd name="adj3" fmla="val 14400000"/>
                  </a:avLst>
                </a:prstGeom>
                <a:ln w="7632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56" name=""/>
                <p:cNvCxnSpPr/>
                <p:nvPr/>
              </p:nvCxnSpPr>
              <p:spPr>
                <a:xfrm flipH="1" rot="16200000">
                  <a:off x="1593000" y="5333760"/>
                  <a:ext cx="2160" cy="2520"/>
                </a:xfrm>
                <a:prstGeom prst="curvedConnector5">
                  <a:avLst>
                    <a:gd name="adj1" fmla="val 14400000"/>
                    <a:gd name="adj2" fmla="val 16233333"/>
                    <a:gd name="adj3" fmla="val 14400000"/>
                  </a:avLst>
                </a:prstGeom>
                <a:ln w="7632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57" name=""/>
                <p:cNvCxnSpPr/>
                <p:nvPr/>
              </p:nvCxnSpPr>
              <p:spPr>
                <a:xfrm flipH="1" rot="16200000">
                  <a:off x="2281320" y="5335200"/>
                  <a:ext cx="2160" cy="2160"/>
                </a:xfrm>
                <a:prstGeom prst="curvedConnector5">
                  <a:avLst>
                    <a:gd name="adj1" fmla="val 14400000"/>
                    <a:gd name="adj2" fmla="val 16240000"/>
                    <a:gd name="adj3" fmla="val 14400000"/>
                  </a:avLst>
                </a:prstGeom>
                <a:ln w="7632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58" name=""/>
                <p:cNvCxnSpPr/>
                <p:nvPr/>
              </p:nvCxnSpPr>
              <p:spPr>
                <a:xfrm flipH="1" rot="16200000">
                  <a:off x="2963520" y="5336640"/>
                  <a:ext cx="2520" cy="2160"/>
                </a:xfrm>
                <a:prstGeom prst="curvedConnector5">
                  <a:avLst>
                    <a:gd name="adj1" fmla="val 14400000"/>
                    <a:gd name="adj2" fmla="val 16240000"/>
                    <a:gd name="adj3" fmla="val 14400000"/>
                  </a:avLst>
                </a:prstGeom>
                <a:ln w="7632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59" name=""/>
                <p:cNvCxnSpPr/>
                <p:nvPr/>
              </p:nvCxnSpPr>
              <p:spPr>
                <a:xfrm flipH="1" rot="16200000">
                  <a:off x="3649680" y="5335200"/>
                  <a:ext cx="2160" cy="2160"/>
                </a:xfrm>
                <a:prstGeom prst="curvedConnector5">
                  <a:avLst>
                    <a:gd name="adj1" fmla="val 14400000"/>
                    <a:gd name="adj2" fmla="val 16240000"/>
                    <a:gd name="adj3" fmla="val 14400000"/>
                  </a:avLst>
                </a:prstGeom>
                <a:ln w="7632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60" name=""/>
                <p:cNvCxnSpPr/>
                <p:nvPr/>
              </p:nvCxnSpPr>
              <p:spPr>
                <a:xfrm flipH="1" rot="16200000">
                  <a:off x="4335840" y="5336640"/>
                  <a:ext cx="2520" cy="2520"/>
                </a:xfrm>
                <a:prstGeom prst="curvedConnector5">
                  <a:avLst>
                    <a:gd name="adj1" fmla="val 14400000"/>
                    <a:gd name="adj2" fmla="val 16233333"/>
                    <a:gd name="adj3" fmla="val 14400000"/>
                  </a:avLst>
                </a:prstGeom>
                <a:ln w="7632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61" name=""/>
                <p:cNvCxnSpPr/>
                <p:nvPr/>
              </p:nvCxnSpPr>
              <p:spPr>
                <a:xfrm flipH="1" rot="16200000">
                  <a:off x="5020920" y="5336640"/>
                  <a:ext cx="2520" cy="2160"/>
                </a:xfrm>
                <a:prstGeom prst="curvedConnector5">
                  <a:avLst>
                    <a:gd name="adj1" fmla="val 14400000"/>
                    <a:gd name="adj2" fmla="val 16240000"/>
                    <a:gd name="adj3" fmla="val 14400000"/>
                  </a:avLst>
                </a:prstGeom>
                <a:ln w="7632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62" name=""/>
                <p:cNvCxnSpPr/>
                <p:nvPr/>
              </p:nvCxnSpPr>
              <p:spPr>
                <a:xfrm flipH="1" rot="16200000">
                  <a:off x="5707080" y="5335200"/>
                  <a:ext cx="2160" cy="2160"/>
                </a:xfrm>
                <a:prstGeom prst="curvedConnector5">
                  <a:avLst>
                    <a:gd name="adj1" fmla="val 14400000"/>
                    <a:gd name="adj2" fmla="val 16240000"/>
                    <a:gd name="adj3" fmla="val 14400000"/>
                  </a:avLst>
                </a:prstGeom>
                <a:ln w="7632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63" name=""/>
                <p:cNvCxnSpPr/>
                <p:nvPr/>
              </p:nvCxnSpPr>
              <p:spPr>
                <a:xfrm flipH="1" rot="16200000">
                  <a:off x="6393240" y="5336640"/>
                  <a:ext cx="2520" cy="2520"/>
                </a:xfrm>
                <a:prstGeom prst="curvedConnector5">
                  <a:avLst>
                    <a:gd name="adj1" fmla="val 14400000"/>
                    <a:gd name="adj2" fmla="val 16233333"/>
                    <a:gd name="adj3" fmla="val 14400000"/>
                  </a:avLst>
                </a:prstGeom>
                <a:ln w="7632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64" name=""/>
                <p:cNvCxnSpPr/>
                <p:nvPr/>
              </p:nvCxnSpPr>
              <p:spPr>
                <a:xfrm flipH="1" rot="16200000">
                  <a:off x="7022880" y="5336640"/>
                  <a:ext cx="2520" cy="2160"/>
                </a:xfrm>
                <a:prstGeom prst="curvedConnector5">
                  <a:avLst>
                    <a:gd name="adj1" fmla="val 14400000"/>
                    <a:gd name="adj2" fmla="val 16240000"/>
                    <a:gd name="adj3" fmla="val 14400000"/>
                  </a:avLst>
                </a:prstGeom>
                <a:ln w="7632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65" name=""/>
                <p:cNvCxnSpPr/>
                <p:nvPr/>
              </p:nvCxnSpPr>
              <p:spPr>
                <a:xfrm flipH="1" rot="16200000">
                  <a:off x="7709040" y="5335200"/>
                  <a:ext cx="2160" cy="2160"/>
                </a:xfrm>
                <a:prstGeom prst="curvedConnector5">
                  <a:avLst>
                    <a:gd name="adj1" fmla="val 14400000"/>
                    <a:gd name="adj2" fmla="val 16240000"/>
                    <a:gd name="adj3" fmla="val 14400000"/>
                  </a:avLst>
                </a:prstGeom>
                <a:ln w="7632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sp>
              <p:nvSpPr>
                <p:cNvPr id="766" name=""/>
                <p:cNvSpPr/>
                <p:nvPr/>
              </p:nvSpPr>
              <p:spPr>
                <a:xfrm>
                  <a:off x="422280" y="5522760"/>
                  <a:ext cx="7632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57280" y="5522760"/>
                  <a:ext cx="7596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8553600" y="5532480"/>
                  <a:ext cx="7596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123920" y="5524560"/>
                  <a:ext cx="7632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805040" y="5533920"/>
                  <a:ext cx="7632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2505240" y="5524560"/>
                  <a:ext cx="7596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3186000" y="5533920"/>
                  <a:ext cx="7632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3862440" y="5529240"/>
                  <a:ext cx="7632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557600" y="5533920"/>
                  <a:ext cx="7632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5238720" y="5529240"/>
                  <a:ext cx="7632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5934240" y="5524560"/>
                  <a:ext cx="7596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6615000" y="5533920"/>
                  <a:ext cx="7632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7291440" y="5529240"/>
                  <a:ext cx="7632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7967520" y="5524560"/>
                  <a:ext cx="7632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8658360" y="5529240"/>
                  <a:ext cx="7596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59360" y="5575320"/>
                <a:ext cx="8236080" cy="268560"/>
                <a:chOff x="459360" y="5575320"/>
                <a:chExt cx="8236080" cy="268560"/>
              </a:xfrm>
            </p:grpSpPr>
            <p:cxnSp>
              <p:nvCxnSpPr>
                <p:cNvPr id="782" name=""/>
                <p:cNvCxnSpPr>
                  <a:stCxn id="766" idx="4"/>
                  <a:endCxn id="769" idx="4"/>
                </p:cNvCxnSpPr>
                <p:nvPr/>
              </p:nvCxnSpPr>
              <p:spPr>
                <a:xfrm flipH="1" rot="16200000">
                  <a:off x="809640" y="5232600"/>
                  <a:ext cx="2160" cy="702360"/>
                </a:xfrm>
                <a:prstGeom prst="curvedConnector5">
                  <a:avLst>
                    <a:gd name="adj1" fmla="val 14500000"/>
                    <a:gd name="adj2" fmla="val 50000"/>
                    <a:gd name="adj3" fmla="val 14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83" name=""/>
                <p:cNvCxnSpPr>
                  <a:stCxn id="769" idx="4"/>
                  <a:endCxn id="770" idx="4"/>
                </p:cNvCxnSpPr>
                <p:nvPr/>
              </p:nvCxnSpPr>
              <p:spPr>
                <a:xfrm flipH="1" rot="16200000">
                  <a:off x="1497960" y="5248080"/>
                  <a:ext cx="9720" cy="681840"/>
                </a:xfrm>
                <a:prstGeom prst="curvedConnector5">
                  <a:avLst>
                    <a:gd name="adj1" fmla="val 2500000"/>
                    <a:gd name="adj2" fmla="val 49973"/>
                    <a:gd name="adj3" fmla="val 2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84" name=""/>
                <p:cNvCxnSpPr>
                  <a:endCxn id="771" idx="4"/>
                </p:cNvCxnSpPr>
                <p:nvPr/>
              </p:nvCxnSpPr>
              <p:spPr>
                <a:xfrm flipH="1" rot="16200000">
                  <a:off x="2197080" y="5239440"/>
                  <a:ext cx="10080" cy="681480"/>
                </a:xfrm>
                <a:prstGeom prst="curvedConnector5">
                  <a:avLst>
                    <a:gd name="adj1" fmla="val 2500000"/>
                    <a:gd name="adj2" fmla="val 50000"/>
                    <a:gd name="adj3" fmla="val 2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85" name=""/>
                <p:cNvCxnSpPr>
                  <a:endCxn id="772" idx="4"/>
                </p:cNvCxnSpPr>
                <p:nvPr/>
              </p:nvCxnSpPr>
              <p:spPr>
                <a:xfrm flipH="1" rot="16200000">
                  <a:off x="2878920" y="5248080"/>
                  <a:ext cx="9720" cy="681840"/>
                </a:xfrm>
                <a:prstGeom prst="curvedConnector5">
                  <a:avLst>
                    <a:gd name="adj1" fmla="val 2500000"/>
                    <a:gd name="adj2" fmla="val 49973"/>
                    <a:gd name="adj3" fmla="val 2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86" name=""/>
                <p:cNvCxnSpPr>
                  <a:endCxn id="773" idx="4"/>
                </p:cNvCxnSpPr>
                <p:nvPr/>
              </p:nvCxnSpPr>
              <p:spPr>
                <a:xfrm flipH="1" rot="16200000">
                  <a:off x="3555360" y="5243400"/>
                  <a:ext cx="10080" cy="681840"/>
                </a:xfrm>
                <a:prstGeom prst="curvedConnector5">
                  <a:avLst>
                    <a:gd name="adj1" fmla="val 2500000"/>
                    <a:gd name="adj2" fmla="val 49973"/>
                    <a:gd name="adj3" fmla="val 2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87" name=""/>
                <p:cNvCxnSpPr>
                  <a:endCxn id="774" idx="4"/>
                </p:cNvCxnSpPr>
                <p:nvPr/>
              </p:nvCxnSpPr>
              <p:spPr>
                <a:xfrm flipH="1" rot="16200000">
                  <a:off x="4250520" y="5248080"/>
                  <a:ext cx="9720" cy="681840"/>
                </a:xfrm>
                <a:prstGeom prst="curvedConnector5">
                  <a:avLst>
                    <a:gd name="adj1" fmla="val 2500000"/>
                    <a:gd name="adj2" fmla="val 49973"/>
                    <a:gd name="adj3" fmla="val 2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88" name=""/>
                <p:cNvCxnSpPr>
                  <a:endCxn id="775" idx="4"/>
                </p:cNvCxnSpPr>
                <p:nvPr/>
              </p:nvCxnSpPr>
              <p:spPr>
                <a:xfrm flipH="1" rot="16200000">
                  <a:off x="4931640" y="5243400"/>
                  <a:ext cx="10080" cy="681840"/>
                </a:xfrm>
                <a:prstGeom prst="curvedConnector5">
                  <a:avLst>
                    <a:gd name="adj1" fmla="val 2500000"/>
                    <a:gd name="adj2" fmla="val 49973"/>
                    <a:gd name="adj3" fmla="val 2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89" name=""/>
                <p:cNvCxnSpPr>
                  <a:endCxn id="776" idx="4"/>
                </p:cNvCxnSpPr>
                <p:nvPr/>
              </p:nvCxnSpPr>
              <p:spPr>
                <a:xfrm flipH="1" rot="16200000">
                  <a:off x="5626080" y="5239440"/>
                  <a:ext cx="10080" cy="681480"/>
                </a:xfrm>
                <a:prstGeom prst="curvedConnector5">
                  <a:avLst>
                    <a:gd name="adj1" fmla="val 2500000"/>
                    <a:gd name="adj2" fmla="val 50000"/>
                    <a:gd name="adj3" fmla="val 2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90" name=""/>
                <p:cNvCxnSpPr>
                  <a:endCxn id="777" idx="4"/>
                </p:cNvCxnSpPr>
                <p:nvPr/>
              </p:nvCxnSpPr>
              <p:spPr>
                <a:xfrm flipH="1" rot="16200000">
                  <a:off x="6307920" y="5248080"/>
                  <a:ext cx="9720" cy="681840"/>
                </a:xfrm>
                <a:prstGeom prst="curvedConnector5">
                  <a:avLst>
                    <a:gd name="adj1" fmla="val 2500000"/>
                    <a:gd name="adj2" fmla="val 49973"/>
                    <a:gd name="adj3" fmla="val 2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91" name=""/>
                <p:cNvCxnSpPr>
                  <a:endCxn id="778" idx="4"/>
                </p:cNvCxnSpPr>
                <p:nvPr/>
              </p:nvCxnSpPr>
              <p:spPr>
                <a:xfrm flipH="1" rot="16200000">
                  <a:off x="6984360" y="5243400"/>
                  <a:ext cx="10080" cy="681840"/>
                </a:xfrm>
                <a:prstGeom prst="curvedConnector5">
                  <a:avLst>
                    <a:gd name="adj1" fmla="val 2500000"/>
                    <a:gd name="adj2" fmla="val 49973"/>
                    <a:gd name="adj3" fmla="val 2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92" name=""/>
                <p:cNvCxnSpPr>
                  <a:endCxn id="779" idx="4"/>
                </p:cNvCxnSpPr>
                <p:nvPr/>
              </p:nvCxnSpPr>
              <p:spPr>
                <a:xfrm flipH="1" rot="16200000">
                  <a:off x="7660440" y="5239080"/>
                  <a:ext cx="10080" cy="681840"/>
                </a:xfrm>
                <a:prstGeom prst="curvedConnector5">
                  <a:avLst>
                    <a:gd name="adj1" fmla="val 2500000"/>
                    <a:gd name="adj2" fmla="val 49973"/>
                    <a:gd name="adj3" fmla="val 2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93" name=""/>
                <p:cNvCxnSpPr>
                  <a:endCxn id="780" idx="4"/>
                </p:cNvCxnSpPr>
                <p:nvPr/>
              </p:nvCxnSpPr>
              <p:spPr>
                <a:xfrm flipH="1" rot="16200000">
                  <a:off x="8350200" y="5243760"/>
                  <a:ext cx="10080" cy="681480"/>
                </a:xfrm>
                <a:prstGeom prst="curvedConnector5">
                  <a:avLst>
                    <a:gd name="adj1" fmla="val 2500000"/>
                    <a:gd name="adj2" fmla="val 50000"/>
                    <a:gd name="adj3" fmla="val 2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</p:grpSp>
        </p:grpSp>
      </p:grpSp>
      <p:grpSp>
        <p:nvGrpSpPr>
          <p:cNvPr id="794" name=""/>
          <p:cNvGrpSpPr/>
          <p:nvPr/>
        </p:nvGrpSpPr>
        <p:grpSpPr>
          <a:xfrm>
            <a:off x="152280" y="762120"/>
            <a:ext cx="8909280" cy="3733560"/>
            <a:chOff x="152280" y="762120"/>
            <a:chExt cx="8909280" cy="3733560"/>
          </a:xfrm>
        </p:grpSpPr>
        <p:sp>
          <p:nvSpPr>
            <p:cNvPr id="795" name=""/>
            <p:cNvSpPr/>
            <p:nvPr/>
          </p:nvSpPr>
          <p:spPr>
            <a:xfrm rot="16200000">
              <a:off x="2445480" y="-1211760"/>
              <a:ext cx="3124080" cy="7072200"/>
            </a:xfrm>
            <a:prstGeom prst="rtTriangle">
              <a:avLst/>
            </a:prstGeom>
            <a:gradFill rotWithShape="0">
              <a:gsLst>
                <a:gs pos="0">
                  <a:srgbClr val="ffcc66">
                    <a:alpha val="50196"/>
                  </a:srgbClr>
                </a:gs>
                <a:gs pos="100000">
                  <a:srgbClr val="755e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124600">
              <a:off x="2605320" y="1523520"/>
              <a:ext cx="30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66"/>
                  </a:solidFill>
                  <a:latin typeface="Arial Narrow"/>
                </a:rPr>
                <a:t>Formación de siste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16200000">
              <a:off x="2126520" y="-602280"/>
              <a:ext cx="3124080" cy="7072560"/>
            </a:xfrm>
            <a:prstGeom prst="rtTriangle">
              <a:avLst/>
            </a:prstGeom>
            <a:gradFill rotWithShape="0">
              <a:gsLst>
                <a:gs pos="0">
                  <a:srgbClr val="ffcc66">
                    <a:alpha val="50196"/>
                  </a:srgbClr>
                </a:gs>
                <a:gs pos="100000">
                  <a:srgbClr val="755e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801920" y="3124080"/>
              <a:ext cx="1259640" cy="30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ccff66"/>
                  </a:solidFill>
                  <a:latin typeface="Arial Narrow"/>
                </a:rPr>
                <a:t>Estructura soc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191440" y="2209680"/>
              <a:ext cx="869760" cy="30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ccff66"/>
                  </a:solidFill>
                  <a:latin typeface="Arial Narrow"/>
                </a:rPr>
                <a:t>Sem</a:t>
              </a:r>
              <a:r>
                <a:rPr b="0" lang="es-ES_tradnl" sz="1400" spc="-1" strike="noStrike">
                  <a:solidFill>
                    <a:srgbClr val="ccff66"/>
                  </a:solidFill>
                  <a:latin typeface="Arial Narrow"/>
                  <a:ea typeface="ＭＳ Ｐゴシック"/>
                </a:rPr>
                <a:t>ánt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315200" y="10666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010280" y="4114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2" name=""/>
            <p:cNvCxnSpPr>
              <a:stCxn id="801" idx="6"/>
              <a:endCxn id="798" idx="2"/>
            </p:cNvCxnSpPr>
            <p:nvPr/>
          </p:nvCxnSpPr>
          <p:spPr>
            <a:xfrm flipV="1">
              <a:off x="7086240" y="3437640"/>
              <a:ext cx="1346400" cy="715320"/>
            </a:xfrm>
            <a:prstGeom prst="bentConnector2">
              <a:avLst/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  <p:cxnSp>
          <p:nvCxnSpPr>
            <p:cNvPr id="803" name=""/>
            <p:cNvCxnSpPr>
              <a:stCxn id="800" idx="6"/>
              <a:endCxn id="799" idx="0"/>
            </p:cNvCxnSpPr>
            <p:nvPr/>
          </p:nvCxnSpPr>
          <p:spPr>
            <a:xfrm>
              <a:off x="7391520" y="1104480"/>
              <a:ext cx="1235520" cy="1105560"/>
            </a:xfrm>
            <a:prstGeom prst="bentConnector2">
              <a:avLst/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</p:grpSp>
      <p:grpSp>
        <p:nvGrpSpPr>
          <p:cNvPr id="804" name=""/>
          <p:cNvGrpSpPr/>
          <p:nvPr/>
        </p:nvGrpSpPr>
        <p:grpSpPr>
          <a:xfrm>
            <a:off x="379800" y="1024560"/>
            <a:ext cx="1333080" cy="604800"/>
            <a:chOff x="379800" y="1024560"/>
            <a:chExt cx="1333080" cy="604800"/>
          </a:xfrm>
        </p:grpSpPr>
        <p:sp>
          <p:nvSpPr>
            <p:cNvPr id="805" name=""/>
            <p:cNvSpPr/>
            <p:nvPr/>
          </p:nvSpPr>
          <p:spPr>
            <a:xfrm flipH="1">
              <a:off x="874800" y="1335240"/>
              <a:ext cx="838080" cy="0"/>
            </a:xfrm>
            <a:prstGeom prst="line">
              <a:avLst/>
            </a:prstGeom>
            <a:ln w="7632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6" name=""/>
            <p:cNvCxnSpPr/>
            <p:nvPr/>
          </p:nvCxnSpPr>
          <p:spPr>
            <a:xfrm flipH="1" rot="16200000">
              <a:off x="380160" y="1369800"/>
              <a:ext cx="2160" cy="2520"/>
            </a:xfrm>
            <a:prstGeom prst="curvedConnector5">
              <a:avLst>
                <a:gd name="adj1" fmla="val 14400000"/>
                <a:gd name="adj2" fmla="val 16233333"/>
                <a:gd name="adj3" fmla="val 14400000"/>
              </a:avLst>
            </a:prstGeom>
            <a:ln w="76320">
              <a:solidFill>
                <a:srgbClr val="ffcc66"/>
              </a:solidFill>
              <a:miter/>
              <a:tailEnd len="med" type="triangle" w="med"/>
            </a:ln>
          </p:spPr>
        </p:cxnSp>
      </p:grpSp>
      <p:grpSp>
        <p:nvGrpSpPr>
          <p:cNvPr id="807" name=""/>
          <p:cNvGrpSpPr/>
          <p:nvPr/>
        </p:nvGrpSpPr>
        <p:grpSpPr>
          <a:xfrm>
            <a:off x="949320" y="3429000"/>
            <a:ext cx="6102360" cy="1448640"/>
            <a:chOff x="949320" y="3429000"/>
            <a:chExt cx="6102360" cy="1448640"/>
          </a:xfrm>
        </p:grpSpPr>
        <p:grpSp>
          <p:nvGrpSpPr>
            <p:cNvPr id="808" name=""/>
            <p:cNvGrpSpPr/>
            <p:nvPr/>
          </p:nvGrpSpPr>
          <p:grpSpPr>
            <a:xfrm>
              <a:off x="2858040" y="3575520"/>
              <a:ext cx="1333080" cy="604800"/>
              <a:chOff x="2858040" y="3575520"/>
              <a:chExt cx="1333080" cy="60480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3353040" y="3886200"/>
                <a:ext cx="8380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10" name=""/>
              <p:cNvCxnSpPr/>
              <p:nvPr/>
            </p:nvCxnSpPr>
            <p:spPr>
              <a:xfrm flipH="1" rot="16200000">
                <a:off x="2858400" y="3920760"/>
                <a:ext cx="2160" cy="2520"/>
              </a:xfrm>
              <a:prstGeom prst="curvedConnector5">
                <a:avLst>
                  <a:gd name="adj1" fmla="val 14400000"/>
                  <a:gd name="adj2" fmla="val 16233333"/>
                  <a:gd name="adj3" fmla="val 14400000"/>
                </a:avLst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pic>
          <p:nvPicPr>
            <p:cNvPr id="811" name="" descr=""/>
            <p:cNvPicPr/>
            <p:nvPr/>
          </p:nvPicPr>
          <p:blipFill>
            <a:blip r:embed="rId1"/>
            <a:stretch/>
          </p:blipFill>
          <p:spPr>
            <a:xfrm>
              <a:off x="949320" y="3676680"/>
              <a:ext cx="9558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" descr=""/>
            <p:cNvPicPr/>
            <p:nvPr/>
          </p:nvPicPr>
          <p:blipFill>
            <a:blip r:embed="rId2"/>
            <a:stretch/>
          </p:blipFill>
          <p:spPr>
            <a:xfrm>
              <a:off x="5029200" y="3429000"/>
              <a:ext cx="202248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1832040" y="4540320"/>
              <a:ext cx="417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66"/>
                  </a:solidFill>
                  <a:latin typeface="Arial Narrow"/>
                </a:rPr>
                <a:t>Motivación valor positivo / Rechazo valor nega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304920" y="990720"/>
            <a:ext cx="2209680" cy="243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705720" y="990720"/>
            <a:ext cx="2133360" cy="541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562720" y="481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Ver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5334120" y="4280040"/>
            <a:ext cx="3276360" cy="143496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/>
          <p:nvPr/>
        </p:nvSpPr>
        <p:spPr>
          <a:xfrm>
            <a:off x="533520" y="19400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Vivencia de A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057400" y="1981080"/>
            <a:ext cx="45720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514600" y="1981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0574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5146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828800" y="1371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Vivencia de 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04920" y="3657600"/>
            <a:ext cx="411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La selección de información no es atribuida a nadie en part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Experiencias de alter son adoptadas como experiencias de 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Verdad simboliza equivalencia de viv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Supone disposición a aprender por experiencia de otros sin repetir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648320" y="9874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¿Qué sucede cuando hay un conocimiento nuevo o cuando se quiere criticar conocimiento antigu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‘</a:t>
            </a: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El tabaco produce cáncer’/ ‘El tabaco puede producir cáncer’ </a:t>
            </a:r>
            <a:r>
              <a:rPr b="0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 Modalización en base al medio: métodos y teorías neutralizan influencia de acciones sobre resul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304920" y="990720"/>
            <a:ext cx="2209680" cy="243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705720" y="990720"/>
            <a:ext cx="2133360" cy="541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562720" y="481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5334120" y="4267080"/>
            <a:ext cx="3276360" cy="143532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533520" y="19400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Vivencia de A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057400" y="1981080"/>
            <a:ext cx="45720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514600" y="1981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0574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5146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828800" y="1371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Vivencia de 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04920" y="3352680"/>
            <a:ext cx="41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Se asemejan a balones que se inflan en situaciones partic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Ideología y argumentación son equivalente funcional a métodos y teo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Son supuestos en la comunicación para evitar la posibilidad de contradi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No convencen por fundamentación, sino porque lado negativo no se observa </a:t>
            </a:r>
            <a:r>
              <a:rPr b="0" lang="es-ES_tradnl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 Si esto falla se acaba el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648320" y="9874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¿Qué sucede cuando se requiere de ‘verdades’ que no pueden ser probadas por métodos o teorías pero que reclaman validez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Función: dar orientaciones de acción / No seleccionan acciones; son muy abstractos </a:t>
            </a:r>
            <a:r>
              <a:rPr b="0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 democracia: se puede ser autoritario en nombre de la democr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304920" y="990720"/>
            <a:ext cx="2209680" cy="243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705720" y="990720"/>
            <a:ext cx="2133360" cy="541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334120" y="4280040"/>
            <a:ext cx="3276360" cy="1434960"/>
            <a:chOff x="5334120" y="4280040"/>
            <a:chExt cx="3276360" cy="1434960"/>
          </a:xfrm>
        </p:grpSpPr>
        <p:sp>
          <p:nvSpPr>
            <p:cNvPr id="841" name=""/>
            <p:cNvSpPr/>
            <p:nvPr/>
          </p:nvSpPr>
          <p:spPr>
            <a:xfrm>
              <a:off x="5580000" y="4780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Am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2" name="" descr=""/>
            <p:cNvPicPr/>
            <p:nvPr/>
          </p:nvPicPr>
          <p:blipFill>
            <a:blip r:embed="rId1"/>
            <a:stretch/>
          </p:blipFill>
          <p:spPr>
            <a:xfrm>
              <a:off x="5334120" y="4280040"/>
              <a:ext cx="3276360" cy="14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"/>
          <p:cNvSpPr/>
          <p:nvPr/>
        </p:nvSpPr>
        <p:spPr>
          <a:xfrm>
            <a:off x="533520" y="19400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Vivencia de A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057400" y="1981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514600" y="1981080"/>
            <a:ext cx="45720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0574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146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828800" y="1371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Ac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04920" y="3760920"/>
            <a:ext cx="4114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Pasión </a:t>
            </a:r>
            <a:r>
              <a:rPr b="0" lang="es-ES_tradnl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 amor romántico (conducta de ‘Roman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En tanto amor se hace necesario para formar parejas, se diferencia en la familia y excluye otros medios: dinero, p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Paradoja: ¿cómo busca confirmación el que está descontento consigo mism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648320" y="987480"/>
            <a:ext cx="426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¿Qué sucede cuando se requiere encontrar apoyo a una visión propia del mundo a través de otro y darle relevancia univers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Ego se compromete por acción con la vivencia de alter </a:t>
            </a:r>
            <a:r>
              <a:rPr b="0" lang="es-ES_tradnl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 requiere que ego seleccione una acción que lo haga ver frente al mundo como alter lo ve, y que alter, como otro ego, actúe del mismo m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304920" y="990720"/>
            <a:ext cx="2209680" cy="243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705720" y="990720"/>
            <a:ext cx="2133360" cy="541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33520" y="19400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de A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057400" y="1981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514600" y="1981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057400" y="2286000"/>
            <a:ext cx="45720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5146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828800" y="1371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Vivenci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04920" y="376092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Con dinero ego acepta que alter se apropie de lo que quiera </a:t>
            </a:r>
            <a:r>
              <a:rPr b="0" lang="es-ES_tradnl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 selecciones especí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Dinero sirve para observar escasez </a:t>
            </a:r>
            <a:r>
              <a:rPr b="0" lang="es-ES_tradnl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 permite estandarización de selecciones y escas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‘</a:t>
            </a: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Transmite’ libertad de selección </a:t>
            </a:r>
            <a:r>
              <a:rPr b="0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 por ello el dinero no genera po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648320" y="987480"/>
            <a:ext cx="426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¿Qué sucede cuando alter especifica un interés a través de su acción y se asegura para sí ese interés (bien)?; ¿por qué los otros que tienen un interés similar, siendo más, deben observ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Para ello emerge la propiedad y luego el dinero como propiedad monetar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5257800" y="4280040"/>
            <a:ext cx="3352680" cy="1434960"/>
            <a:chOff x="5257800" y="4280040"/>
            <a:chExt cx="3352680" cy="1434960"/>
          </a:xfrm>
        </p:grpSpPr>
        <p:pic>
          <p:nvPicPr>
            <p:cNvPr id="862" name="" descr=""/>
            <p:cNvPicPr/>
            <p:nvPr/>
          </p:nvPicPr>
          <p:blipFill>
            <a:blip r:embed="rId1"/>
            <a:stretch/>
          </p:blipFill>
          <p:spPr>
            <a:xfrm>
              <a:off x="5334120" y="4280040"/>
              <a:ext cx="3276360" cy="14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>
              <a:off x="5257800" y="464832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Propiedad/ Dine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3520" y="2743200"/>
            <a:ext cx="2057400" cy="2971800"/>
          </a:xfrm>
          <a:prstGeom prst="rect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486400" y="888840"/>
            <a:ext cx="2745360" cy="990720"/>
            <a:chOff x="5486400" y="888840"/>
            <a:chExt cx="2745360" cy="990720"/>
          </a:xfrm>
        </p:grpSpPr>
        <p:sp>
          <p:nvSpPr>
            <p:cNvPr id="129" name=""/>
            <p:cNvSpPr/>
            <p:nvPr/>
          </p:nvSpPr>
          <p:spPr>
            <a:xfrm>
              <a:off x="5486400" y="888840"/>
              <a:ext cx="1143000" cy="990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03200" y="949320"/>
              <a:ext cx="2428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Comunic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Versión clás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914400" y="3211560"/>
            <a:ext cx="7543800" cy="1523880"/>
            <a:chOff x="914400" y="3211560"/>
            <a:chExt cx="7543800" cy="1523880"/>
          </a:xfrm>
        </p:grpSpPr>
        <p:sp>
          <p:nvSpPr>
            <p:cNvPr id="132" name=""/>
            <p:cNvSpPr/>
            <p:nvPr/>
          </p:nvSpPr>
          <p:spPr>
            <a:xfrm>
              <a:off x="914400" y="3398760"/>
              <a:ext cx="1295280" cy="11430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53960" y="37209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  <a:ea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62920" y="3405240"/>
              <a:ext cx="1295280" cy="1143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02480" y="37274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ff00"/>
                  </a:solidFill>
                  <a:latin typeface="Arial"/>
                  <a:ea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43200" y="3973680"/>
              <a:ext cx="388620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86200" y="3211560"/>
              <a:ext cx="1371600" cy="1523880"/>
            </a:xfrm>
            <a:prstGeom prst="rect">
              <a:avLst/>
            </a:prstGeom>
            <a:solidFill>
              <a:srgbClr val="6666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43960" y="4202280"/>
              <a:ext cx="85752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CA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11840" y="3440160"/>
              <a:ext cx="114084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MENSA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858240" y="3135240"/>
            <a:ext cx="7785000" cy="2363040"/>
            <a:chOff x="858240" y="3135240"/>
            <a:chExt cx="7785000" cy="2363040"/>
          </a:xfrm>
        </p:grpSpPr>
        <p:sp>
          <p:nvSpPr>
            <p:cNvPr id="141" name=""/>
            <p:cNvSpPr/>
            <p:nvPr/>
          </p:nvSpPr>
          <p:spPr>
            <a:xfrm>
              <a:off x="3202560" y="3135240"/>
              <a:ext cx="24768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541120" y="3135240"/>
              <a:ext cx="24768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58240" y="5160960"/>
              <a:ext cx="128880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Codific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39520" y="5160960"/>
              <a:ext cx="150372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Decodific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304920" y="990720"/>
            <a:ext cx="2209680" cy="243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705720" y="990720"/>
            <a:ext cx="2133360" cy="541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3520" y="19400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de A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057400" y="1981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514600" y="1981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057400" y="2286000"/>
            <a:ext cx="45720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5146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828800" y="1371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Vivenci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5334120" y="4280040"/>
            <a:ext cx="3276360" cy="143496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5257800" y="4767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04920" y="3760920"/>
            <a:ext cx="4114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El arte activa posibilidades apagadas </a:t>
            </a:r>
            <a:r>
              <a:rPr b="0" lang="es-ES_tradnl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 por eso exige origin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Si se es original se acepta notificación como 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Originalidad no es arbitrariedad </a:t>
            </a:r>
            <a:r>
              <a:rPr b="0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 un comienzo señala un camino </a:t>
            </a:r>
            <a:r>
              <a:rPr b="0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 eliminación de voluntariedad </a:t>
            </a:r>
            <a:r>
              <a:rPr b="0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 universaliz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648320" y="987480"/>
            <a:ext cx="426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¿Qué sucede cuando se notifica un estado posible del mundo y ese estado encuentra aceptación en otro como estado del mun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El arte fija predisposiciones improbables de aceptación a estados de conciencia expresados en acción (ob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304920" y="990720"/>
            <a:ext cx="2209680" cy="243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705720" y="990720"/>
            <a:ext cx="2133360" cy="541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33520" y="19400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de A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057400" y="1981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514600" y="1981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0574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514600" y="2286000"/>
            <a:ext cx="45720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828800" y="1371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Ac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04920" y="3429000"/>
            <a:ext cx="4114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Forma: diferencia entre realización de una orden/alternativa a evi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Límite del poder cuando ego elige alternativa a evitar y lleva a alter a renunciar a sa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Derecho pone a disposición de privados el Zwangsgewalt de la instancia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Condición: el derecho no es políticamente controlado </a:t>
            </a:r>
            <a:r>
              <a:rPr b="0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 rule of law, Estado de derec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4648320" y="9874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¿Qué sucede cuando alter y ego conocen alternativas que quieren evitar y que pueden ser más perjudiciales para ego que para alter y ambos están concientes de es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A través del poder la acción de alter se convierte en una decisión acerca de la acción de ego y es exigida como 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5257800" y="4280040"/>
            <a:ext cx="3352680" cy="1434960"/>
            <a:chOff x="5257800" y="4280040"/>
            <a:chExt cx="3352680" cy="1434960"/>
          </a:xfrm>
        </p:grpSpPr>
        <p:pic>
          <p:nvPicPr>
            <p:cNvPr id="887" name="" descr=""/>
            <p:cNvPicPr/>
            <p:nvPr/>
          </p:nvPicPr>
          <p:blipFill>
            <a:blip r:embed="rId1"/>
            <a:stretch/>
          </p:blipFill>
          <p:spPr>
            <a:xfrm>
              <a:off x="5334120" y="4280040"/>
              <a:ext cx="3276360" cy="14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"/>
            <p:cNvSpPr/>
            <p:nvPr/>
          </p:nvSpPr>
          <p:spPr>
            <a:xfrm>
              <a:off x="5257800" y="464184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Poder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Derech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852480" y="1447920"/>
            <a:ext cx="234792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567480" y="1447920"/>
            <a:ext cx="2271600" cy="4676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942840" y="838080"/>
            <a:ext cx="3476880" cy="1371600"/>
            <a:chOff x="942840" y="838080"/>
            <a:chExt cx="3476880" cy="1371600"/>
          </a:xfrm>
        </p:grpSpPr>
        <p:sp>
          <p:nvSpPr>
            <p:cNvPr id="892" name=""/>
            <p:cNvSpPr/>
            <p:nvPr/>
          </p:nvSpPr>
          <p:spPr>
            <a:xfrm>
              <a:off x="979560" y="843120"/>
              <a:ext cx="1326960" cy="1366560"/>
            </a:xfrm>
            <a:custGeom>
              <a:avLst/>
              <a:gdLst/>
              <a:ahLst/>
              <a:rect l="l" t="t" r="r" b="b"/>
              <a:pathLst>
                <a:path w="836" h="861">
                  <a:moveTo>
                    <a:pt x="0" y="492"/>
                  </a:moveTo>
                  <a:lnTo>
                    <a:pt x="31" y="630"/>
                  </a:lnTo>
                  <a:lnTo>
                    <a:pt x="140" y="753"/>
                  </a:lnTo>
                  <a:lnTo>
                    <a:pt x="264" y="830"/>
                  </a:lnTo>
                  <a:lnTo>
                    <a:pt x="418" y="861"/>
                  </a:lnTo>
                  <a:lnTo>
                    <a:pt x="573" y="830"/>
                  </a:lnTo>
                  <a:lnTo>
                    <a:pt x="712" y="723"/>
                  </a:lnTo>
                  <a:lnTo>
                    <a:pt x="805" y="584"/>
                  </a:lnTo>
                  <a:lnTo>
                    <a:pt x="836" y="430"/>
                  </a:lnTo>
                  <a:lnTo>
                    <a:pt x="805" y="277"/>
                  </a:lnTo>
                  <a:lnTo>
                    <a:pt x="712" y="138"/>
                  </a:lnTo>
                  <a:lnTo>
                    <a:pt x="573" y="31"/>
                  </a:lnTo>
                  <a:lnTo>
                    <a:pt x="418" y="0"/>
                  </a:lnTo>
                  <a:lnTo>
                    <a:pt x="279" y="31"/>
                  </a:lnTo>
                  <a:lnTo>
                    <a:pt x="155" y="108"/>
                  </a:lnTo>
                </a:path>
              </a:pathLst>
            </a:custGeom>
            <a:noFill/>
            <a:ln w="1969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71720" y="1525680"/>
              <a:ext cx="1548000" cy="1440"/>
            </a:xfrm>
            <a:prstGeom prst="line">
              <a:avLst/>
            </a:prstGeom>
            <a:ln w="196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979560" y="843120"/>
              <a:ext cx="1326960" cy="1366560"/>
            </a:xfrm>
            <a:custGeom>
              <a:avLst/>
              <a:gdLst/>
              <a:ahLst/>
              <a:rect l="l" t="t" r="r" b="b"/>
              <a:pathLst>
                <a:path w="836" h="861">
                  <a:moveTo>
                    <a:pt x="0" y="492"/>
                  </a:moveTo>
                  <a:lnTo>
                    <a:pt x="31" y="630"/>
                  </a:lnTo>
                  <a:lnTo>
                    <a:pt x="140" y="753"/>
                  </a:lnTo>
                  <a:lnTo>
                    <a:pt x="264" y="830"/>
                  </a:lnTo>
                  <a:lnTo>
                    <a:pt x="418" y="861"/>
                  </a:lnTo>
                  <a:lnTo>
                    <a:pt x="573" y="830"/>
                  </a:lnTo>
                  <a:lnTo>
                    <a:pt x="712" y="723"/>
                  </a:lnTo>
                  <a:lnTo>
                    <a:pt x="805" y="584"/>
                  </a:lnTo>
                  <a:lnTo>
                    <a:pt x="836" y="430"/>
                  </a:lnTo>
                  <a:lnTo>
                    <a:pt x="805" y="277"/>
                  </a:lnTo>
                  <a:lnTo>
                    <a:pt x="712" y="138"/>
                  </a:lnTo>
                  <a:lnTo>
                    <a:pt x="573" y="31"/>
                  </a:lnTo>
                  <a:lnTo>
                    <a:pt x="418" y="0"/>
                  </a:lnTo>
                  <a:lnTo>
                    <a:pt x="279" y="31"/>
                  </a:lnTo>
                  <a:lnTo>
                    <a:pt x="155" y="108"/>
                  </a:lnTo>
                </a:path>
              </a:pathLst>
            </a:custGeom>
            <a:noFill/>
            <a:ln w="1969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942840" y="838080"/>
              <a:ext cx="638280" cy="755640"/>
            </a:xfrm>
            <a:custGeom>
              <a:avLst/>
              <a:gdLst/>
              <a:ahLst/>
              <a:rect l="l" t="t" r="r" b="b"/>
              <a:pathLst>
                <a:path w="402" h="476">
                  <a:moveTo>
                    <a:pt x="0" y="0"/>
                  </a:moveTo>
                  <a:lnTo>
                    <a:pt x="15" y="476"/>
                  </a:lnTo>
                  <a:lnTo>
                    <a:pt x="402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55840" y="1198440"/>
              <a:ext cx="687240" cy="658800"/>
            </a:xfrm>
            <a:custGeom>
              <a:avLst/>
              <a:gdLst/>
              <a:ahLst/>
              <a:rect l="l" t="t" r="r" b="b"/>
              <a:pathLst>
                <a:path w="433" h="415">
                  <a:moveTo>
                    <a:pt x="433" y="0"/>
                  </a:moveTo>
                  <a:lnTo>
                    <a:pt x="0" y="200"/>
                  </a:lnTo>
                  <a:lnTo>
                    <a:pt x="433" y="415"/>
                  </a:lnTo>
                  <a:lnTo>
                    <a:pt x="433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871720" y="1525680"/>
              <a:ext cx="1548000" cy="1440"/>
            </a:xfrm>
            <a:prstGeom prst="line">
              <a:avLst/>
            </a:prstGeom>
            <a:ln w="196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79440" y="1506960"/>
            <a:ext cx="5792760" cy="4588920"/>
            <a:chOff x="379440" y="1506960"/>
            <a:chExt cx="5792760" cy="4588920"/>
          </a:xfrm>
        </p:grpSpPr>
        <p:sp>
          <p:nvSpPr>
            <p:cNvPr id="899" name=""/>
            <p:cNvSpPr/>
            <p:nvPr/>
          </p:nvSpPr>
          <p:spPr>
            <a:xfrm>
              <a:off x="838080" y="4356000"/>
              <a:ext cx="5334120" cy="173988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Mecanismos simbiót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Política/Derecho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Wingdings"/>
                  <a:ea typeface="Wingdings"/>
                </a:rPr>
                <a:t>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Violencia fís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Amor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Wingdings"/>
                  <a:ea typeface="Wingdings"/>
                </a:rPr>
                <a:t>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Sexua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Economía 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Wingdings"/>
                  <a:ea typeface="Wingdings"/>
                </a:rPr>
                <a:t>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Satisfacción de necesid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Ciencia 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Wingdings"/>
                  <a:ea typeface="Wingdings"/>
                </a:rPr>
                <a:t>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Percep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"/>
            <p:cNvCxnSpPr>
              <a:endCxn id="899" idx="1"/>
            </p:cNvCxnSpPr>
            <p:nvPr/>
          </p:nvCxnSpPr>
          <p:spPr>
            <a:xfrm flipH="1" flipV="1" rot="10800000">
              <a:off x="608400" y="1506960"/>
              <a:ext cx="229320" cy="3723480"/>
            </a:xfrm>
            <a:prstGeom prst="bentConnector3">
              <a:avLst>
                <a:gd name="adj1" fmla="val -100000"/>
              </a:avLst>
            </a:prstGeom>
            <a:ln w="9360">
              <a:solidFill>
                <a:srgbClr val="99cc00"/>
              </a:solidFill>
              <a:miter/>
              <a:tailEnd len="med" type="triangle" w="med"/>
            </a:ln>
          </p:spPr>
        </p:cxnSp>
      </p:grpSp>
      <p:grpSp>
        <p:nvGrpSpPr>
          <p:cNvPr id="901" name=""/>
          <p:cNvGrpSpPr/>
          <p:nvPr/>
        </p:nvGrpSpPr>
        <p:grpSpPr>
          <a:xfrm>
            <a:off x="3352680" y="1503360"/>
            <a:ext cx="5334120" cy="2611080"/>
            <a:chOff x="3352680" y="1503360"/>
            <a:chExt cx="5334120" cy="2611080"/>
          </a:xfrm>
        </p:grpSpPr>
        <p:sp>
          <p:nvSpPr>
            <p:cNvPr id="902" name=""/>
            <p:cNvSpPr/>
            <p:nvPr/>
          </p:nvSpPr>
          <p:spPr>
            <a:xfrm>
              <a:off x="3352680" y="2100240"/>
              <a:ext cx="5334120" cy="201420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Prohibiciones de autosatisfa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Política/Derecho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Wingdings"/>
                  <a:ea typeface="Wingdings"/>
                </a:rPr>
                <a:t>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Logro de objetivos de manera violen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Amor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Wingdings"/>
                  <a:ea typeface="Wingdings"/>
                </a:rPr>
                <a:t>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reprobación moral de onanism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Economía 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Wingdings"/>
                  <a:ea typeface="Wingdings"/>
                </a:rPr>
                <a:t>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Devaluación de ascetismo y autarqu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Ciencia 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Wingdings"/>
                  <a:ea typeface="Wingdings"/>
                </a:rPr>
                <a:t>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Eliminación de evidencia subjetiva y certeza de introspe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3" name=""/>
            <p:cNvCxnSpPr>
              <a:endCxn id="902" idx="0"/>
            </p:cNvCxnSpPr>
            <p:nvPr/>
          </p:nvCxnSpPr>
          <p:spPr>
            <a:xfrm>
              <a:off x="4572000" y="1503360"/>
              <a:ext cx="1448640" cy="597600"/>
            </a:xfrm>
            <a:prstGeom prst="bentConnector2">
              <a:avLst/>
            </a:prstGeom>
            <a:ln w="9360">
              <a:solidFill>
                <a:srgbClr val="99cc00"/>
              </a:solidFill>
              <a:miter/>
              <a:tailEnd len="med" type="triangle" w="med"/>
            </a:ln>
          </p:spPr>
        </p:cxnSp>
      </p:grpSp>
    </p:spTree>
  </p:cSld>
  <p:transition>
    <p:random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0" y="0"/>
            <a:ext cx="2819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79360" y="533520"/>
            <a:ext cx="219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Verdana"/>
              </a:rPr>
              <a:t>Indifer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0" y="1824120"/>
            <a:ext cx="9337680" cy="4435560"/>
            <a:chOff x="0" y="1824120"/>
            <a:chExt cx="9337680" cy="4435560"/>
          </a:xfrm>
        </p:grpSpPr>
        <p:grpSp>
          <p:nvGrpSpPr>
            <p:cNvPr id="907" name=""/>
            <p:cNvGrpSpPr/>
            <p:nvPr/>
          </p:nvGrpSpPr>
          <p:grpSpPr>
            <a:xfrm>
              <a:off x="0" y="1824120"/>
              <a:ext cx="3267360" cy="3546360"/>
              <a:chOff x="0" y="1824120"/>
              <a:chExt cx="3267360" cy="3546360"/>
            </a:xfrm>
          </p:grpSpPr>
          <p:sp>
            <p:nvSpPr>
              <p:cNvPr id="908" name=""/>
              <p:cNvSpPr/>
              <p:nvPr/>
            </p:nvSpPr>
            <p:spPr>
              <a:xfrm rot="5400000">
                <a:off x="-139320" y="1963440"/>
                <a:ext cx="3546360" cy="3267360"/>
              </a:xfrm>
              <a:custGeom>
                <a:avLst/>
                <a:gdLst>
                  <a:gd name="textAreaLeft" fmla="*/ 0 w 3546360"/>
                  <a:gd name="textAreaRight" fmla="*/ 3546720 w 3546360"/>
                  <a:gd name="textAreaTop" fmla="*/ 0 h 3267360"/>
                  <a:gd name="textAreaBottom" fmla="*/ 3267720 h 326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00000"/>
                    <a:lnTo>
                      <a:pt x="0" y="10800"/>
                    </a:lnTo>
                    <a:arcTo wR="10800" hR="10800" stAng="10800000" swAng="1080000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66">
                      <a:alpha val="50196"/>
                    </a:srgbClr>
                  </a:gs>
                  <a:gs pos="100000">
                    <a:srgbClr val="ccff66">
                      <a:alpha val="50196"/>
                    </a:srgbClr>
                  </a:gs>
                </a:gsLst>
                <a:lin ang="5400000"/>
              </a:gradFill>
              <a:ln w="5724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44880" y="4678200"/>
                <a:ext cx="375840" cy="48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ff66"/>
                    </a:solidFill>
                    <a:latin typeface="Arial Narrow"/>
                  </a:rPr>
                  <a:t>D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638000" y="4629240"/>
                <a:ext cx="54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2626920" y="2846520"/>
                <a:ext cx="424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816200" y="2109960"/>
                <a:ext cx="36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529000" y="4059360"/>
                <a:ext cx="48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605960" y="3119400"/>
                <a:ext cx="6426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Alt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6070680" y="2712960"/>
              <a:ext cx="3267000" cy="3546720"/>
              <a:chOff x="6070680" y="2712960"/>
              <a:chExt cx="3267000" cy="3546720"/>
            </a:xfrm>
          </p:grpSpPr>
          <p:sp>
            <p:nvSpPr>
              <p:cNvPr id="916" name=""/>
              <p:cNvSpPr/>
              <p:nvPr/>
            </p:nvSpPr>
            <p:spPr>
              <a:xfrm>
                <a:off x="8532720" y="2895480"/>
                <a:ext cx="346680" cy="48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ff66"/>
                    </a:solidFill>
                    <a:latin typeface="Arial Narrow"/>
                  </a:rPr>
                  <a:t>L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16200000">
                <a:off x="5930640" y="2852640"/>
                <a:ext cx="3546720" cy="3267000"/>
              </a:xfrm>
              <a:custGeom>
                <a:avLst/>
                <a:gdLst>
                  <a:gd name="textAreaLeft" fmla="*/ 0 w 3546720"/>
                  <a:gd name="textAreaRight" fmla="*/ 3547080 w 3546720"/>
                  <a:gd name="textAreaTop" fmla="*/ 0 h 3267000"/>
                  <a:gd name="textAreaBottom" fmla="*/ 3267360 h 326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00000"/>
                    <a:lnTo>
                      <a:pt x="0" y="10800"/>
                    </a:lnTo>
                    <a:arcTo wR="10800" hR="10800" stAng="10800000" swAng="1080000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>
                      <a:alpha val="50196"/>
                    </a:srgbClr>
                  </a:gs>
                  <a:gs pos="100000">
                    <a:srgbClr val="5e5e5e">
                      <a:alpha val="50196"/>
                    </a:srgbClr>
                  </a:gs>
                </a:gsLst>
                <a:lin ang="5400000"/>
              </a:gradFill>
              <a:ln w="5724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096320" y="5492880"/>
                <a:ext cx="29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311960" y="2903400"/>
                <a:ext cx="470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504480" y="3529080"/>
                <a:ext cx="41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413040" y="4730760"/>
                <a:ext cx="35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131960" y="4475160"/>
                <a:ext cx="5634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Eg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3" name=""/>
          <p:cNvGrpSpPr/>
          <p:nvPr/>
        </p:nvGrpSpPr>
        <p:grpSpPr>
          <a:xfrm>
            <a:off x="3809880" y="1219320"/>
            <a:ext cx="1752840" cy="5105160"/>
            <a:chOff x="3809880" y="1219320"/>
            <a:chExt cx="1752840" cy="5105160"/>
          </a:xfrm>
        </p:grpSpPr>
        <p:sp>
          <p:nvSpPr>
            <p:cNvPr id="924" name=""/>
            <p:cNvSpPr/>
            <p:nvPr/>
          </p:nvSpPr>
          <p:spPr>
            <a:xfrm>
              <a:off x="3809880" y="1219320"/>
              <a:ext cx="1752840" cy="5105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343400" y="1523880"/>
              <a:ext cx="0" cy="4496040"/>
            </a:xfrm>
            <a:prstGeom prst="line">
              <a:avLst/>
            </a:prstGeom>
            <a:ln cap="rnd" w="76320">
              <a:solidFill>
                <a:srgbClr val="ccff66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5029200" y="1523520"/>
              <a:ext cx="0" cy="4496040"/>
            </a:xfrm>
            <a:prstGeom prst="line">
              <a:avLst/>
            </a:prstGeom>
            <a:ln cap="rnd" w="76320">
              <a:solidFill>
                <a:srgbClr val="cccccc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6324480" y="0"/>
            <a:ext cx="2819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7215840" y="3492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ff00"/>
                </a:solidFill>
                <a:latin typeface="Verdana"/>
              </a:rPr>
              <a:t>Indif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228600" y="914400"/>
            <a:ext cx="9067680" cy="5868000"/>
            <a:chOff x="228600" y="914400"/>
            <a:chExt cx="9067680" cy="5868000"/>
          </a:xfrm>
        </p:grpSpPr>
        <p:sp>
          <p:nvSpPr>
            <p:cNvPr id="930" name=""/>
            <p:cNvSpPr/>
            <p:nvPr/>
          </p:nvSpPr>
          <p:spPr>
            <a:xfrm>
              <a:off x="2286000" y="137160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asado presente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808600" y="91440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resente</a:t>
              </a:r>
              <a:r>
                <a:rPr b="1" lang="es-MX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086600" y="14032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Futuro presente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066680" y="1295280"/>
              <a:ext cx="0" cy="5181840"/>
            </a:xfrm>
            <a:prstGeom prst="line">
              <a:avLst/>
            </a:prstGeom>
            <a:ln cap="rnd" w="9360">
              <a:solidFill>
                <a:srgbClr val="66ff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53080" y="1295280"/>
              <a:ext cx="0" cy="5257800"/>
            </a:xfrm>
            <a:prstGeom prst="line">
              <a:avLst/>
            </a:prstGeom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238880" y="1295280"/>
              <a:ext cx="0" cy="5257800"/>
            </a:xfrm>
            <a:prstGeom prst="line">
              <a:avLst/>
            </a:prstGeom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28600" y="3048120"/>
              <a:ext cx="8839080" cy="0"/>
            </a:xfrm>
            <a:prstGeom prst="line">
              <a:avLst/>
            </a:prstGeom>
            <a:ln w="381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48400" y="2727360"/>
              <a:ext cx="4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be0e3"/>
                  </a:solidFill>
                  <a:latin typeface="Arial"/>
                  <a:ea typeface="Times New Roman"/>
                </a:rPr>
                <a:t>t-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686800" y="1295280"/>
              <a:ext cx="0" cy="5257800"/>
            </a:xfrm>
            <a:prstGeom prst="line">
              <a:avLst/>
            </a:prstGeom>
            <a:ln cap="rnd" w="9360">
              <a:solidFill>
                <a:srgbClr val="66ff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"/>
            <p:cNvGrpSpPr/>
            <p:nvPr/>
          </p:nvGrpSpPr>
          <p:grpSpPr>
            <a:xfrm>
              <a:off x="228600" y="4481640"/>
              <a:ext cx="8839080" cy="337320"/>
              <a:chOff x="228600" y="4481640"/>
              <a:chExt cx="8839080" cy="337320"/>
            </a:xfrm>
          </p:grpSpPr>
          <p:sp>
            <p:nvSpPr>
              <p:cNvPr id="940" name=""/>
              <p:cNvSpPr/>
              <p:nvPr/>
            </p:nvSpPr>
            <p:spPr>
              <a:xfrm>
                <a:off x="228600" y="4802400"/>
                <a:ext cx="8839080" cy="0"/>
              </a:xfrm>
              <a:prstGeom prst="line">
                <a:avLst/>
              </a:prstGeom>
              <a:ln w="38160">
                <a:solidFill>
                  <a:srgbClr val="66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36160" y="4481640"/>
                <a:ext cx="461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bbe0e3"/>
                    </a:solidFill>
                    <a:latin typeface="Arial"/>
                    <a:ea typeface="Times New Roman"/>
                  </a:rPr>
                  <a:t>t-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2" name=""/>
            <p:cNvSpPr/>
            <p:nvPr/>
          </p:nvSpPr>
          <p:spPr>
            <a:xfrm>
              <a:off x="2286000" y="60958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asado presente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808600" y="64450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resente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086600" y="612792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Futuro presente</a:t>
              </a:r>
              <a:r>
                <a:rPr b="1" lang="es-MX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0" y="1820880"/>
            <a:ext cx="8651880" cy="1074600"/>
            <a:chOff x="0" y="1820880"/>
            <a:chExt cx="8651880" cy="1074600"/>
          </a:xfrm>
        </p:grpSpPr>
        <p:grpSp>
          <p:nvGrpSpPr>
            <p:cNvPr id="946" name=""/>
            <p:cNvGrpSpPr/>
            <p:nvPr/>
          </p:nvGrpSpPr>
          <p:grpSpPr>
            <a:xfrm>
              <a:off x="4648320" y="1820880"/>
              <a:ext cx="2241360" cy="1074600"/>
              <a:chOff x="4648320" y="1820880"/>
              <a:chExt cx="2241360" cy="1074600"/>
            </a:xfrm>
          </p:grpSpPr>
          <p:grpSp>
            <p:nvGrpSpPr>
              <p:cNvPr id="947" name=""/>
              <p:cNvGrpSpPr/>
              <p:nvPr/>
            </p:nvGrpSpPr>
            <p:grpSpPr>
              <a:xfrm>
                <a:off x="4648320" y="2438280"/>
                <a:ext cx="726480" cy="457200"/>
                <a:chOff x="4648320" y="2438280"/>
                <a:chExt cx="726480" cy="457200"/>
              </a:xfrm>
            </p:grpSpPr>
            <p:sp>
              <p:nvSpPr>
                <p:cNvPr id="948" name=""/>
                <p:cNvSpPr/>
                <p:nvPr/>
              </p:nvSpPr>
              <p:spPr>
                <a:xfrm>
                  <a:off x="4648320" y="24382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689360" y="25146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950" name=""/>
              <p:cNvCxnSpPr>
                <a:stCxn id="951" idx="0"/>
                <a:endCxn id="948" idx="0"/>
              </p:cNvCxnSpPr>
              <p:nvPr/>
            </p:nvCxnSpPr>
            <p:spPr>
              <a:xfrm rot="5400000">
                <a:off x="5938920" y="1489680"/>
                <a:ext cx="2160" cy="1899360"/>
              </a:xfrm>
              <a:prstGeom prst="curvedConnector5">
                <a:avLst>
                  <a:gd name="adj1" fmla="val -34300000"/>
                  <a:gd name="adj2" fmla="val 49990"/>
                  <a:gd name="adj3" fmla="val -343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952" name=""/>
            <p:cNvGrpSpPr/>
            <p:nvPr/>
          </p:nvGrpSpPr>
          <p:grpSpPr>
            <a:xfrm>
              <a:off x="3155400" y="1840680"/>
              <a:ext cx="3133800" cy="1054800"/>
              <a:chOff x="3155400" y="1840680"/>
              <a:chExt cx="3133800" cy="1054800"/>
            </a:xfrm>
          </p:grpSpPr>
          <p:grpSp>
            <p:nvGrpSpPr>
              <p:cNvPr id="953" name=""/>
              <p:cNvGrpSpPr/>
              <p:nvPr/>
            </p:nvGrpSpPr>
            <p:grpSpPr>
              <a:xfrm>
                <a:off x="5562720" y="2438280"/>
                <a:ext cx="726480" cy="457200"/>
                <a:chOff x="5562720" y="2438280"/>
                <a:chExt cx="726480" cy="457200"/>
              </a:xfrm>
            </p:grpSpPr>
            <p:sp>
              <p:nvSpPr>
                <p:cNvPr id="954" name=""/>
                <p:cNvSpPr/>
                <p:nvPr/>
              </p:nvSpPr>
              <p:spPr>
                <a:xfrm>
                  <a:off x="5562720" y="24382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603760" y="25146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956" name=""/>
              <p:cNvCxnSpPr>
                <a:stCxn id="954" idx="0"/>
                <a:endCxn id="957" idx="0"/>
              </p:cNvCxnSpPr>
              <p:nvPr/>
            </p:nvCxnSpPr>
            <p:spPr>
              <a:xfrm rot="5400000">
                <a:off x="4529160" y="1064160"/>
                <a:ext cx="2160" cy="2750040"/>
              </a:xfrm>
              <a:prstGeom prst="curvedConnector5">
                <a:avLst>
                  <a:gd name="adj1" fmla="val -33200000"/>
                  <a:gd name="adj2" fmla="val 50000"/>
                  <a:gd name="adj3" fmla="val -332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958" name=""/>
            <p:cNvGrpSpPr/>
            <p:nvPr/>
          </p:nvGrpSpPr>
          <p:grpSpPr>
            <a:xfrm>
              <a:off x="6889320" y="2179080"/>
              <a:ext cx="1762560" cy="716400"/>
              <a:chOff x="6889320" y="2179080"/>
              <a:chExt cx="1762560" cy="716400"/>
            </a:xfrm>
          </p:grpSpPr>
          <p:grpSp>
            <p:nvGrpSpPr>
              <p:cNvPr id="959" name=""/>
              <p:cNvGrpSpPr/>
              <p:nvPr/>
            </p:nvGrpSpPr>
            <p:grpSpPr>
              <a:xfrm>
                <a:off x="7924680" y="2438280"/>
                <a:ext cx="727200" cy="457200"/>
                <a:chOff x="7924680" y="2438280"/>
                <a:chExt cx="727200" cy="457200"/>
              </a:xfrm>
            </p:grpSpPr>
            <p:sp>
              <p:nvSpPr>
                <p:cNvPr id="960" name=""/>
                <p:cNvSpPr/>
                <p:nvPr/>
              </p:nvSpPr>
              <p:spPr>
                <a:xfrm>
                  <a:off x="7924680" y="2438280"/>
                  <a:ext cx="685800" cy="457200"/>
                </a:xfrm>
                <a:prstGeom prst="rect">
                  <a:avLst/>
                </a:prstGeom>
                <a:noFill/>
                <a:ln cap="rnd" w="9360">
                  <a:solidFill>
                    <a:srgbClr val="bbe0e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796608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ff00"/>
                      </a:solidFill>
                      <a:latin typeface="Arial"/>
                      <a:ea typeface="Times New Roman"/>
                    </a:rPr>
                    <a:t>eL-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962" name=""/>
              <p:cNvCxnSpPr>
                <a:stCxn id="960" idx="0"/>
                <a:endCxn id="951" idx="0"/>
              </p:cNvCxnSpPr>
              <p:nvPr/>
            </p:nvCxnSpPr>
            <p:spPr>
              <a:xfrm rot="5400000">
                <a:off x="7577280" y="1749960"/>
                <a:ext cx="2160" cy="1378800"/>
              </a:xfrm>
              <a:prstGeom prst="curvedConnector5">
                <a:avLst>
                  <a:gd name="adj1" fmla="val -14400000"/>
                  <a:gd name="adj2" fmla="val 49986"/>
                  <a:gd name="adj3" fmla="val -144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grpSp>
          <p:nvGrpSpPr>
            <p:cNvPr id="963" name=""/>
            <p:cNvGrpSpPr/>
            <p:nvPr/>
          </p:nvGrpSpPr>
          <p:grpSpPr>
            <a:xfrm>
              <a:off x="1066680" y="2179080"/>
              <a:ext cx="3924360" cy="716400"/>
              <a:chOff x="1066680" y="2179080"/>
              <a:chExt cx="3924360" cy="716400"/>
            </a:xfrm>
          </p:grpSpPr>
          <p:grpSp>
            <p:nvGrpSpPr>
              <p:cNvPr id="964" name=""/>
              <p:cNvGrpSpPr/>
              <p:nvPr/>
            </p:nvGrpSpPr>
            <p:grpSpPr>
              <a:xfrm>
                <a:off x="1066680" y="2438280"/>
                <a:ext cx="727200" cy="457200"/>
                <a:chOff x="1066680" y="2438280"/>
                <a:chExt cx="727200" cy="457200"/>
              </a:xfrm>
            </p:grpSpPr>
            <p:sp>
              <p:nvSpPr>
                <p:cNvPr id="965" name=""/>
                <p:cNvSpPr/>
                <p:nvPr/>
              </p:nvSpPr>
              <p:spPr>
                <a:xfrm>
                  <a:off x="106668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110808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967" name=""/>
              <p:cNvCxnSpPr>
                <a:stCxn id="948" idx="0"/>
                <a:endCxn id="965" idx="0"/>
              </p:cNvCxnSpPr>
              <p:nvPr/>
            </p:nvCxnSpPr>
            <p:spPr>
              <a:xfrm rot="5400000">
                <a:off x="3198960" y="648360"/>
                <a:ext cx="2160" cy="3582000"/>
              </a:xfrm>
              <a:prstGeom prst="curvedConnector5">
                <a:avLst>
                  <a:gd name="adj1" fmla="val -14400000"/>
                  <a:gd name="adj2" fmla="val 49994"/>
                  <a:gd name="adj3" fmla="val -144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grpSp>
          <p:nvGrpSpPr>
            <p:cNvPr id="968" name=""/>
            <p:cNvGrpSpPr/>
            <p:nvPr/>
          </p:nvGrpSpPr>
          <p:grpSpPr>
            <a:xfrm>
              <a:off x="3692520" y="2438280"/>
              <a:ext cx="727200" cy="457200"/>
              <a:chOff x="3692520" y="2438280"/>
              <a:chExt cx="727200" cy="457200"/>
            </a:xfrm>
          </p:grpSpPr>
          <p:sp>
            <p:nvSpPr>
              <p:cNvPr id="969" name=""/>
              <p:cNvSpPr/>
              <p:nvPr/>
            </p:nvSpPr>
            <p:spPr>
              <a:xfrm>
                <a:off x="3692520" y="24382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33920" y="25146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L-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971" name=""/>
            <p:cNvCxnSpPr>
              <a:stCxn id="948" idx="0"/>
              <a:endCxn id="969" idx="0"/>
            </p:cNvCxnSpPr>
            <p:nvPr/>
          </p:nvCxnSpPr>
          <p:spPr>
            <a:xfrm rot="5400000">
              <a:off x="4511880" y="1960560"/>
              <a:ext cx="2520" cy="956160"/>
            </a:xfrm>
            <a:prstGeom prst="curvedConnector5">
              <a:avLst>
                <a:gd name="adj1" fmla="val -14400000"/>
                <a:gd name="adj2" fmla="val 49981"/>
                <a:gd name="adj3" fmla="val -14400000"/>
              </a:avLst>
            </a:prstGeom>
            <a:ln w="3240">
              <a:solidFill>
                <a:srgbClr val="bbe0e3"/>
              </a:solidFill>
              <a:miter/>
              <a:tailEnd len="med" type="triangle" w="med"/>
            </a:ln>
          </p:spPr>
        </p:cxnSp>
        <p:grpSp>
          <p:nvGrpSpPr>
            <p:cNvPr id="972" name=""/>
            <p:cNvGrpSpPr/>
            <p:nvPr/>
          </p:nvGrpSpPr>
          <p:grpSpPr>
            <a:xfrm>
              <a:off x="2813040" y="2179080"/>
              <a:ext cx="1222200" cy="716400"/>
              <a:chOff x="2813040" y="2179080"/>
              <a:chExt cx="1222200" cy="716400"/>
            </a:xfrm>
          </p:grpSpPr>
          <p:grpSp>
            <p:nvGrpSpPr>
              <p:cNvPr id="973" name=""/>
              <p:cNvGrpSpPr/>
              <p:nvPr/>
            </p:nvGrpSpPr>
            <p:grpSpPr>
              <a:xfrm>
                <a:off x="2813040" y="2438280"/>
                <a:ext cx="727200" cy="457200"/>
                <a:chOff x="2813040" y="2438280"/>
                <a:chExt cx="727200" cy="457200"/>
              </a:xfrm>
            </p:grpSpPr>
            <p:sp>
              <p:nvSpPr>
                <p:cNvPr id="957" name=""/>
                <p:cNvSpPr/>
                <p:nvPr/>
              </p:nvSpPr>
              <p:spPr>
                <a:xfrm>
                  <a:off x="281304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285444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975" name=""/>
              <p:cNvCxnSpPr>
                <a:stCxn id="969" idx="0"/>
                <a:endCxn id="957" idx="0"/>
              </p:cNvCxnSpPr>
              <p:nvPr/>
            </p:nvCxnSpPr>
            <p:spPr>
              <a:xfrm rot="5400000">
                <a:off x="3594240" y="1999080"/>
                <a:ext cx="2160" cy="880200"/>
              </a:xfrm>
              <a:prstGeom prst="curvedConnector5">
                <a:avLst>
                  <a:gd name="adj1" fmla="val -14400000"/>
                  <a:gd name="adj2" fmla="val 50000"/>
                  <a:gd name="adj3" fmla="val -144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976" name=""/>
            <p:cNvGrpSpPr/>
            <p:nvPr/>
          </p:nvGrpSpPr>
          <p:grpSpPr>
            <a:xfrm>
              <a:off x="6546960" y="2438280"/>
              <a:ext cx="726480" cy="457200"/>
              <a:chOff x="6546960" y="2438280"/>
              <a:chExt cx="726480" cy="457200"/>
            </a:xfrm>
          </p:grpSpPr>
          <p:sp>
            <p:nvSpPr>
              <p:cNvPr id="951" name=""/>
              <p:cNvSpPr/>
              <p:nvPr/>
            </p:nvSpPr>
            <p:spPr>
              <a:xfrm>
                <a:off x="6546960" y="2438280"/>
                <a:ext cx="68544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588000" y="2514600"/>
                <a:ext cx="68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L-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1933560" y="1820880"/>
              <a:ext cx="2102040" cy="1074600"/>
              <a:chOff x="1933560" y="1820880"/>
              <a:chExt cx="2102040" cy="1074600"/>
            </a:xfrm>
          </p:grpSpPr>
          <p:grpSp>
            <p:nvGrpSpPr>
              <p:cNvPr id="979" name=""/>
              <p:cNvGrpSpPr/>
              <p:nvPr/>
            </p:nvGrpSpPr>
            <p:grpSpPr>
              <a:xfrm>
                <a:off x="1933560" y="2438280"/>
                <a:ext cx="727200" cy="457200"/>
                <a:chOff x="1933560" y="2438280"/>
                <a:chExt cx="727200" cy="457200"/>
              </a:xfrm>
            </p:grpSpPr>
            <p:sp>
              <p:nvSpPr>
                <p:cNvPr id="980" name=""/>
                <p:cNvSpPr/>
                <p:nvPr/>
              </p:nvSpPr>
              <p:spPr>
                <a:xfrm>
                  <a:off x="193356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197496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982" name=""/>
              <p:cNvCxnSpPr>
                <a:stCxn id="969" idx="0"/>
                <a:endCxn id="980" idx="0"/>
              </p:cNvCxnSpPr>
              <p:nvPr/>
            </p:nvCxnSpPr>
            <p:spPr>
              <a:xfrm rot="5400000">
                <a:off x="3154680" y="1559520"/>
                <a:ext cx="2160" cy="1759680"/>
              </a:xfrm>
              <a:prstGeom prst="curvedConnector5">
                <a:avLst>
                  <a:gd name="adj1" fmla="val -34300000"/>
                  <a:gd name="adj2" fmla="val 49989"/>
                  <a:gd name="adj3" fmla="val -343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sp>
          <p:nvSpPr>
            <p:cNvPr id="983" name=""/>
            <p:cNvSpPr/>
            <p:nvPr/>
          </p:nvSpPr>
          <p:spPr>
            <a:xfrm>
              <a:off x="0" y="190512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Comunicación 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120600" y="4952880"/>
            <a:ext cx="8531280" cy="1059120"/>
            <a:chOff x="120600" y="4952880"/>
            <a:chExt cx="8531280" cy="1059120"/>
          </a:xfrm>
        </p:grpSpPr>
        <p:sp>
          <p:nvSpPr>
            <p:cNvPr id="985" name=""/>
            <p:cNvSpPr/>
            <p:nvPr/>
          </p:nvSpPr>
          <p:spPr>
            <a:xfrm>
              <a:off x="120600" y="563868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Comunicación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"/>
            <p:cNvGrpSpPr/>
            <p:nvPr/>
          </p:nvGrpSpPr>
          <p:grpSpPr>
            <a:xfrm>
              <a:off x="1066680" y="4952880"/>
              <a:ext cx="7585200" cy="1059120"/>
              <a:chOff x="1066680" y="4952880"/>
              <a:chExt cx="7585200" cy="1059120"/>
            </a:xfrm>
          </p:grpSpPr>
          <p:grpSp>
            <p:nvGrpSpPr>
              <p:cNvPr id="987" name=""/>
              <p:cNvGrpSpPr/>
              <p:nvPr/>
            </p:nvGrpSpPr>
            <p:grpSpPr>
              <a:xfrm>
                <a:off x="4648320" y="4952880"/>
                <a:ext cx="726480" cy="457200"/>
                <a:chOff x="4648320" y="4952880"/>
                <a:chExt cx="726480" cy="4572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4648320" y="49528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4689360" y="50292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5562720" y="4952880"/>
                <a:ext cx="726480" cy="457200"/>
                <a:chOff x="5562720" y="4952880"/>
                <a:chExt cx="726480" cy="4572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562720" y="49528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5603760" y="50292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7924680" y="4952880"/>
                <a:ext cx="727200" cy="457200"/>
                <a:chOff x="7924680" y="4952880"/>
                <a:chExt cx="727200" cy="4572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7924680" y="4952880"/>
                  <a:ext cx="685800" cy="457200"/>
                </a:xfrm>
                <a:prstGeom prst="rect">
                  <a:avLst/>
                </a:prstGeom>
                <a:noFill/>
                <a:ln cap="rnd" w="9360">
                  <a:solidFill>
                    <a:srgbClr val="bbe0e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96608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ff00"/>
                      </a:solidFill>
                      <a:latin typeface="Arial"/>
                      <a:ea typeface="Times New Roman"/>
                    </a:rPr>
                    <a:t>eD-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1066680" y="4952880"/>
                <a:ext cx="727200" cy="457200"/>
                <a:chOff x="1066680" y="4952880"/>
                <a:chExt cx="727200" cy="4572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106668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110808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3692520" y="4952880"/>
                <a:ext cx="727200" cy="457200"/>
                <a:chOff x="3692520" y="4952880"/>
                <a:chExt cx="727200" cy="4572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369252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373392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2813040" y="4952880"/>
                <a:ext cx="727200" cy="457200"/>
                <a:chOff x="2813040" y="4952880"/>
                <a:chExt cx="727200" cy="4572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281304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285444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1933560" y="4952880"/>
                <a:ext cx="727200" cy="457200"/>
                <a:chOff x="1933560" y="4952880"/>
                <a:chExt cx="727200" cy="4572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193356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197496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8" name=""/>
              <p:cNvSpPr/>
              <p:nvPr/>
            </p:nvSpPr>
            <p:spPr>
              <a:xfrm>
                <a:off x="6535800" y="49528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576840" y="50292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D-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10" name=""/>
              <p:cNvCxnSpPr>
                <a:stCxn id="1008" idx="2"/>
                <a:endCxn id="991" idx="2"/>
              </p:cNvCxnSpPr>
              <p:nvPr/>
            </p:nvCxnSpPr>
            <p:spPr>
              <a:xfrm rot="5400000">
                <a:off x="6390360" y="4924080"/>
                <a:ext cx="2520" cy="97380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011" name=""/>
              <p:cNvCxnSpPr>
                <a:stCxn id="991" idx="2"/>
                <a:endCxn id="1003" idx="2"/>
              </p:cNvCxnSpPr>
              <p:nvPr/>
            </p:nvCxnSpPr>
            <p:spPr>
              <a:xfrm rot="5400000">
                <a:off x="4529160" y="4035960"/>
                <a:ext cx="2520" cy="275004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cap="rnd" w="9360">
                <a:solidFill>
                  <a:srgbClr val="bbe0e3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  <p:cxnSp>
            <p:nvCxnSpPr>
              <p:cNvPr id="1012" name=""/>
              <p:cNvCxnSpPr>
                <a:stCxn id="988" idx="2"/>
                <a:endCxn id="1006" idx="2"/>
              </p:cNvCxnSpPr>
              <p:nvPr/>
            </p:nvCxnSpPr>
            <p:spPr>
              <a:xfrm rot="5400000">
                <a:off x="3632400" y="4053600"/>
                <a:ext cx="2520" cy="2715120"/>
              </a:xfrm>
              <a:prstGeom prst="curvedConnector5">
                <a:avLst>
                  <a:gd name="adj1" fmla="val 27883333"/>
                  <a:gd name="adj2" fmla="val 49993"/>
                  <a:gd name="adj3" fmla="val 278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013" name=""/>
              <p:cNvCxnSpPr>
                <a:stCxn id="1000" idx="2"/>
                <a:endCxn id="997" idx="2"/>
              </p:cNvCxnSpPr>
              <p:nvPr/>
            </p:nvCxnSpPr>
            <p:spPr>
              <a:xfrm rot="5400000">
                <a:off x="2721240" y="4097880"/>
                <a:ext cx="2520" cy="2626560"/>
              </a:xfrm>
              <a:prstGeom prst="curvedConnector5">
                <a:avLst>
                  <a:gd name="adj1" fmla="val 24483333"/>
                  <a:gd name="adj2" fmla="val 49993"/>
                  <a:gd name="adj3" fmla="val 244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014" name=""/>
              <p:cNvCxnSpPr>
                <a:stCxn id="991" idx="2"/>
                <a:endCxn id="1000" idx="2"/>
              </p:cNvCxnSpPr>
              <p:nvPr/>
            </p:nvCxnSpPr>
            <p:spPr>
              <a:xfrm rot="5400000">
                <a:off x="4969080" y="4475880"/>
                <a:ext cx="2520" cy="1870560"/>
              </a:xfrm>
              <a:prstGeom prst="curvedConnector5">
                <a:avLst>
                  <a:gd name="adj1" fmla="val 24383333"/>
                  <a:gd name="adj2" fmla="val 49990"/>
                  <a:gd name="adj3" fmla="val 243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015" name=""/>
              <p:cNvCxnSpPr>
                <a:stCxn id="994" idx="2"/>
                <a:endCxn id="1008" idx="2"/>
              </p:cNvCxnSpPr>
              <p:nvPr/>
            </p:nvCxnSpPr>
            <p:spPr>
              <a:xfrm rot="5400000">
                <a:off x="7571520" y="4716000"/>
                <a:ext cx="2520" cy="138996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cap="rnd" w="9360">
                <a:solidFill>
                  <a:srgbClr val="bbe0e3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</p:grp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0" y="0"/>
            <a:ext cx="2819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1559520" y="1475280"/>
            <a:ext cx="6183720" cy="5133240"/>
            <a:chOff x="1559520" y="1475280"/>
            <a:chExt cx="6183720" cy="5133240"/>
          </a:xfrm>
        </p:grpSpPr>
        <p:sp>
          <p:nvSpPr>
            <p:cNvPr id="1018" name=""/>
            <p:cNvSpPr/>
            <p:nvPr/>
          </p:nvSpPr>
          <p:spPr>
            <a:xfrm rot="820200">
              <a:off x="3927240" y="5040360"/>
              <a:ext cx="3733560" cy="1143000"/>
            </a:xfrm>
            <a:prstGeom prst="ellipse">
              <a:avLst/>
            </a:prstGeom>
            <a:gradFill rotWithShape="0">
              <a:gsLst>
                <a:gs pos="0">
                  <a:srgbClr val="5e5e5e"/>
                </a:gs>
                <a:gs pos="100000">
                  <a:srgbClr val="cc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rot="954000">
              <a:off x="4537080" y="5497560"/>
              <a:ext cx="1066680" cy="380880"/>
            </a:xfrm>
            <a:custGeom>
              <a:avLst/>
              <a:gdLst>
                <a:gd name="textAreaLeft" fmla="*/ 186480 w 1066680"/>
                <a:gd name="textAreaRight" fmla="*/ 773280 w 1066680"/>
                <a:gd name="textAreaTop" fmla="*/ 50760 h 380880"/>
                <a:gd name="textAreaBottom" fmla="*/ 330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569840" y="4867200"/>
              <a:ext cx="23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689360" y="4414680"/>
              <a:ext cx="0" cy="457200"/>
            </a:xfrm>
            <a:prstGeom prst="line">
              <a:avLst/>
            </a:prstGeom>
            <a:ln w="38160">
              <a:solidFill>
                <a:srgbClr val="ff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rot="820200">
              <a:off x="1641240" y="1900080"/>
              <a:ext cx="3733560" cy="1143000"/>
            </a:xfrm>
            <a:prstGeom prst="ellipse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5e75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rot="1483800">
              <a:off x="3851280" y="2205000"/>
              <a:ext cx="1219320" cy="457200"/>
            </a:xfrm>
            <a:custGeom>
              <a:avLst/>
              <a:gdLst>
                <a:gd name="textAreaLeft" fmla="*/ 213120 w 1219320"/>
                <a:gd name="textAreaRight" fmla="*/ 884160 w 121932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544640" y="28098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4231080" y="1741320"/>
              <a:ext cx="1809000" cy="2745000"/>
              <a:chOff x="4231080" y="1741320"/>
              <a:chExt cx="1809000" cy="2745000"/>
            </a:xfrm>
          </p:grpSpPr>
          <p:cxnSp>
            <p:nvCxnSpPr>
              <p:cNvPr id="1026" name=""/>
              <p:cNvCxnSpPr>
                <a:stCxn id="1027" idx="0"/>
                <a:endCxn id="1023" idx="0"/>
              </p:cNvCxnSpPr>
              <p:nvPr/>
            </p:nvCxnSpPr>
            <p:spPr>
              <a:xfrm rot="10800000">
                <a:off x="4500000" y="2199600"/>
                <a:ext cx="1540440" cy="2286720"/>
              </a:xfrm>
              <a:prstGeom prst="curvedConnector5">
                <a:avLst>
                  <a:gd name="adj1" fmla="val 29172"/>
                  <a:gd name="adj2" fmla="val 60022"/>
                  <a:gd name="adj3" fmla="val 29172"/>
                </a:avLst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sp>
            <p:nvSpPr>
              <p:cNvPr id="1028" name=""/>
              <p:cNvSpPr/>
              <p:nvPr/>
            </p:nvSpPr>
            <p:spPr>
              <a:xfrm>
                <a:off x="4689720" y="3271680"/>
                <a:ext cx="0" cy="762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4232520" y="3500280"/>
                <a:ext cx="9144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232520" y="3652920"/>
                <a:ext cx="9144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231080" y="4013280"/>
                <a:ext cx="1028160" cy="398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ff66"/>
                    </a:solidFill>
                    <a:latin typeface="Arial Narrow"/>
                  </a:rPr>
                  <a:t>[ si / cn 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2" name=""/>
          <p:cNvSpPr/>
          <p:nvPr/>
        </p:nvSpPr>
        <p:spPr>
          <a:xfrm>
            <a:off x="556560" y="685800"/>
            <a:ext cx="174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Verdana"/>
              </a:rPr>
              <a:t>Irri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0" y="1824120"/>
            <a:ext cx="9337680" cy="4435560"/>
            <a:chOff x="0" y="1824120"/>
            <a:chExt cx="9337680" cy="4435560"/>
          </a:xfrm>
        </p:grpSpPr>
        <p:grpSp>
          <p:nvGrpSpPr>
            <p:cNvPr id="1034" name=""/>
            <p:cNvGrpSpPr/>
            <p:nvPr/>
          </p:nvGrpSpPr>
          <p:grpSpPr>
            <a:xfrm>
              <a:off x="0" y="1824120"/>
              <a:ext cx="3267360" cy="3546360"/>
              <a:chOff x="0" y="1824120"/>
              <a:chExt cx="3267360" cy="3546360"/>
            </a:xfrm>
          </p:grpSpPr>
          <p:sp>
            <p:nvSpPr>
              <p:cNvPr id="1035" name=""/>
              <p:cNvSpPr/>
              <p:nvPr/>
            </p:nvSpPr>
            <p:spPr>
              <a:xfrm rot="5400000">
                <a:off x="-139320" y="1963440"/>
                <a:ext cx="3546360" cy="3267360"/>
              </a:xfrm>
              <a:custGeom>
                <a:avLst/>
                <a:gdLst>
                  <a:gd name="textAreaLeft" fmla="*/ 0 w 3546360"/>
                  <a:gd name="textAreaRight" fmla="*/ 3546720 w 3546360"/>
                  <a:gd name="textAreaTop" fmla="*/ 0 h 3267360"/>
                  <a:gd name="textAreaBottom" fmla="*/ 3267720 h 326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00000"/>
                    <a:lnTo>
                      <a:pt x="0" y="10800"/>
                    </a:lnTo>
                    <a:arcTo wR="10800" hR="10800" stAng="10800000" swAng="1080000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66">
                      <a:alpha val="50196"/>
                    </a:srgbClr>
                  </a:gs>
                  <a:gs pos="100000">
                    <a:srgbClr val="ccff66">
                      <a:alpha val="50196"/>
                    </a:srgbClr>
                  </a:gs>
                </a:gsLst>
                <a:lin ang="5400000"/>
              </a:gradFill>
              <a:ln w="5724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44880" y="4678200"/>
                <a:ext cx="375840" cy="48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ff66"/>
                    </a:solidFill>
                    <a:latin typeface="Arial Narrow"/>
                  </a:rPr>
                  <a:t>D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638000" y="4629240"/>
                <a:ext cx="54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626920" y="2846520"/>
                <a:ext cx="424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816200" y="2109960"/>
                <a:ext cx="36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529000" y="4059360"/>
                <a:ext cx="48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605960" y="3119400"/>
                <a:ext cx="6426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Alt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6070680" y="2712960"/>
              <a:ext cx="3267000" cy="3546720"/>
              <a:chOff x="6070680" y="2712960"/>
              <a:chExt cx="3267000" cy="3546720"/>
            </a:xfrm>
          </p:grpSpPr>
          <p:sp>
            <p:nvSpPr>
              <p:cNvPr id="1043" name=""/>
              <p:cNvSpPr/>
              <p:nvPr/>
            </p:nvSpPr>
            <p:spPr>
              <a:xfrm>
                <a:off x="8532720" y="2895480"/>
                <a:ext cx="346680" cy="48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ff66"/>
                    </a:solidFill>
                    <a:latin typeface="Arial Narrow"/>
                  </a:rPr>
                  <a:t>L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16200000">
                <a:off x="5930640" y="2852640"/>
                <a:ext cx="3546720" cy="3267000"/>
              </a:xfrm>
              <a:custGeom>
                <a:avLst/>
                <a:gdLst>
                  <a:gd name="textAreaLeft" fmla="*/ 0 w 3546720"/>
                  <a:gd name="textAreaRight" fmla="*/ 3547080 w 3546720"/>
                  <a:gd name="textAreaTop" fmla="*/ 0 h 3267000"/>
                  <a:gd name="textAreaBottom" fmla="*/ 3267360 h 326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00000"/>
                    <a:lnTo>
                      <a:pt x="0" y="10800"/>
                    </a:lnTo>
                    <a:arcTo wR="10800" hR="10800" stAng="10800000" swAng="1080000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>
                      <a:alpha val="50196"/>
                    </a:srgbClr>
                  </a:gs>
                  <a:gs pos="100000">
                    <a:srgbClr val="5e5e5e">
                      <a:alpha val="50196"/>
                    </a:srgbClr>
                  </a:gs>
                </a:gsLst>
                <a:lin ang="5400000"/>
              </a:gradFill>
              <a:ln w="5724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096320" y="5492880"/>
                <a:ext cx="29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311960" y="2903400"/>
                <a:ext cx="470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504480" y="3529080"/>
                <a:ext cx="41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413040" y="4730760"/>
                <a:ext cx="35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131960" y="4475160"/>
                <a:ext cx="5634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Eg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/>
          <p:nvPr/>
        </p:nvSpPr>
        <p:spPr>
          <a:xfrm>
            <a:off x="5867280" y="0"/>
            <a:ext cx="3276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7544880" y="349200"/>
            <a:ext cx="12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ff00"/>
                </a:solidFill>
                <a:latin typeface="Verdana"/>
              </a:rPr>
              <a:t>Irr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228600" y="914400"/>
            <a:ext cx="9067680" cy="5868000"/>
            <a:chOff x="228600" y="914400"/>
            <a:chExt cx="9067680" cy="5868000"/>
          </a:xfrm>
        </p:grpSpPr>
        <p:sp>
          <p:nvSpPr>
            <p:cNvPr id="1052" name=""/>
            <p:cNvSpPr/>
            <p:nvPr/>
          </p:nvSpPr>
          <p:spPr>
            <a:xfrm>
              <a:off x="2286000" y="137160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asado presente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808600" y="91440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resente</a:t>
              </a:r>
              <a:r>
                <a:rPr b="1" lang="es-MX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086600" y="14032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Futuro presente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066680" y="1295280"/>
              <a:ext cx="0" cy="5181840"/>
            </a:xfrm>
            <a:prstGeom prst="line">
              <a:avLst/>
            </a:prstGeom>
            <a:ln cap="rnd" w="9360">
              <a:solidFill>
                <a:srgbClr val="66ff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553080" y="1295280"/>
              <a:ext cx="0" cy="5257800"/>
            </a:xfrm>
            <a:prstGeom prst="line">
              <a:avLst/>
            </a:prstGeom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238880" y="1295280"/>
              <a:ext cx="0" cy="5257800"/>
            </a:xfrm>
            <a:prstGeom prst="line">
              <a:avLst/>
            </a:prstGeom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28600" y="3048120"/>
              <a:ext cx="8839080" cy="0"/>
            </a:xfrm>
            <a:prstGeom prst="line">
              <a:avLst/>
            </a:prstGeom>
            <a:ln w="381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48400" y="2727360"/>
              <a:ext cx="4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be0e3"/>
                  </a:solidFill>
                  <a:latin typeface="Arial"/>
                  <a:ea typeface="Times New Roman"/>
                </a:rPr>
                <a:t>t-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686800" y="1295280"/>
              <a:ext cx="0" cy="5257800"/>
            </a:xfrm>
            <a:prstGeom prst="line">
              <a:avLst/>
            </a:prstGeom>
            <a:ln cap="rnd" w="9360">
              <a:solidFill>
                <a:srgbClr val="66ff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228600" y="4481640"/>
              <a:ext cx="8839080" cy="337320"/>
              <a:chOff x="228600" y="4481640"/>
              <a:chExt cx="8839080" cy="337320"/>
            </a:xfrm>
          </p:grpSpPr>
          <p:sp>
            <p:nvSpPr>
              <p:cNvPr id="1062" name=""/>
              <p:cNvSpPr/>
              <p:nvPr/>
            </p:nvSpPr>
            <p:spPr>
              <a:xfrm>
                <a:off x="228600" y="4802400"/>
                <a:ext cx="8839080" cy="0"/>
              </a:xfrm>
              <a:prstGeom prst="line">
                <a:avLst/>
              </a:prstGeom>
              <a:ln w="38160">
                <a:solidFill>
                  <a:srgbClr val="66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36160" y="4481640"/>
                <a:ext cx="461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bbe0e3"/>
                    </a:solidFill>
                    <a:latin typeface="Arial"/>
                    <a:ea typeface="Times New Roman"/>
                  </a:rPr>
                  <a:t>t-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4" name=""/>
            <p:cNvSpPr/>
            <p:nvPr/>
          </p:nvSpPr>
          <p:spPr>
            <a:xfrm>
              <a:off x="2286000" y="60958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asado presente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808600" y="64450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resente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086600" y="612792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Futuro presente</a:t>
              </a:r>
              <a:r>
                <a:rPr b="1" lang="es-MX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0" y="1820880"/>
            <a:ext cx="8651880" cy="1074600"/>
            <a:chOff x="0" y="1820880"/>
            <a:chExt cx="8651880" cy="1074600"/>
          </a:xfrm>
        </p:grpSpPr>
        <p:grpSp>
          <p:nvGrpSpPr>
            <p:cNvPr id="1068" name=""/>
            <p:cNvGrpSpPr/>
            <p:nvPr/>
          </p:nvGrpSpPr>
          <p:grpSpPr>
            <a:xfrm>
              <a:off x="4648320" y="1820880"/>
              <a:ext cx="2241360" cy="1074600"/>
              <a:chOff x="4648320" y="1820880"/>
              <a:chExt cx="2241360" cy="1074600"/>
            </a:xfrm>
          </p:grpSpPr>
          <p:grpSp>
            <p:nvGrpSpPr>
              <p:cNvPr id="1069" name=""/>
              <p:cNvGrpSpPr/>
              <p:nvPr/>
            </p:nvGrpSpPr>
            <p:grpSpPr>
              <a:xfrm>
                <a:off x="4648320" y="2438280"/>
                <a:ext cx="726480" cy="457200"/>
                <a:chOff x="4648320" y="2438280"/>
                <a:chExt cx="726480" cy="45720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4648320" y="24382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4689360" y="25146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072" name=""/>
              <p:cNvCxnSpPr>
                <a:stCxn id="1073" idx="0"/>
                <a:endCxn id="1070" idx="0"/>
              </p:cNvCxnSpPr>
              <p:nvPr/>
            </p:nvCxnSpPr>
            <p:spPr>
              <a:xfrm rot="5400000">
                <a:off x="5938920" y="1489680"/>
                <a:ext cx="2160" cy="1899360"/>
              </a:xfrm>
              <a:prstGeom prst="curvedConnector5">
                <a:avLst>
                  <a:gd name="adj1" fmla="val -34300000"/>
                  <a:gd name="adj2" fmla="val 49990"/>
                  <a:gd name="adj3" fmla="val -343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1074" name=""/>
            <p:cNvGrpSpPr/>
            <p:nvPr/>
          </p:nvGrpSpPr>
          <p:grpSpPr>
            <a:xfrm>
              <a:off x="3155400" y="1840680"/>
              <a:ext cx="3133800" cy="1054800"/>
              <a:chOff x="3155400" y="1840680"/>
              <a:chExt cx="3133800" cy="1054800"/>
            </a:xfrm>
          </p:grpSpPr>
          <p:grpSp>
            <p:nvGrpSpPr>
              <p:cNvPr id="1075" name=""/>
              <p:cNvGrpSpPr/>
              <p:nvPr/>
            </p:nvGrpSpPr>
            <p:grpSpPr>
              <a:xfrm>
                <a:off x="5562720" y="2438280"/>
                <a:ext cx="726480" cy="457200"/>
                <a:chOff x="5562720" y="2438280"/>
                <a:chExt cx="726480" cy="457200"/>
              </a:xfrm>
            </p:grpSpPr>
            <p:sp>
              <p:nvSpPr>
                <p:cNvPr id="1076" name=""/>
                <p:cNvSpPr/>
                <p:nvPr/>
              </p:nvSpPr>
              <p:spPr>
                <a:xfrm>
                  <a:off x="5562720" y="24382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5603760" y="25146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078" name=""/>
              <p:cNvCxnSpPr>
                <a:stCxn id="1076" idx="0"/>
                <a:endCxn id="1079" idx="0"/>
              </p:cNvCxnSpPr>
              <p:nvPr/>
            </p:nvCxnSpPr>
            <p:spPr>
              <a:xfrm rot="5400000">
                <a:off x="4529160" y="1064160"/>
                <a:ext cx="2160" cy="2750040"/>
              </a:xfrm>
              <a:prstGeom prst="curvedConnector5">
                <a:avLst>
                  <a:gd name="adj1" fmla="val -33200000"/>
                  <a:gd name="adj2" fmla="val 50000"/>
                  <a:gd name="adj3" fmla="val -332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1080" name=""/>
            <p:cNvGrpSpPr/>
            <p:nvPr/>
          </p:nvGrpSpPr>
          <p:grpSpPr>
            <a:xfrm>
              <a:off x="6889320" y="2179080"/>
              <a:ext cx="1762560" cy="716400"/>
              <a:chOff x="6889320" y="2179080"/>
              <a:chExt cx="1762560" cy="716400"/>
            </a:xfrm>
          </p:grpSpPr>
          <p:grpSp>
            <p:nvGrpSpPr>
              <p:cNvPr id="1081" name=""/>
              <p:cNvGrpSpPr/>
              <p:nvPr/>
            </p:nvGrpSpPr>
            <p:grpSpPr>
              <a:xfrm>
                <a:off x="7924680" y="2438280"/>
                <a:ext cx="727200" cy="457200"/>
                <a:chOff x="7924680" y="2438280"/>
                <a:chExt cx="727200" cy="457200"/>
              </a:xfrm>
            </p:grpSpPr>
            <p:sp>
              <p:nvSpPr>
                <p:cNvPr id="1082" name=""/>
                <p:cNvSpPr/>
                <p:nvPr/>
              </p:nvSpPr>
              <p:spPr>
                <a:xfrm>
                  <a:off x="7924680" y="2438280"/>
                  <a:ext cx="685800" cy="457200"/>
                </a:xfrm>
                <a:prstGeom prst="rect">
                  <a:avLst/>
                </a:prstGeom>
                <a:noFill/>
                <a:ln cap="rnd" w="9360">
                  <a:solidFill>
                    <a:srgbClr val="bbe0e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796608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ff00"/>
                      </a:solidFill>
                      <a:latin typeface="Arial"/>
                      <a:ea typeface="Times New Roman"/>
                    </a:rPr>
                    <a:t>eL-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084" name=""/>
              <p:cNvCxnSpPr>
                <a:stCxn id="1082" idx="0"/>
                <a:endCxn id="1073" idx="0"/>
              </p:cNvCxnSpPr>
              <p:nvPr/>
            </p:nvCxnSpPr>
            <p:spPr>
              <a:xfrm rot="5400000">
                <a:off x="7577280" y="1749960"/>
                <a:ext cx="2160" cy="1378800"/>
              </a:xfrm>
              <a:prstGeom prst="curvedConnector5">
                <a:avLst>
                  <a:gd name="adj1" fmla="val -14400000"/>
                  <a:gd name="adj2" fmla="val 49986"/>
                  <a:gd name="adj3" fmla="val -144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grpSp>
          <p:nvGrpSpPr>
            <p:cNvPr id="1085" name=""/>
            <p:cNvGrpSpPr/>
            <p:nvPr/>
          </p:nvGrpSpPr>
          <p:grpSpPr>
            <a:xfrm>
              <a:off x="1066680" y="2179080"/>
              <a:ext cx="3924360" cy="716400"/>
              <a:chOff x="1066680" y="2179080"/>
              <a:chExt cx="3924360" cy="716400"/>
            </a:xfrm>
          </p:grpSpPr>
          <p:grpSp>
            <p:nvGrpSpPr>
              <p:cNvPr id="1086" name=""/>
              <p:cNvGrpSpPr/>
              <p:nvPr/>
            </p:nvGrpSpPr>
            <p:grpSpPr>
              <a:xfrm>
                <a:off x="1066680" y="2438280"/>
                <a:ext cx="727200" cy="457200"/>
                <a:chOff x="1066680" y="2438280"/>
                <a:chExt cx="727200" cy="4572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106668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110808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089" name=""/>
              <p:cNvCxnSpPr>
                <a:stCxn id="1070" idx="0"/>
                <a:endCxn id="1087" idx="0"/>
              </p:cNvCxnSpPr>
              <p:nvPr/>
            </p:nvCxnSpPr>
            <p:spPr>
              <a:xfrm rot="5400000">
                <a:off x="3198960" y="648360"/>
                <a:ext cx="2160" cy="3582000"/>
              </a:xfrm>
              <a:prstGeom prst="curvedConnector5">
                <a:avLst>
                  <a:gd name="adj1" fmla="val -14400000"/>
                  <a:gd name="adj2" fmla="val 49994"/>
                  <a:gd name="adj3" fmla="val -144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grpSp>
          <p:nvGrpSpPr>
            <p:cNvPr id="1090" name=""/>
            <p:cNvGrpSpPr/>
            <p:nvPr/>
          </p:nvGrpSpPr>
          <p:grpSpPr>
            <a:xfrm>
              <a:off x="3692520" y="2438280"/>
              <a:ext cx="727200" cy="457200"/>
              <a:chOff x="3692520" y="2438280"/>
              <a:chExt cx="727200" cy="457200"/>
            </a:xfrm>
          </p:grpSpPr>
          <p:sp>
            <p:nvSpPr>
              <p:cNvPr id="1091" name=""/>
              <p:cNvSpPr/>
              <p:nvPr/>
            </p:nvSpPr>
            <p:spPr>
              <a:xfrm>
                <a:off x="3692520" y="24382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733920" y="25146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L-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093" name=""/>
            <p:cNvCxnSpPr>
              <a:stCxn id="1070" idx="0"/>
              <a:endCxn id="1091" idx="0"/>
            </p:cNvCxnSpPr>
            <p:nvPr/>
          </p:nvCxnSpPr>
          <p:spPr>
            <a:xfrm rot="5400000">
              <a:off x="4511880" y="1960560"/>
              <a:ext cx="2520" cy="956160"/>
            </a:xfrm>
            <a:prstGeom prst="curvedConnector5">
              <a:avLst>
                <a:gd name="adj1" fmla="val -14400000"/>
                <a:gd name="adj2" fmla="val 49981"/>
                <a:gd name="adj3" fmla="val -14400000"/>
              </a:avLst>
            </a:prstGeom>
            <a:ln w="3240">
              <a:solidFill>
                <a:srgbClr val="bbe0e3"/>
              </a:solidFill>
              <a:miter/>
              <a:tailEnd len="med" type="triangle" w="med"/>
            </a:ln>
          </p:spPr>
        </p:cxnSp>
        <p:grpSp>
          <p:nvGrpSpPr>
            <p:cNvPr id="1094" name=""/>
            <p:cNvGrpSpPr/>
            <p:nvPr/>
          </p:nvGrpSpPr>
          <p:grpSpPr>
            <a:xfrm>
              <a:off x="2813040" y="2179080"/>
              <a:ext cx="1222200" cy="716400"/>
              <a:chOff x="2813040" y="2179080"/>
              <a:chExt cx="1222200" cy="716400"/>
            </a:xfrm>
          </p:grpSpPr>
          <p:grpSp>
            <p:nvGrpSpPr>
              <p:cNvPr id="1095" name=""/>
              <p:cNvGrpSpPr/>
              <p:nvPr/>
            </p:nvGrpSpPr>
            <p:grpSpPr>
              <a:xfrm>
                <a:off x="2813040" y="2438280"/>
                <a:ext cx="727200" cy="457200"/>
                <a:chOff x="2813040" y="2438280"/>
                <a:chExt cx="727200" cy="457200"/>
              </a:xfrm>
            </p:grpSpPr>
            <p:sp>
              <p:nvSpPr>
                <p:cNvPr id="1079" name=""/>
                <p:cNvSpPr/>
                <p:nvPr/>
              </p:nvSpPr>
              <p:spPr>
                <a:xfrm>
                  <a:off x="281304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285444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097" name=""/>
              <p:cNvCxnSpPr>
                <a:stCxn id="1091" idx="0"/>
                <a:endCxn id="1079" idx="0"/>
              </p:cNvCxnSpPr>
              <p:nvPr/>
            </p:nvCxnSpPr>
            <p:spPr>
              <a:xfrm rot="5400000">
                <a:off x="3594240" y="1999080"/>
                <a:ext cx="2160" cy="880200"/>
              </a:xfrm>
              <a:prstGeom prst="curvedConnector5">
                <a:avLst>
                  <a:gd name="adj1" fmla="val -14400000"/>
                  <a:gd name="adj2" fmla="val 50000"/>
                  <a:gd name="adj3" fmla="val -144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1098" name=""/>
            <p:cNvGrpSpPr/>
            <p:nvPr/>
          </p:nvGrpSpPr>
          <p:grpSpPr>
            <a:xfrm>
              <a:off x="6546960" y="2438280"/>
              <a:ext cx="726480" cy="457200"/>
              <a:chOff x="6546960" y="2438280"/>
              <a:chExt cx="726480" cy="457200"/>
            </a:xfrm>
          </p:grpSpPr>
          <p:sp>
            <p:nvSpPr>
              <p:cNvPr id="1073" name=""/>
              <p:cNvSpPr/>
              <p:nvPr/>
            </p:nvSpPr>
            <p:spPr>
              <a:xfrm>
                <a:off x="6546960" y="2438280"/>
                <a:ext cx="68544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588000" y="2514600"/>
                <a:ext cx="68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L-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1933560" y="1820880"/>
              <a:ext cx="2102040" cy="1074600"/>
              <a:chOff x="1933560" y="1820880"/>
              <a:chExt cx="2102040" cy="1074600"/>
            </a:xfrm>
          </p:grpSpPr>
          <p:grpSp>
            <p:nvGrpSpPr>
              <p:cNvPr id="1101" name=""/>
              <p:cNvGrpSpPr/>
              <p:nvPr/>
            </p:nvGrpSpPr>
            <p:grpSpPr>
              <a:xfrm>
                <a:off x="1933560" y="2438280"/>
                <a:ext cx="727200" cy="457200"/>
                <a:chOff x="1933560" y="2438280"/>
                <a:chExt cx="727200" cy="4572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193356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197496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104" name=""/>
              <p:cNvCxnSpPr>
                <a:stCxn id="1091" idx="0"/>
                <a:endCxn id="1102" idx="0"/>
              </p:cNvCxnSpPr>
              <p:nvPr/>
            </p:nvCxnSpPr>
            <p:spPr>
              <a:xfrm rot="5400000">
                <a:off x="3154680" y="1559520"/>
                <a:ext cx="2160" cy="1759680"/>
              </a:xfrm>
              <a:prstGeom prst="curvedConnector5">
                <a:avLst>
                  <a:gd name="adj1" fmla="val -34300000"/>
                  <a:gd name="adj2" fmla="val 49989"/>
                  <a:gd name="adj3" fmla="val -343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sp>
          <p:nvSpPr>
            <p:cNvPr id="1105" name=""/>
            <p:cNvSpPr/>
            <p:nvPr/>
          </p:nvSpPr>
          <p:spPr>
            <a:xfrm>
              <a:off x="0" y="190512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Comunicación 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120600" y="4952880"/>
            <a:ext cx="8531280" cy="1059120"/>
            <a:chOff x="120600" y="4952880"/>
            <a:chExt cx="8531280" cy="1059120"/>
          </a:xfrm>
        </p:grpSpPr>
        <p:sp>
          <p:nvSpPr>
            <p:cNvPr id="1107" name=""/>
            <p:cNvSpPr/>
            <p:nvPr/>
          </p:nvSpPr>
          <p:spPr>
            <a:xfrm>
              <a:off x="120600" y="563868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Comunicación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1066680" y="4952880"/>
              <a:ext cx="7585200" cy="1059120"/>
              <a:chOff x="1066680" y="4952880"/>
              <a:chExt cx="7585200" cy="1059120"/>
            </a:xfrm>
          </p:grpSpPr>
          <p:grpSp>
            <p:nvGrpSpPr>
              <p:cNvPr id="1109" name=""/>
              <p:cNvGrpSpPr/>
              <p:nvPr/>
            </p:nvGrpSpPr>
            <p:grpSpPr>
              <a:xfrm>
                <a:off x="4648320" y="4952880"/>
                <a:ext cx="726480" cy="457200"/>
                <a:chOff x="4648320" y="4952880"/>
                <a:chExt cx="726480" cy="45720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4648320" y="49528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689360" y="50292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5562720" y="4952880"/>
                <a:ext cx="726480" cy="457200"/>
                <a:chOff x="5562720" y="4952880"/>
                <a:chExt cx="726480" cy="45720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5562720" y="49528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5603760" y="50292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7924680" y="4952880"/>
                <a:ext cx="727200" cy="457200"/>
                <a:chOff x="7924680" y="4952880"/>
                <a:chExt cx="727200" cy="45720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7924680" y="4952880"/>
                  <a:ext cx="685800" cy="457200"/>
                </a:xfrm>
                <a:prstGeom prst="rect">
                  <a:avLst/>
                </a:prstGeom>
                <a:noFill/>
                <a:ln cap="rnd" w="9360">
                  <a:solidFill>
                    <a:srgbClr val="bbe0e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796608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ff00"/>
                      </a:solidFill>
                      <a:latin typeface="Arial"/>
                      <a:ea typeface="Times New Roman"/>
                    </a:rPr>
                    <a:t>eD-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8" name=""/>
              <p:cNvGrpSpPr/>
              <p:nvPr/>
            </p:nvGrpSpPr>
            <p:grpSpPr>
              <a:xfrm>
                <a:off x="1066680" y="4952880"/>
                <a:ext cx="727200" cy="457200"/>
                <a:chOff x="1066680" y="4952880"/>
                <a:chExt cx="727200" cy="457200"/>
              </a:xfrm>
            </p:grpSpPr>
            <p:sp>
              <p:nvSpPr>
                <p:cNvPr id="1119" name=""/>
                <p:cNvSpPr/>
                <p:nvPr/>
              </p:nvSpPr>
              <p:spPr>
                <a:xfrm>
                  <a:off x="106668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110808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1" name=""/>
              <p:cNvGrpSpPr/>
              <p:nvPr/>
            </p:nvGrpSpPr>
            <p:grpSpPr>
              <a:xfrm>
                <a:off x="3692520" y="4952880"/>
                <a:ext cx="727200" cy="457200"/>
                <a:chOff x="3692520" y="4952880"/>
                <a:chExt cx="727200" cy="45720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369252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373392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2813040" y="4952880"/>
                <a:ext cx="727200" cy="457200"/>
                <a:chOff x="2813040" y="4952880"/>
                <a:chExt cx="727200" cy="45720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281304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285444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7" name=""/>
              <p:cNvGrpSpPr/>
              <p:nvPr/>
            </p:nvGrpSpPr>
            <p:grpSpPr>
              <a:xfrm>
                <a:off x="1933560" y="4952880"/>
                <a:ext cx="727200" cy="457200"/>
                <a:chOff x="1933560" y="4952880"/>
                <a:chExt cx="727200" cy="45720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193356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197496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0" name=""/>
              <p:cNvSpPr/>
              <p:nvPr/>
            </p:nvSpPr>
            <p:spPr>
              <a:xfrm>
                <a:off x="6535800" y="49528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576840" y="50292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D-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32" name=""/>
              <p:cNvCxnSpPr>
                <a:stCxn id="1130" idx="2"/>
                <a:endCxn id="1113" idx="2"/>
              </p:cNvCxnSpPr>
              <p:nvPr/>
            </p:nvCxnSpPr>
            <p:spPr>
              <a:xfrm rot="5400000">
                <a:off x="6390360" y="4924080"/>
                <a:ext cx="2520" cy="97380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133" name=""/>
              <p:cNvCxnSpPr>
                <a:stCxn id="1113" idx="2"/>
                <a:endCxn id="1125" idx="2"/>
              </p:cNvCxnSpPr>
              <p:nvPr/>
            </p:nvCxnSpPr>
            <p:spPr>
              <a:xfrm rot="5400000">
                <a:off x="4529160" y="4035960"/>
                <a:ext cx="2520" cy="275004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cap="rnd" w="9360">
                <a:solidFill>
                  <a:srgbClr val="bbe0e3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  <p:cxnSp>
            <p:nvCxnSpPr>
              <p:cNvPr id="1134" name=""/>
              <p:cNvCxnSpPr>
                <a:stCxn id="1110" idx="2"/>
                <a:endCxn id="1128" idx="2"/>
              </p:cNvCxnSpPr>
              <p:nvPr/>
            </p:nvCxnSpPr>
            <p:spPr>
              <a:xfrm rot="5400000">
                <a:off x="3632400" y="4053600"/>
                <a:ext cx="2520" cy="2715120"/>
              </a:xfrm>
              <a:prstGeom prst="curvedConnector5">
                <a:avLst>
                  <a:gd name="adj1" fmla="val 27883333"/>
                  <a:gd name="adj2" fmla="val 49993"/>
                  <a:gd name="adj3" fmla="val 278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135" name=""/>
              <p:cNvCxnSpPr>
                <a:stCxn id="1122" idx="2"/>
                <a:endCxn id="1119" idx="2"/>
              </p:cNvCxnSpPr>
              <p:nvPr/>
            </p:nvCxnSpPr>
            <p:spPr>
              <a:xfrm rot="5400000">
                <a:off x="2721240" y="4097880"/>
                <a:ext cx="2520" cy="2626560"/>
              </a:xfrm>
              <a:prstGeom prst="curvedConnector5">
                <a:avLst>
                  <a:gd name="adj1" fmla="val 24483333"/>
                  <a:gd name="adj2" fmla="val 49993"/>
                  <a:gd name="adj3" fmla="val 244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136" name=""/>
              <p:cNvCxnSpPr>
                <a:stCxn id="1113" idx="2"/>
                <a:endCxn id="1122" idx="2"/>
              </p:cNvCxnSpPr>
              <p:nvPr/>
            </p:nvCxnSpPr>
            <p:spPr>
              <a:xfrm rot="5400000">
                <a:off x="4969080" y="4475880"/>
                <a:ext cx="2520" cy="1870560"/>
              </a:xfrm>
              <a:prstGeom prst="curvedConnector5">
                <a:avLst>
                  <a:gd name="adj1" fmla="val 24383333"/>
                  <a:gd name="adj2" fmla="val 49990"/>
                  <a:gd name="adj3" fmla="val 243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137" name=""/>
              <p:cNvCxnSpPr>
                <a:stCxn id="1116" idx="2"/>
                <a:endCxn id="1130" idx="2"/>
              </p:cNvCxnSpPr>
              <p:nvPr/>
            </p:nvCxnSpPr>
            <p:spPr>
              <a:xfrm rot="5400000">
                <a:off x="7571520" y="4716000"/>
                <a:ext cx="2520" cy="138996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cap="rnd" w="9360">
                <a:solidFill>
                  <a:srgbClr val="bbe0e3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</p:grpSp>
      <p:grpSp>
        <p:nvGrpSpPr>
          <p:cNvPr id="1138" name=""/>
          <p:cNvGrpSpPr/>
          <p:nvPr/>
        </p:nvGrpSpPr>
        <p:grpSpPr>
          <a:xfrm>
            <a:off x="1409400" y="2894760"/>
            <a:ext cx="7506000" cy="2057760"/>
            <a:chOff x="1409400" y="2894760"/>
            <a:chExt cx="7506000" cy="2057760"/>
          </a:xfrm>
        </p:grpSpPr>
        <p:sp>
          <p:nvSpPr>
            <p:cNvPr id="1139" name=""/>
            <p:cNvSpPr/>
            <p:nvPr/>
          </p:nvSpPr>
          <p:spPr>
            <a:xfrm>
              <a:off x="5943600" y="3349800"/>
              <a:ext cx="2971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Hetero-observ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de conductas de notificación D que emergen como L-releva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1409400" y="2894760"/>
              <a:ext cx="4496040" cy="2057760"/>
              <a:chOff x="1409400" y="2894760"/>
              <a:chExt cx="4496040" cy="2057760"/>
            </a:xfrm>
          </p:grpSpPr>
          <p:cxnSp>
            <p:nvCxnSpPr>
              <p:cNvPr id="1141" name=""/>
              <p:cNvCxnSpPr>
                <a:stCxn id="1076" idx="2"/>
                <a:endCxn id="1110" idx="0"/>
              </p:cNvCxnSpPr>
              <p:nvPr/>
            </p:nvCxnSpPr>
            <p:spPr>
              <a:xfrm rot="5400000">
                <a:off x="4419000" y="3466440"/>
                <a:ext cx="2057760" cy="915120"/>
              </a:xfrm>
              <a:prstGeom prst="curvedConnector5">
                <a:avLst>
                  <a:gd name="adj1" fmla="val 49991"/>
                  <a:gd name="adj2" fmla="val 49980"/>
                  <a:gd name="adj3" fmla="val 49991"/>
                </a:avLst>
              </a:prstGeom>
              <a:ln w="9360">
                <a:solidFill>
                  <a:srgbClr val="cccc00"/>
                </a:solidFill>
                <a:miter/>
                <a:tailEnd len="med" type="triangle" w="med"/>
              </a:ln>
            </p:spPr>
          </p:cxnSp>
          <p:cxnSp>
            <p:nvCxnSpPr>
              <p:cNvPr id="1142" name=""/>
              <p:cNvCxnSpPr>
                <a:stCxn id="1091" idx="2"/>
                <a:endCxn id="1125" idx="0"/>
              </p:cNvCxnSpPr>
              <p:nvPr/>
            </p:nvCxnSpPr>
            <p:spPr>
              <a:xfrm rot="5400000">
                <a:off x="2566440" y="3483720"/>
                <a:ext cx="2057760" cy="880200"/>
              </a:xfrm>
              <a:prstGeom prst="curvedConnector5">
                <a:avLst>
                  <a:gd name="adj1" fmla="val 49991"/>
                  <a:gd name="adj2" fmla="val 50000"/>
                  <a:gd name="adj3" fmla="val 49991"/>
                </a:avLst>
              </a:prstGeom>
              <a:ln w="9360">
                <a:solidFill>
                  <a:srgbClr val="cccc00"/>
                </a:solidFill>
                <a:miter/>
                <a:tailEnd len="med" type="triangle" w="med"/>
              </a:ln>
            </p:spPr>
          </p:cxnSp>
          <p:cxnSp>
            <p:nvCxnSpPr>
              <p:cNvPr id="1143" name=""/>
              <p:cNvCxnSpPr>
                <a:stCxn id="1102" idx="2"/>
                <a:endCxn id="1119" idx="0"/>
              </p:cNvCxnSpPr>
              <p:nvPr/>
            </p:nvCxnSpPr>
            <p:spPr>
              <a:xfrm rot="5400000">
                <a:off x="813960" y="3490200"/>
                <a:ext cx="2057760" cy="867600"/>
              </a:xfrm>
              <a:prstGeom prst="curvedConnector5">
                <a:avLst>
                  <a:gd name="adj1" fmla="val 49991"/>
                  <a:gd name="adj2" fmla="val 49979"/>
                  <a:gd name="adj3" fmla="val 49991"/>
                </a:avLst>
              </a:prstGeom>
              <a:ln w="9360">
                <a:solidFill>
                  <a:srgbClr val="cccc00"/>
                </a:solidFill>
                <a:miter/>
                <a:tailEnd len="med" type="triangle" w="med"/>
              </a:ln>
            </p:spPr>
          </p:cxnSp>
          <p:sp>
            <p:nvSpPr>
              <p:cNvPr id="1144" name=""/>
              <p:cNvSpPr/>
              <p:nvPr/>
            </p:nvSpPr>
            <p:spPr>
              <a:xfrm>
                <a:off x="1676520" y="3751200"/>
                <a:ext cx="304560" cy="304920"/>
              </a:xfrm>
              <a:prstGeom prst="ellips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05320" y="3733920"/>
                <a:ext cx="304560" cy="304560"/>
              </a:xfrm>
              <a:prstGeom prst="ellips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334120" y="3733920"/>
                <a:ext cx="304560" cy="304560"/>
              </a:xfrm>
              <a:prstGeom prst="ellips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47" name=""/>
              <p:cNvCxnSpPr>
                <a:stCxn id="1146" idx="1"/>
                <a:endCxn id="1070" idx="2"/>
              </p:cNvCxnSpPr>
              <p:nvPr/>
            </p:nvCxnSpPr>
            <p:spPr>
              <a:xfrm flipV="1" rot="16200000">
                <a:off x="4743000" y="3142440"/>
                <a:ext cx="883440" cy="388080"/>
              </a:xfrm>
              <a:prstGeom prst="curvedConnector5">
                <a:avLst>
                  <a:gd name="adj1" fmla="val 52507"/>
                  <a:gd name="adj2" fmla="val 49953"/>
                  <a:gd name="adj3" fmla="val 52507"/>
                </a:avLst>
              </a:prstGeom>
              <a:ln w="9360">
                <a:solidFill>
                  <a:srgbClr val="cccc00"/>
                </a:solidFill>
                <a:miter/>
                <a:tailEnd len="med" type="triangle" w="med"/>
              </a:ln>
            </p:spPr>
          </p:cxnSp>
          <p:cxnSp>
            <p:nvCxnSpPr>
              <p:cNvPr id="1148" name=""/>
              <p:cNvCxnSpPr>
                <a:stCxn id="1145" idx="1"/>
                <a:endCxn id="1079" idx="2"/>
              </p:cNvCxnSpPr>
              <p:nvPr/>
            </p:nvCxnSpPr>
            <p:spPr>
              <a:xfrm flipV="1" rot="16200000">
                <a:off x="2910960" y="3139560"/>
                <a:ext cx="883440" cy="394200"/>
              </a:xfrm>
              <a:prstGeom prst="curvedConnector5">
                <a:avLst>
                  <a:gd name="adj1" fmla="val 52507"/>
                  <a:gd name="adj2" fmla="val 50000"/>
                  <a:gd name="adj3" fmla="val 52507"/>
                </a:avLst>
              </a:prstGeom>
              <a:ln w="9360">
                <a:solidFill>
                  <a:srgbClr val="cccc00"/>
                </a:solidFill>
                <a:miter/>
                <a:tailEnd len="med" type="triangle" w="med"/>
              </a:ln>
            </p:spPr>
          </p:cxnSp>
          <p:cxnSp>
            <p:nvCxnSpPr>
              <p:cNvPr id="1149" name=""/>
              <p:cNvCxnSpPr>
                <a:stCxn id="1144" idx="1"/>
                <a:endCxn id="1087" idx="2"/>
              </p:cNvCxnSpPr>
              <p:nvPr/>
            </p:nvCxnSpPr>
            <p:spPr>
              <a:xfrm flipV="1" rot="16200000">
                <a:off x="1114560" y="3189240"/>
                <a:ext cx="901080" cy="311760"/>
              </a:xfrm>
              <a:prstGeom prst="curvedConnector5">
                <a:avLst>
                  <a:gd name="adj1" fmla="val 52358"/>
                  <a:gd name="adj2" fmla="val 49942"/>
                  <a:gd name="adj3" fmla="val 52358"/>
                </a:avLst>
              </a:prstGeom>
              <a:ln w="9360">
                <a:solidFill>
                  <a:srgbClr val="cccc00"/>
                </a:solidFill>
                <a:miter/>
                <a:tailEnd len="med" type="triangle" w="med"/>
              </a:ln>
            </p:spPr>
          </p:cxnSp>
        </p:grpSp>
      </p:grp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/>
          <p:nvPr/>
        </p:nvSpPr>
        <p:spPr>
          <a:xfrm>
            <a:off x="0" y="0"/>
            <a:ext cx="25146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304920" y="868320"/>
            <a:ext cx="2514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Irr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666880" y="852480"/>
            <a:ext cx="61722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Arial"/>
                <a:ea typeface="Times New Roman"/>
              </a:rPr>
              <a:t>Cuidado con los pobres que nos quedamos sin consumidores – Juan Claro</a:t>
            </a:r>
            <a:r>
              <a:rPr b="1" lang="es-ES" sz="2400" spc="-1" strike="noStrike">
                <a:solidFill>
                  <a:srgbClr val="ccff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04920" y="2147760"/>
            <a:ext cx="86565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Arial"/>
                <a:ea typeface="Times New Roman"/>
              </a:rPr>
              <a:t>El deporte es bueno para la salud – Ministerio de Salud</a:t>
            </a:r>
            <a:r>
              <a:rPr b="1" lang="es-ES" sz="2400" spc="-1" strike="noStrike">
                <a:solidFill>
                  <a:srgbClr val="ccff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04920" y="2863800"/>
            <a:ext cx="86565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Arial"/>
                <a:ea typeface="Times New Roman"/>
              </a:rPr>
              <a:t>La droga mata – Paz Ciudad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304920" y="4267080"/>
            <a:ext cx="86565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Arial"/>
                <a:ea typeface="Times New Roman"/>
              </a:rPr>
              <a:t>El arte debe ser comprendido por el pueblo – Stal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304920" y="3581280"/>
            <a:ext cx="86565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Arial"/>
                <a:ea typeface="Times New Roman"/>
              </a:rPr>
              <a:t>La vida es una flor cuya miel es el amor – Victor Hu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304920" y="4876920"/>
            <a:ext cx="86565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Arial"/>
                <a:ea typeface="Times New Roman"/>
              </a:rPr>
              <a:t>La educación es nuestro vehículo de igualdad – Ricardo La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304920" y="5867280"/>
            <a:ext cx="86565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Arial"/>
                <a:ea typeface="Times New Roman"/>
              </a:rPr>
              <a:t>El matrimonio es un sacramento – Iglesia Cató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0" y="0"/>
            <a:ext cx="2819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"/>
          <p:cNvGrpSpPr/>
          <p:nvPr/>
        </p:nvGrpSpPr>
        <p:grpSpPr>
          <a:xfrm>
            <a:off x="1371600" y="2286000"/>
            <a:ext cx="6477120" cy="2971800"/>
            <a:chOff x="1371600" y="2286000"/>
            <a:chExt cx="6477120" cy="2971800"/>
          </a:xfrm>
        </p:grpSpPr>
        <p:sp>
          <p:nvSpPr>
            <p:cNvPr id="1161" name=""/>
            <p:cNvSpPr/>
            <p:nvPr/>
          </p:nvSpPr>
          <p:spPr>
            <a:xfrm>
              <a:off x="1371600" y="2286000"/>
              <a:ext cx="6477120" cy="2971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169880" y="3352680"/>
              <a:ext cx="7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ff66"/>
                  </a:solidFill>
                  <a:latin typeface="Arial Narrow"/>
                </a:rPr>
                <a:t>l’’’ 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878360" y="335268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ff66"/>
                  </a:solidFill>
                  <a:latin typeface="Arial Narrow"/>
                </a:rPr>
                <a:t>d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196560" y="457200"/>
            <a:ext cx="247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Verdana"/>
              </a:rPr>
              <a:t>Acopl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0" y="1824120"/>
            <a:ext cx="9337680" cy="4435560"/>
            <a:chOff x="0" y="1824120"/>
            <a:chExt cx="9337680" cy="4435560"/>
          </a:xfrm>
        </p:grpSpPr>
        <p:grpSp>
          <p:nvGrpSpPr>
            <p:cNvPr id="1166" name=""/>
            <p:cNvGrpSpPr/>
            <p:nvPr/>
          </p:nvGrpSpPr>
          <p:grpSpPr>
            <a:xfrm>
              <a:off x="0" y="1824120"/>
              <a:ext cx="3267360" cy="3546360"/>
              <a:chOff x="0" y="1824120"/>
              <a:chExt cx="3267360" cy="3546360"/>
            </a:xfrm>
          </p:grpSpPr>
          <p:sp>
            <p:nvSpPr>
              <p:cNvPr id="1167" name=""/>
              <p:cNvSpPr/>
              <p:nvPr/>
            </p:nvSpPr>
            <p:spPr>
              <a:xfrm rot="5400000">
                <a:off x="-139320" y="1963440"/>
                <a:ext cx="3546360" cy="3267360"/>
              </a:xfrm>
              <a:custGeom>
                <a:avLst/>
                <a:gdLst>
                  <a:gd name="textAreaLeft" fmla="*/ 0 w 3546360"/>
                  <a:gd name="textAreaRight" fmla="*/ 3546720 w 3546360"/>
                  <a:gd name="textAreaTop" fmla="*/ 0 h 3267360"/>
                  <a:gd name="textAreaBottom" fmla="*/ 3267720 h 326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00000"/>
                    <a:lnTo>
                      <a:pt x="0" y="10800"/>
                    </a:lnTo>
                    <a:arcTo wR="10800" hR="10800" stAng="10800000" swAng="1080000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66">
                      <a:alpha val="50196"/>
                    </a:srgbClr>
                  </a:gs>
                  <a:gs pos="100000">
                    <a:srgbClr val="ccff66">
                      <a:alpha val="50196"/>
                    </a:srgbClr>
                  </a:gs>
                </a:gsLst>
                <a:lin ang="5400000"/>
              </a:gradFill>
              <a:ln w="5724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44880" y="4678200"/>
                <a:ext cx="375840" cy="48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ff66"/>
                    </a:solidFill>
                    <a:latin typeface="Arial Narrow"/>
                  </a:rPr>
                  <a:t>D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638000" y="4629240"/>
                <a:ext cx="54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626920" y="2846520"/>
                <a:ext cx="424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1816200" y="2109960"/>
                <a:ext cx="36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529000" y="4059360"/>
                <a:ext cx="48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605960" y="3119400"/>
                <a:ext cx="6426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Alt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6070680" y="2712960"/>
              <a:ext cx="3267000" cy="3546720"/>
              <a:chOff x="6070680" y="2712960"/>
              <a:chExt cx="3267000" cy="3546720"/>
            </a:xfrm>
          </p:grpSpPr>
          <p:sp>
            <p:nvSpPr>
              <p:cNvPr id="1175" name=""/>
              <p:cNvSpPr/>
              <p:nvPr/>
            </p:nvSpPr>
            <p:spPr>
              <a:xfrm>
                <a:off x="8532720" y="2895480"/>
                <a:ext cx="346680" cy="48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ff66"/>
                    </a:solidFill>
                    <a:latin typeface="Arial Narrow"/>
                  </a:rPr>
                  <a:t>L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rot="16200000">
                <a:off x="5930640" y="2852640"/>
                <a:ext cx="3546720" cy="3267000"/>
              </a:xfrm>
              <a:custGeom>
                <a:avLst/>
                <a:gdLst>
                  <a:gd name="textAreaLeft" fmla="*/ 0 w 3546720"/>
                  <a:gd name="textAreaRight" fmla="*/ 3547080 w 3546720"/>
                  <a:gd name="textAreaTop" fmla="*/ 0 h 3267000"/>
                  <a:gd name="textAreaBottom" fmla="*/ 3267360 h 326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00000"/>
                    <a:lnTo>
                      <a:pt x="0" y="10800"/>
                    </a:lnTo>
                    <a:arcTo wR="10800" hR="10800" stAng="10800000" swAng="1080000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>
                      <a:alpha val="50196"/>
                    </a:srgbClr>
                  </a:gs>
                  <a:gs pos="100000">
                    <a:srgbClr val="5e5e5e">
                      <a:alpha val="50196"/>
                    </a:srgbClr>
                  </a:gs>
                </a:gsLst>
                <a:lin ang="5400000"/>
              </a:gradFill>
              <a:ln w="5724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096320" y="5492880"/>
                <a:ext cx="29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311960" y="2903400"/>
                <a:ext cx="470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504480" y="3529080"/>
                <a:ext cx="41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413040" y="4730760"/>
                <a:ext cx="35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131960" y="4475160"/>
                <a:ext cx="5634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Eg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/>
          <p:nvPr/>
        </p:nvSpPr>
        <p:spPr>
          <a:xfrm>
            <a:off x="5867280" y="0"/>
            <a:ext cx="3276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7022160" y="349200"/>
            <a:ext cx="17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ff00"/>
                </a:solidFill>
                <a:latin typeface="Verdana"/>
              </a:rPr>
              <a:t>Acopl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228600" y="914400"/>
            <a:ext cx="9067680" cy="5868000"/>
            <a:chOff x="228600" y="914400"/>
            <a:chExt cx="9067680" cy="5868000"/>
          </a:xfrm>
        </p:grpSpPr>
        <p:sp>
          <p:nvSpPr>
            <p:cNvPr id="1185" name=""/>
            <p:cNvSpPr/>
            <p:nvPr/>
          </p:nvSpPr>
          <p:spPr>
            <a:xfrm>
              <a:off x="2286000" y="137160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asado presente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808600" y="91440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resente</a:t>
              </a:r>
              <a:r>
                <a:rPr b="1" lang="es-MX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086600" y="14032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Futuro presente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066680" y="1295280"/>
              <a:ext cx="0" cy="5181840"/>
            </a:xfrm>
            <a:prstGeom prst="line">
              <a:avLst/>
            </a:prstGeom>
            <a:ln cap="rnd" w="9360">
              <a:solidFill>
                <a:srgbClr val="66ff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553080" y="1295280"/>
              <a:ext cx="0" cy="5257800"/>
            </a:xfrm>
            <a:prstGeom prst="line">
              <a:avLst/>
            </a:prstGeom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238880" y="1295280"/>
              <a:ext cx="0" cy="5257800"/>
            </a:xfrm>
            <a:prstGeom prst="line">
              <a:avLst/>
            </a:prstGeom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28600" y="3048120"/>
              <a:ext cx="8839080" cy="0"/>
            </a:xfrm>
            <a:prstGeom prst="line">
              <a:avLst/>
            </a:prstGeom>
            <a:ln w="381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48400" y="2727360"/>
              <a:ext cx="4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be0e3"/>
                  </a:solidFill>
                  <a:latin typeface="Arial"/>
                  <a:ea typeface="Times New Roman"/>
                </a:rPr>
                <a:t>t-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686800" y="1295280"/>
              <a:ext cx="0" cy="5257800"/>
            </a:xfrm>
            <a:prstGeom prst="line">
              <a:avLst/>
            </a:prstGeom>
            <a:ln cap="rnd" w="9360">
              <a:solidFill>
                <a:srgbClr val="66ff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228600" y="4481640"/>
              <a:ext cx="8839080" cy="337320"/>
              <a:chOff x="228600" y="4481640"/>
              <a:chExt cx="8839080" cy="337320"/>
            </a:xfrm>
          </p:grpSpPr>
          <p:sp>
            <p:nvSpPr>
              <p:cNvPr id="1195" name=""/>
              <p:cNvSpPr/>
              <p:nvPr/>
            </p:nvSpPr>
            <p:spPr>
              <a:xfrm>
                <a:off x="228600" y="4802400"/>
                <a:ext cx="8839080" cy="0"/>
              </a:xfrm>
              <a:prstGeom prst="line">
                <a:avLst/>
              </a:prstGeom>
              <a:ln w="38160">
                <a:solidFill>
                  <a:srgbClr val="66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236160" y="4481640"/>
                <a:ext cx="461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bbe0e3"/>
                    </a:solidFill>
                    <a:latin typeface="Arial"/>
                    <a:ea typeface="Times New Roman"/>
                  </a:rPr>
                  <a:t>t-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7" name=""/>
            <p:cNvSpPr/>
            <p:nvPr/>
          </p:nvSpPr>
          <p:spPr>
            <a:xfrm>
              <a:off x="2286000" y="60958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asado presente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808600" y="64450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resente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086600" y="612792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Futuro presente</a:t>
              </a:r>
              <a:r>
                <a:rPr b="1" lang="es-MX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120600" y="4952880"/>
            <a:ext cx="8531280" cy="1059120"/>
            <a:chOff x="120600" y="4952880"/>
            <a:chExt cx="8531280" cy="1059120"/>
          </a:xfrm>
        </p:grpSpPr>
        <p:sp>
          <p:nvSpPr>
            <p:cNvPr id="1201" name=""/>
            <p:cNvSpPr/>
            <p:nvPr/>
          </p:nvSpPr>
          <p:spPr>
            <a:xfrm>
              <a:off x="120600" y="563868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Comunicación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2" name=""/>
            <p:cNvGrpSpPr/>
            <p:nvPr/>
          </p:nvGrpSpPr>
          <p:grpSpPr>
            <a:xfrm>
              <a:off x="1066680" y="4952880"/>
              <a:ext cx="7585200" cy="1059120"/>
              <a:chOff x="1066680" y="4952880"/>
              <a:chExt cx="7585200" cy="1059120"/>
            </a:xfrm>
          </p:grpSpPr>
          <p:grpSp>
            <p:nvGrpSpPr>
              <p:cNvPr id="1203" name=""/>
              <p:cNvGrpSpPr/>
              <p:nvPr/>
            </p:nvGrpSpPr>
            <p:grpSpPr>
              <a:xfrm>
                <a:off x="4648320" y="4952880"/>
                <a:ext cx="726480" cy="457200"/>
                <a:chOff x="4648320" y="4952880"/>
                <a:chExt cx="726480" cy="45720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4648320" y="49528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4689360" y="50292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6" name=""/>
              <p:cNvGrpSpPr/>
              <p:nvPr/>
            </p:nvGrpSpPr>
            <p:grpSpPr>
              <a:xfrm>
                <a:off x="5562720" y="4952880"/>
                <a:ext cx="726480" cy="457200"/>
                <a:chOff x="5562720" y="4952880"/>
                <a:chExt cx="726480" cy="457200"/>
              </a:xfrm>
            </p:grpSpPr>
            <p:sp>
              <p:nvSpPr>
                <p:cNvPr id="1207" name=""/>
                <p:cNvSpPr/>
                <p:nvPr/>
              </p:nvSpPr>
              <p:spPr>
                <a:xfrm>
                  <a:off x="5562720" y="49528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5603760" y="50292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9" name=""/>
              <p:cNvGrpSpPr/>
              <p:nvPr/>
            </p:nvGrpSpPr>
            <p:grpSpPr>
              <a:xfrm>
                <a:off x="7924680" y="4952880"/>
                <a:ext cx="727200" cy="457200"/>
                <a:chOff x="7924680" y="4952880"/>
                <a:chExt cx="727200" cy="457200"/>
              </a:xfrm>
            </p:grpSpPr>
            <p:sp>
              <p:nvSpPr>
                <p:cNvPr id="1210" name=""/>
                <p:cNvSpPr/>
                <p:nvPr/>
              </p:nvSpPr>
              <p:spPr>
                <a:xfrm>
                  <a:off x="7924680" y="4952880"/>
                  <a:ext cx="685800" cy="457200"/>
                </a:xfrm>
                <a:prstGeom prst="rect">
                  <a:avLst/>
                </a:prstGeom>
                <a:noFill/>
                <a:ln cap="rnd" w="9360">
                  <a:solidFill>
                    <a:srgbClr val="bbe0e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796608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ccff66"/>
                      </a:solidFill>
                      <a:latin typeface="Arial"/>
                      <a:ea typeface="Times New Roman"/>
                    </a:rPr>
                    <a:t>eD-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2" name=""/>
              <p:cNvGrpSpPr/>
              <p:nvPr/>
            </p:nvGrpSpPr>
            <p:grpSpPr>
              <a:xfrm>
                <a:off x="1066680" y="4952880"/>
                <a:ext cx="727200" cy="457200"/>
                <a:chOff x="1066680" y="4952880"/>
                <a:chExt cx="727200" cy="457200"/>
              </a:xfrm>
            </p:grpSpPr>
            <p:sp>
              <p:nvSpPr>
                <p:cNvPr id="1213" name=""/>
                <p:cNvSpPr/>
                <p:nvPr/>
              </p:nvSpPr>
              <p:spPr>
                <a:xfrm>
                  <a:off x="106668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110808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5" name=""/>
              <p:cNvGrpSpPr/>
              <p:nvPr/>
            </p:nvGrpSpPr>
            <p:grpSpPr>
              <a:xfrm>
                <a:off x="3692520" y="4952880"/>
                <a:ext cx="727200" cy="457200"/>
                <a:chOff x="3692520" y="4952880"/>
                <a:chExt cx="727200" cy="45720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369252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373392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8" name=""/>
              <p:cNvGrpSpPr/>
              <p:nvPr/>
            </p:nvGrpSpPr>
            <p:grpSpPr>
              <a:xfrm>
                <a:off x="2813040" y="4952880"/>
                <a:ext cx="727200" cy="457200"/>
                <a:chOff x="2813040" y="4952880"/>
                <a:chExt cx="727200" cy="45720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281304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285444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1" name=""/>
              <p:cNvGrpSpPr/>
              <p:nvPr/>
            </p:nvGrpSpPr>
            <p:grpSpPr>
              <a:xfrm>
                <a:off x="1933560" y="4952880"/>
                <a:ext cx="727200" cy="457200"/>
                <a:chOff x="1933560" y="4952880"/>
                <a:chExt cx="727200" cy="457200"/>
              </a:xfrm>
            </p:grpSpPr>
            <p:sp>
              <p:nvSpPr>
                <p:cNvPr id="1222" name=""/>
                <p:cNvSpPr/>
                <p:nvPr/>
              </p:nvSpPr>
              <p:spPr>
                <a:xfrm>
                  <a:off x="193356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197496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4" name=""/>
              <p:cNvSpPr/>
              <p:nvPr/>
            </p:nvSpPr>
            <p:spPr>
              <a:xfrm>
                <a:off x="6535800" y="49528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576840" y="50292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D-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26" name=""/>
              <p:cNvCxnSpPr>
                <a:stCxn id="1224" idx="2"/>
                <a:endCxn id="1207" idx="2"/>
              </p:cNvCxnSpPr>
              <p:nvPr/>
            </p:nvCxnSpPr>
            <p:spPr>
              <a:xfrm rot="5400000">
                <a:off x="6390360" y="4924080"/>
                <a:ext cx="2520" cy="97380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227" name=""/>
              <p:cNvCxnSpPr>
                <a:stCxn id="1207" idx="2"/>
                <a:endCxn id="1219" idx="2"/>
              </p:cNvCxnSpPr>
              <p:nvPr/>
            </p:nvCxnSpPr>
            <p:spPr>
              <a:xfrm rot="5400000">
                <a:off x="4529160" y="4035960"/>
                <a:ext cx="2520" cy="275004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cap="rnd" w="9360">
                <a:solidFill>
                  <a:srgbClr val="bbe0e3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  <p:cxnSp>
            <p:nvCxnSpPr>
              <p:cNvPr id="1228" name=""/>
              <p:cNvCxnSpPr>
                <a:stCxn id="1204" idx="2"/>
                <a:endCxn id="1222" idx="2"/>
              </p:cNvCxnSpPr>
              <p:nvPr/>
            </p:nvCxnSpPr>
            <p:spPr>
              <a:xfrm rot="5400000">
                <a:off x="3632400" y="4053600"/>
                <a:ext cx="2520" cy="2715120"/>
              </a:xfrm>
              <a:prstGeom prst="curvedConnector5">
                <a:avLst>
                  <a:gd name="adj1" fmla="val 27883333"/>
                  <a:gd name="adj2" fmla="val 49993"/>
                  <a:gd name="adj3" fmla="val 278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229" name=""/>
              <p:cNvCxnSpPr>
                <a:stCxn id="1216" idx="2"/>
                <a:endCxn id="1213" idx="2"/>
              </p:cNvCxnSpPr>
              <p:nvPr/>
            </p:nvCxnSpPr>
            <p:spPr>
              <a:xfrm rot="5400000">
                <a:off x="2721240" y="4097880"/>
                <a:ext cx="2520" cy="2626560"/>
              </a:xfrm>
              <a:prstGeom prst="curvedConnector5">
                <a:avLst>
                  <a:gd name="adj1" fmla="val 24483333"/>
                  <a:gd name="adj2" fmla="val 49993"/>
                  <a:gd name="adj3" fmla="val 244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230" name=""/>
              <p:cNvCxnSpPr>
                <a:stCxn id="1207" idx="2"/>
                <a:endCxn id="1216" idx="2"/>
              </p:cNvCxnSpPr>
              <p:nvPr/>
            </p:nvCxnSpPr>
            <p:spPr>
              <a:xfrm rot="5400000">
                <a:off x="4969080" y="4475880"/>
                <a:ext cx="2520" cy="1870560"/>
              </a:xfrm>
              <a:prstGeom prst="curvedConnector5">
                <a:avLst>
                  <a:gd name="adj1" fmla="val 24383333"/>
                  <a:gd name="adj2" fmla="val 49990"/>
                  <a:gd name="adj3" fmla="val 243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231" name=""/>
              <p:cNvCxnSpPr>
                <a:stCxn id="1210" idx="2"/>
                <a:endCxn id="1224" idx="2"/>
              </p:cNvCxnSpPr>
              <p:nvPr/>
            </p:nvCxnSpPr>
            <p:spPr>
              <a:xfrm rot="5400000">
                <a:off x="7571520" y="4716000"/>
                <a:ext cx="2520" cy="138996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cap="rnd" w="9360">
                <a:solidFill>
                  <a:srgbClr val="bbe0e3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</p:grpSp>
      <p:grpSp>
        <p:nvGrpSpPr>
          <p:cNvPr id="1232" name=""/>
          <p:cNvGrpSpPr/>
          <p:nvPr/>
        </p:nvGrpSpPr>
        <p:grpSpPr>
          <a:xfrm>
            <a:off x="0" y="1820880"/>
            <a:ext cx="8651880" cy="1074600"/>
            <a:chOff x="0" y="1820880"/>
            <a:chExt cx="8651880" cy="1074600"/>
          </a:xfrm>
        </p:grpSpPr>
        <p:grpSp>
          <p:nvGrpSpPr>
            <p:cNvPr id="1233" name=""/>
            <p:cNvGrpSpPr/>
            <p:nvPr/>
          </p:nvGrpSpPr>
          <p:grpSpPr>
            <a:xfrm>
              <a:off x="4648320" y="1820880"/>
              <a:ext cx="2241360" cy="1074600"/>
              <a:chOff x="4648320" y="1820880"/>
              <a:chExt cx="2241360" cy="1074600"/>
            </a:xfrm>
          </p:grpSpPr>
          <p:grpSp>
            <p:nvGrpSpPr>
              <p:cNvPr id="1234" name=""/>
              <p:cNvGrpSpPr/>
              <p:nvPr/>
            </p:nvGrpSpPr>
            <p:grpSpPr>
              <a:xfrm>
                <a:off x="4648320" y="2438280"/>
                <a:ext cx="726480" cy="457200"/>
                <a:chOff x="4648320" y="2438280"/>
                <a:chExt cx="726480" cy="45720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4648320" y="24382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4689360" y="25146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237" name=""/>
              <p:cNvCxnSpPr>
                <a:stCxn id="1238" idx="0"/>
                <a:endCxn id="1235" idx="0"/>
              </p:cNvCxnSpPr>
              <p:nvPr/>
            </p:nvCxnSpPr>
            <p:spPr>
              <a:xfrm rot="5400000">
                <a:off x="5938920" y="1489680"/>
                <a:ext cx="2160" cy="1899360"/>
              </a:xfrm>
              <a:prstGeom prst="curvedConnector5">
                <a:avLst>
                  <a:gd name="adj1" fmla="val -34300000"/>
                  <a:gd name="adj2" fmla="val 49990"/>
                  <a:gd name="adj3" fmla="val -343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1239" name=""/>
            <p:cNvGrpSpPr/>
            <p:nvPr/>
          </p:nvGrpSpPr>
          <p:grpSpPr>
            <a:xfrm>
              <a:off x="3155400" y="1840680"/>
              <a:ext cx="3133800" cy="1054800"/>
              <a:chOff x="3155400" y="1840680"/>
              <a:chExt cx="3133800" cy="1054800"/>
            </a:xfrm>
          </p:grpSpPr>
          <p:grpSp>
            <p:nvGrpSpPr>
              <p:cNvPr id="1240" name=""/>
              <p:cNvGrpSpPr/>
              <p:nvPr/>
            </p:nvGrpSpPr>
            <p:grpSpPr>
              <a:xfrm>
                <a:off x="5562720" y="2438280"/>
                <a:ext cx="726480" cy="457200"/>
                <a:chOff x="5562720" y="2438280"/>
                <a:chExt cx="726480" cy="45720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5562720" y="24382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5603760" y="25146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243" name=""/>
              <p:cNvCxnSpPr>
                <a:stCxn id="1241" idx="0"/>
                <a:endCxn id="1244" idx="0"/>
              </p:cNvCxnSpPr>
              <p:nvPr/>
            </p:nvCxnSpPr>
            <p:spPr>
              <a:xfrm rot="5400000">
                <a:off x="4529160" y="1064160"/>
                <a:ext cx="2160" cy="2750040"/>
              </a:xfrm>
              <a:prstGeom prst="curvedConnector5">
                <a:avLst>
                  <a:gd name="adj1" fmla="val -33200000"/>
                  <a:gd name="adj2" fmla="val 50000"/>
                  <a:gd name="adj3" fmla="val -332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1245" name=""/>
            <p:cNvGrpSpPr/>
            <p:nvPr/>
          </p:nvGrpSpPr>
          <p:grpSpPr>
            <a:xfrm>
              <a:off x="6889320" y="2179080"/>
              <a:ext cx="1762560" cy="716400"/>
              <a:chOff x="6889320" y="2179080"/>
              <a:chExt cx="1762560" cy="716400"/>
            </a:xfrm>
          </p:grpSpPr>
          <p:grpSp>
            <p:nvGrpSpPr>
              <p:cNvPr id="1246" name=""/>
              <p:cNvGrpSpPr/>
              <p:nvPr/>
            </p:nvGrpSpPr>
            <p:grpSpPr>
              <a:xfrm>
                <a:off x="7924680" y="2438280"/>
                <a:ext cx="727200" cy="457200"/>
                <a:chOff x="7924680" y="2438280"/>
                <a:chExt cx="727200" cy="457200"/>
              </a:xfrm>
            </p:grpSpPr>
            <p:sp>
              <p:nvSpPr>
                <p:cNvPr id="1247" name=""/>
                <p:cNvSpPr/>
                <p:nvPr/>
              </p:nvSpPr>
              <p:spPr>
                <a:xfrm>
                  <a:off x="7924680" y="2438280"/>
                  <a:ext cx="685800" cy="457200"/>
                </a:xfrm>
                <a:prstGeom prst="rect">
                  <a:avLst/>
                </a:prstGeom>
                <a:noFill/>
                <a:ln cap="rnd" w="9360">
                  <a:solidFill>
                    <a:srgbClr val="bbe0e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796608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ccff66"/>
                      </a:solidFill>
                      <a:latin typeface="Arial"/>
                      <a:ea typeface="Times New Roman"/>
                    </a:rPr>
                    <a:t>eL-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249" name=""/>
              <p:cNvCxnSpPr>
                <a:stCxn id="1247" idx="0"/>
                <a:endCxn id="1238" idx="0"/>
              </p:cNvCxnSpPr>
              <p:nvPr/>
            </p:nvCxnSpPr>
            <p:spPr>
              <a:xfrm rot="5400000">
                <a:off x="7577280" y="1749960"/>
                <a:ext cx="2160" cy="1378800"/>
              </a:xfrm>
              <a:prstGeom prst="curvedConnector5">
                <a:avLst>
                  <a:gd name="adj1" fmla="val -14400000"/>
                  <a:gd name="adj2" fmla="val 49986"/>
                  <a:gd name="adj3" fmla="val -144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grpSp>
          <p:nvGrpSpPr>
            <p:cNvPr id="1250" name=""/>
            <p:cNvGrpSpPr/>
            <p:nvPr/>
          </p:nvGrpSpPr>
          <p:grpSpPr>
            <a:xfrm>
              <a:off x="1066680" y="2179080"/>
              <a:ext cx="3924360" cy="716400"/>
              <a:chOff x="1066680" y="2179080"/>
              <a:chExt cx="3924360" cy="716400"/>
            </a:xfrm>
          </p:grpSpPr>
          <p:grpSp>
            <p:nvGrpSpPr>
              <p:cNvPr id="1251" name=""/>
              <p:cNvGrpSpPr/>
              <p:nvPr/>
            </p:nvGrpSpPr>
            <p:grpSpPr>
              <a:xfrm>
                <a:off x="1066680" y="2438280"/>
                <a:ext cx="727200" cy="457200"/>
                <a:chOff x="1066680" y="2438280"/>
                <a:chExt cx="727200" cy="457200"/>
              </a:xfrm>
            </p:grpSpPr>
            <p:sp>
              <p:nvSpPr>
                <p:cNvPr id="1252" name=""/>
                <p:cNvSpPr/>
                <p:nvPr/>
              </p:nvSpPr>
              <p:spPr>
                <a:xfrm>
                  <a:off x="106668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110808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254" name=""/>
              <p:cNvCxnSpPr>
                <a:stCxn id="1235" idx="0"/>
                <a:endCxn id="1252" idx="0"/>
              </p:cNvCxnSpPr>
              <p:nvPr/>
            </p:nvCxnSpPr>
            <p:spPr>
              <a:xfrm rot="5400000">
                <a:off x="3198960" y="648360"/>
                <a:ext cx="2160" cy="3582000"/>
              </a:xfrm>
              <a:prstGeom prst="curvedConnector5">
                <a:avLst>
                  <a:gd name="adj1" fmla="val -14400000"/>
                  <a:gd name="adj2" fmla="val 49994"/>
                  <a:gd name="adj3" fmla="val -144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grpSp>
          <p:nvGrpSpPr>
            <p:cNvPr id="1255" name=""/>
            <p:cNvGrpSpPr/>
            <p:nvPr/>
          </p:nvGrpSpPr>
          <p:grpSpPr>
            <a:xfrm>
              <a:off x="3692520" y="2438280"/>
              <a:ext cx="727200" cy="457200"/>
              <a:chOff x="3692520" y="2438280"/>
              <a:chExt cx="727200" cy="457200"/>
            </a:xfrm>
          </p:grpSpPr>
          <p:sp>
            <p:nvSpPr>
              <p:cNvPr id="1256" name=""/>
              <p:cNvSpPr/>
              <p:nvPr/>
            </p:nvSpPr>
            <p:spPr>
              <a:xfrm>
                <a:off x="3692520" y="24382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733920" y="25146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L-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258" name=""/>
            <p:cNvCxnSpPr>
              <a:stCxn id="1235" idx="0"/>
              <a:endCxn id="1256" idx="0"/>
            </p:cNvCxnSpPr>
            <p:nvPr/>
          </p:nvCxnSpPr>
          <p:spPr>
            <a:xfrm rot="5400000">
              <a:off x="4511880" y="1960560"/>
              <a:ext cx="2520" cy="956160"/>
            </a:xfrm>
            <a:prstGeom prst="curvedConnector5">
              <a:avLst>
                <a:gd name="adj1" fmla="val -14400000"/>
                <a:gd name="adj2" fmla="val 49981"/>
                <a:gd name="adj3" fmla="val -14400000"/>
              </a:avLst>
            </a:prstGeom>
            <a:ln w="3240">
              <a:solidFill>
                <a:srgbClr val="bbe0e3"/>
              </a:solidFill>
              <a:miter/>
              <a:tailEnd len="med" type="triangle" w="med"/>
            </a:ln>
          </p:spPr>
        </p:cxnSp>
        <p:grpSp>
          <p:nvGrpSpPr>
            <p:cNvPr id="1259" name=""/>
            <p:cNvGrpSpPr/>
            <p:nvPr/>
          </p:nvGrpSpPr>
          <p:grpSpPr>
            <a:xfrm>
              <a:off x="2813040" y="2179080"/>
              <a:ext cx="1222200" cy="716400"/>
              <a:chOff x="2813040" y="2179080"/>
              <a:chExt cx="1222200" cy="716400"/>
            </a:xfrm>
          </p:grpSpPr>
          <p:grpSp>
            <p:nvGrpSpPr>
              <p:cNvPr id="1260" name=""/>
              <p:cNvGrpSpPr/>
              <p:nvPr/>
            </p:nvGrpSpPr>
            <p:grpSpPr>
              <a:xfrm>
                <a:off x="2813040" y="2438280"/>
                <a:ext cx="727200" cy="457200"/>
                <a:chOff x="2813040" y="2438280"/>
                <a:chExt cx="727200" cy="457200"/>
              </a:xfrm>
            </p:grpSpPr>
            <p:sp>
              <p:nvSpPr>
                <p:cNvPr id="1244" name=""/>
                <p:cNvSpPr/>
                <p:nvPr/>
              </p:nvSpPr>
              <p:spPr>
                <a:xfrm>
                  <a:off x="281304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285444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262" name=""/>
              <p:cNvCxnSpPr>
                <a:stCxn id="1256" idx="0"/>
                <a:endCxn id="1244" idx="0"/>
              </p:cNvCxnSpPr>
              <p:nvPr/>
            </p:nvCxnSpPr>
            <p:spPr>
              <a:xfrm rot="5400000">
                <a:off x="3594240" y="1999080"/>
                <a:ext cx="2160" cy="880200"/>
              </a:xfrm>
              <a:prstGeom prst="curvedConnector5">
                <a:avLst>
                  <a:gd name="adj1" fmla="val -14400000"/>
                  <a:gd name="adj2" fmla="val 50000"/>
                  <a:gd name="adj3" fmla="val -144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1263" name=""/>
            <p:cNvGrpSpPr/>
            <p:nvPr/>
          </p:nvGrpSpPr>
          <p:grpSpPr>
            <a:xfrm>
              <a:off x="6546960" y="2438280"/>
              <a:ext cx="726480" cy="457200"/>
              <a:chOff x="6546960" y="2438280"/>
              <a:chExt cx="726480" cy="457200"/>
            </a:xfrm>
          </p:grpSpPr>
          <p:sp>
            <p:nvSpPr>
              <p:cNvPr id="1238" name=""/>
              <p:cNvSpPr/>
              <p:nvPr/>
            </p:nvSpPr>
            <p:spPr>
              <a:xfrm>
                <a:off x="6546960" y="2438280"/>
                <a:ext cx="68544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588000" y="2514600"/>
                <a:ext cx="68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L-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1933560" y="1820880"/>
              <a:ext cx="2102040" cy="1074600"/>
              <a:chOff x="1933560" y="1820880"/>
              <a:chExt cx="2102040" cy="1074600"/>
            </a:xfrm>
          </p:grpSpPr>
          <p:grpSp>
            <p:nvGrpSpPr>
              <p:cNvPr id="1266" name=""/>
              <p:cNvGrpSpPr/>
              <p:nvPr/>
            </p:nvGrpSpPr>
            <p:grpSpPr>
              <a:xfrm>
                <a:off x="1933560" y="2438280"/>
                <a:ext cx="727200" cy="457200"/>
                <a:chOff x="1933560" y="2438280"/>
                <a:chExt cx="727200" cy="45720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193356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197496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269" name=""/>
              <p:cNvCxnSpPr>
                <a:stCxn id="1256" idx="0"/>
                <a:endCxn id="1267" idx="0"/>
              </p:cNvCxnSpPr>
              <p:nvPr/>
            </p:nvCxnSpPr>
            <p:spPr>
              <a:xfrm rot="5400000">
                <a:off x="3154680" y="1559520"/>
                <a:ext cx="2160" cy="1759680"/>
              </a:xfrm>
              <a:prstGeom prst="curvedConnector5">
                <a:avLst>
                  <a:gd name="adj1" fmla="val -34300000"/>
                  <a:gd name="adj2" fmla="val 49989"/>
                  <a:gd name="adj3" fmla="val -343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sp>
          <p:nvSpPr>
            <p:cNvPr id="1270" name=""/>
            <p:cNvSpPr/>
            <p:nvPr/>
          </p:nvSpPr>
          <p:spPr>
            <a:xfrm>
              <a:off x="0" y="190512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Comunicación 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228600" y="3581280"/>
            <a:ext cx="6248520" cy="533160"/>
            <a:chOff x="228600" y="3581280"/>
            <a:chExt cx="6248520" cy="533160"/>
          </a:xfrm>
        </p:grpSpPr>
        <p:grpSp>
          <p:nvGrpSpPr>
            <p:cNvPr id="1272" name=""/>
            <p:cNvGrpSpPr/>
            <p:nvPr/>
          </p:nvGrpSpPr>
          <p:grpSpPr>
            <a:xfrm>
              <a:off x="1066680" y="3581280"/>
              <a:ext cx="5222520" cy="457200"/>
              <a:chOff x="1066680" y="3581280"/>
              <a:chExt cx="5222520" cy="45720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4648320" y="3581280"/>
                <a:ext cx="726480" cy="457200"/>
                <a:chOff x="4648320" y="3581280"/>
                <a:chExt cx="726480" cy="45720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4648320" y="35812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4689360" y="3657600"/>
                  <a:ext cx="685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D-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6" name=""/>
              <p:cNvGrpSpPr/>
              <p:nvPr/>
            </p:nvGrpSpPr>
            <p:grpSpPr>
              <a:xfrm>
                <a:off x="5562720" y="3581280"/>
                <a:ext cx="726480" cy="457200"/>
                <a:chOff x="5562720" y="3581280"/>
                <a:chExt cx="726480" cy="457200"/>
              </a:xfrm>
            </p:grpSpPr>
            <p:sp>
              <p:nvSpPr>
                <p:cNvPr id="1277" name=""/>
                <p:cNvSpPr/>
                <p:nvPr/>
              </p:nvSpPr>
              <p:spPr>
                <a:xfrm>
                  <a:off x="5562720" y="35812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5603760" y="3657600"/>
                  <a:ext cx="685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D-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9" name=""/>
              <p:cNvGrpSpPr/>
              <p:nvPr/>
            </p:nvGrpSpPr>
            <p:grpSpPr>
              <a:xfrm>
                <a:off x="1066680" y="3581280"/>
                <a:ext cx="727200" cy="457200"/>
                <a:chOff x="1066680" y="3581280"/>
                <a:chExt cx="727200" cy="457200"/>
              </a:xfrm>
            </p:grpSpPr>
            <p:sp>
              <p:nvSpPr>
                <p:cNvPr id="1280" name=""/>
                <p:cNvSpPr/>
                <p:nvPr/>
              </p:nvSpPr>
              <p:spPr>
                <a:xfrm>
                  <a:off x="1066680" y="3581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1108080" y="3657600"/>
                  <a:ext cx="685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D-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2" name=""/>
              <p:cNvSpPr/>
              <p:nvPr/>
            </p:nvSpPr>
            <p:spPr>
              <a:xfrm>
                <a:off x="3692520" y="35812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733920" y="3657240"/>
                <a:ext cx="685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LD-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4" name=""/>
              <p:cNvGrpSpPr/>
              <p:nvPr/>
            </p:nvGrpSpPr>
            <p:grpSpPr>
              <a:xfrm>
                <a:off x="2813040" y="3581280"/>
                <a:ext cx="727200" cy="457200"/>
                <a:chOff x="2813040" y="3581280"/>
                <a:chExt cx="727200" cy="457200"/>
              </a:xfrm>
            </p:grpSpPr>
            <p:sp>
              <p:nvSpPr>
                <p:cNvPr id="1285" name=""/>
                <p:cNvSpPr/>
                <p:nvPr/>
              </p:nvSpPr>
              <p:spPr>
                <a:xfrm>
                  <a:off x="2813040" y="3581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2854440" y="3657600"/>
                  <a:ext cx="685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D-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1933560" y="3581280"/>
                <a:ext cx="727200" cy="457200"/>
                <a:chOff x="1933560" y="3581280"/>
                <a:chExt cx="727200" cy="45720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1933560" y="3581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1974960" y="3657600"/>
                  <a:ext cx="685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D-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0" name=""/>
            <p:cNvSpPr/>
            <p:nvPr/>
          </p:nvSpPr>
          <p:spPr>
            <a:xfrm>
              <a:off x="228600" y="4114440"/>
              <a:ext cx="6248520" cy="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31480" y="3733560"/>
              <a:ext cx="70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be0e3"/>
                  </a:solidFill>
                  <a:latin typeface="Arial"/>
                  <a:ea typeface="Times New Roman"/>
                </a:rPr>
                <a:t>t-L+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2" name=""/>
          <p:cNvGrpSpPr/>
          <p:nvPr/>
        </p:nvGrpSpPr>
        <p:grpSpPr>
          <a:xfrm>
            <a:off x="1406160" y="2895120"/>
            <a:ext cx="7432920" cy="2057400"/>
            <a:chOff x="1406160" y="2895120"/>
            <a:chExt cx="7432920" cy="2057400"/>
          </a:xfrm>
        </p:grpSpPr>
        <p:grpSp>
          <p:nvGrpSpPr>
            <p:cNvPr id="1293" name=""/>
            <p:cNvGrpSpPr/>
            <p:nvPr/>
          </p:nvGrpSpPr>
          <p:grpSpPr>
            <a:xfrm>
              <a:off x="1406160" y="2895120"/>
              <a:ext cx="5483160" cy="2057400"/>
              <a:chOff x="1406160" y="2895120"/>
              <a:chExt cx="5483160" cy="2057400"/>
            </a:xfrm>
          </p:grpSpPr>
          <p:cxnSp>
            <p:nvCxnSpPr>
              <p:cNvPr id="1294" name=""/>
              <p:cNvCxnSpPr>
                <a:stCxn id="1277" idx="1"/>
                <a:endCxn id="1275" idx="3"/>
              </p:cNvCxnSpPr>
              <p:nvPr/>
            </p:nvCxnSpPr>
            <p:spPr>
              <a:xfrm flipH="1">
                <a:off x="5374440" y="3809520"/>
                <a:ext cx="188280" cy="1080"/>
              </a:xfrm>
              <a:prstGeom prst="straightConnector1">
                <a:avLst/>
              </a:prstGeom>
              <a:ln w="28440">
                <a:solidFill>
                  <a:srgbClr val="cccc00"/>
                </a:solidFill>
                <a:miter/>
              </a:ln>
            </p:spPr>
          </p:cxnSp>
          <p:cxnSp>
            <p:nvCxnSpPr>
              <p:cNvPr id="1295" name=""/>
              <p:cNvCxnSpPr>
                <a:stCxn id="1274" idx="1"/>
                <a:endCxn id="1283" idx="3"/>
              </p:cNvCxnSpPr>
              <p:nvPr/>
            </p:nvCxnSpPr>
            <p:spPr>
              <a:xfrm flipH="1">
                <a:off x="4419000" y="3809520"/>
                <a:ext cx="229320" cy="1080"/>
              </a:xfrm>
              <a:prstGeom prst="straightConnector1">
                <a:avLst/>
              </a:prstGeom>
              <a:ln w="28440">
                <a:solidFill>
                  <a:srgbClr val="cccc00"/>
                </a:solidFill>
                <a:miter/>
              </a:ln>
            </p:spPr>
          </p:cxnSp>
          <p:cxnSp>
            <p:nvCxnSpPr>
              <p:cNvPr id="1296" name=""/>
              <p:cNvCxnSpPr>
                <a:stCxn id="1282" idx="1"/>
                <a:endCxn id="1286" idx="3"/>
              </p:cNvCxnSpPr>
              <p:nvPr/>
            </p:nvCxnSpPr>
            <p:spPr>
              <a:xfrm flipH="1">
                <a:off x="3539520" y="3809520"/>
                <a:ext cx="153000" cy="1080"/>
              </a:xfrm>
              <a:prstGeom prst="straightConnector1">
                <a:avLst/>
              </a:prstGeom>
              <a:ln w="28440">
                <a:solidFill>
                  <a:srgbClr val="cccc00"/>
                </a:solidFill>
                <a:miter/>
              </a:ln>
            </p:spPr>
          </p:cxnSp>
          <p:cxnSp>
            <p:nvCxnSpPr>
              <p:cNvPr id="1297" name=""/>
              <p:cNvCxnSpPr>
                <a:stCxn id="1285" idx="1"/>
                <a:endCxn id="1289" idx="3"/>
              </p:cNvCxnSpPr>
              <p:nvPr/>
            </p:nvCxnSpPr>
            <p:spPr>
              <a:xfrm flipH="1">
                <a:off x="2660040" y="3809520"/>
                <a:ext cx="153000" cy="1080"/>
              </a:xfrm>
              <a:prstGeom prst="straightConnector1">
                <a:avLst/>
              </a:prstGeom>
              <a:ln w="28440">
                <a:solidFill>
                  <a:srgbClr val="cccc00"/>
                </a:solidFill>
                <a:miter/>
              </a:ln>
            </p:spPr>
          </p:cxnSp>
          <p:cxnSp>
            <p:nvCxnSpPr>
              <p:cNvPr id="1298" name=""/>
              <p:cNvCxnSpPr>
                <a:stCxn id="1288" idx="1"/>
                <a:endCxn id="1281" idx="3"/>
              </p:cNvCxnSpPr>
              <p:nvPr/>
            </p:nvCxnSpPr>
            <p:spPr>
              <a:xfrm rot="10800000">
                <a:off x="1793160" y="3809160"/>
                <a:ext cx="140400" cy="1080"/>
              </a:xfrm>
              <a:prstGeom prst="bentConnector2">
                <a:avLst/>
              </a:prstGeom>
              <a:ln w="28440">
                <a:solidFill>
                  <a:srgbClr val="cccc00"/>
                </a:solidFill>
                <a:miter/>
              </a:ln>
            </p:spPr>
          </p:cxnSp>
          <p:grpSp>
            <p:nvGrpSpPr>
              <p:cNvPr id="1299" name=""/>
              <p:cNvGrpSpPr/>
              <p:nvPr/>
            </p:nvGrpSpPr>
            <p:grpSpPr>
              <a:xfrm>
                <a:off x="1406160" y="2895120"/>
                <a:ext cx="5483160" cy="2057400"/>
                <a:chOff x="1406160" y="2895120"/>
                <a:chExt cx="5483160" cy="2057400"/>
              </a:xfrm>
            </p:grpSpPr>
            <p:cxnSp>
              <p:nvCxnSpPr>
                <p:cNvPr id="1300" name=""/>
                <p:cNvCxnSpPr>
                  <a:stCxn id="1238" idx="2"/>
                  <a:endCxn id="1278" idx="3"/>
                </p:cNvCxnSpPr>
                <p:nvPr/>
              </p:nvCxnSpPr>
              <p:spPr>
                <a:xfrm rot="5400000">
                  <a:off x="6131520" y="3052440"/>
                  <a:ext cx="915120" cy="600840"/>
                </a:xfrm>
                <a:prstGeom prst="bentConnector2">
                  <a:avLst/>
                </a:prstGeom>
                <a:ln w="28440">
                  <a:solidFill>
                    <a:srgbClr val="cccc00"/>
                  </a:solidFill>
                  <a:miter/>
                </a:ln>
              </p:spPr>
            </p:cxnSp>
            <p:cxnSp>
              <p:nvCxnSpPr>
                <p:cNvPr id="1301" name=""/>
                <p:cNvCxnSpPr>
                  <a:stCxn id="1224" idx="0"/>
                  <a:endCxn id="1278" idx="3"/>
                </p:cNvCxnSpPr>
                <p:nvPr/>
              </p:nvCxnSpPr>
              <p:spPr>
                <a:xfrm flipV="1" rot="16200000">
                  <a:off x="6012000" y="4086000"/>
                  <a:ext cx="1143720" cy="589680"/>
                </a:xfrm>
                <a:prstGeom prst="bentConnector2">
                  <a:avLst/>
                </a:prstGeom>
                <a:ln w="28440">
                  <a:solidFill>
                    <a:srgbClr val="cccc00"/>
                  </a:solidFill>
                  <a:miter/>
                </a:ln>
              </p:spPr>
            </p:cxnSp>
            <p:grpSp>
              <p:nvGrpSpPr>
                <p:cNvPr id="1302" name=""/>
                <p:cNvGrpSpPr/>
                <p:nvPr/>
              </p:nvGrpSpPr>
              <p:grpSpPr>
                <a:xfrm>
                  <a:off x="1409400" y="2895120"/>
                  <a:ext cx="4496400" cy="686160"/>
                  <a:chOff x="1409400" y="2895120"/>
                  <a:chExt cx="4496400" cy="686160"/>
                </a:xfrm>
              </p:grpSpPr>
              <p:cxnSp>
                <p:nvCxnSpPr>
                  <p:cNvPr id="1303" name=""/>
                  <p:cNvCxnSpPr>
                    <a:stCxn id="1241" idx="2"/>
                    <a:endCxn id="1277" idx="0"/>
                  </p:cNvCxnSpPr>
                  <p:nvPr/>
                </p:nvCxnSpPr>
                <p:spPr>
                  <a:xfrm>
                    <a:off x="5905080" y="2895120"/>
                    <a:ext cx="1080" cy="68652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  <p:cxnSp>
                <p:nvCxnSpPr>
                  <p:cNvPr id="1304" name=""/>
                  <p:cNvCxnSpPr>
                    <a:stCxn id="1235" idx="2"/>
                    <a:endCxn id="1274" idx="0"/>
                  </p:cNvCxnSpPr>
                  <p:nvPr/>
                </p:nvCxnSpPr>
                <p:spPr>
                  <a:xfrm>
                    <a:off x="4990680" y="2895120"/>
                    <a:ext cx="1080" cy="68652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  <p:cxnSp>
                <p:nvCxnSpPr>
                  <p:cNvPr id="1305" name=""/>
                  <p:cNvCxnSpPr>
                    <a:stCxn id="1256" idx="2"/>
                    <a:endCxn id="1282" idx="0"/>
                  </p:cNvCxnSpPr>
                  <p:nvPr/>
                </p:nvCxnSpPr>
                <p:spPr>
                  <a:xfrm>
                    <a:off x="4035240" y="2895120"/>
                    <a:ext cx="1080" cy="68652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  <p:cxnSp>
                <p:nvCxnSpPr>
                  <p:cNvPr id="1306" name=""/>
                  <p:cNvCxnSpPr>
                    <a:stCxn id="1244" idx="2"/>
                    <a:endCxn id="1285" idx="0"/>
                  </p:cNvCxnSpPr>
                  <p:nvPr/>
                </p:nvCxnSpPr>
                <p:spPr>
                  <a:xfrm>
                    <a:off x="3155760" y="2895120"/>
                    <a:ext cx="1080" cy="68652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  <p:cxnSp>
                <p:nvCxnSpPr>
                  <p:cNvPr id="1307" name=""/>
                  <p:cNvCxnSpPr>
                    <a:stCxn id="1267" idx="2"/>
                    <a:endCxn id="1288" idx="0"/>
                  </p:cNvCxnSpPr>
                  <p:nvPr/>
                </p:nvCxnSpPr>
                <p:spPr>
                  <a:xfrm>
                    <a:off x="2276280" y="2895120"/>
                    <a:ext cx="1080" cy="68652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  <p:cxnSp>
                <p:nvCxnSpPr>
                  <p:cNvPr id="1308" name=""/>
                  <p:cNvCxnSpPr>
                    <a:stCxn id="1252" idx="2"/>
                    <a:endCxn id="1280" idx="0"/>
                  </p:cNvCxnSpPr>
                  <p:nvPr/>
                </p:nvCxnSpPr>
                <p:spPr>
                  <a:xfrm>
                    <a:off x="1409400" y="2895120"/>
                    <a:ext cx="1080" cy="68652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</p:grpSp>
            <p:grpSp>
              <p:nvGrpSpPr>
                <p:cNvPr id="1309" name=""/>
                <p:cNvGrpSpPr/>
                <p:nvPr/>
              </p:nvGrpSpPr>
              <p:grpSpPr>
                <a:xfrm>
                  <a:off x="1406160" y="4038120"/>
                  <a:ext cx="4496400" cy="914400"/>
                  <a:chOff x="1406160" y="4038120"/>
                  <a:chExt cx="4496400" cy="914400"/>
                </a:xfrm>
              </p:grpSpPr>
              <p:cxnSp>
                <p:nvCxnSpPr>
                  <p:cNvPr id="1310" name=""/>
                  <p:cNvCxnSpPr/>
                  <p:nvPr/>
                </p:nvCxnSpPr>
                <p:spPr>
                  <a:xfrm>
                    <a:off x="5901840" y="4038120"/>
                    <a:ext cx="1080" cy="91476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  <p:cxnSp>
                <p:nvCxnSpPr>
                  <p:cNvPr id="1311" name=""/>
                  <p:cNvCxnSpPr/>
                  <p:nvPr/>
                </p:nvCxnSpPr>
                <p:spPr>
                  <a:xfrm>
                    <a:off x="4987440" y="4038120"/>
                    <a:ext cx="1080" cy="91476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  <p:cxnSp>
                <p:nvCxnSpPr>
                  <p:cNvPr id="1312" name=""/>
                  <p:cNvCxnSpPr/>
                  <p:nvPr/>
                </p:nvCxnSpPr>
                <p:spPr>
                  <a:xfrm>
                    <a:off x="4032000" y="4038120"/>
                    <a:ext cx="1080" cy="91476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  <p:cxnSp>
                <p:nvCxnSpPr>
                  <p:cNvPr id="1313" name=""/>
                  <p:cNvCxnSpPr/>
                  <p:nvPr/>
                </p:nvCxnSpPr>
                <p:spPr>
                  <a:xfrm>
                    <a:off x="3152520" y="4038120"/>
                    <a:ext cx="1080" cy="91476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  <p:cxnSp>
                <p:nvCxnSpPr>
                  <p:cNvPr id="1314" name=""/>
                  <p:cNvCxnSpPr/>
                  <p:nvPr/>
                </p:nvCxnSpPr>
                <p:spPr>
                  <a:xfrm>
                    <a:off x="2273040" y="4038120"/>
                    <a:ext cx="1080" cy="91476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  <p:cxnSp>
                <p:nvCxnSpPr>
                  <p:cNvPr id="1315" name=""/>
                  <p:cNvCxnSpPr/>
                  <p:nvPr/>
                </p:nvCxnSpPr>
                <p:spPr>
                  <a:xfrm>
                    <a:off x="1406160" y="4038120"/>
                    <a:ext cx="1080" cy="91476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</p:grpSp>
          </p:grpSp>
        </p:grpSp>
        <p:sp>
          <p:nvSpPr>
            <p:cNvPr id="1316" name=""/>
            <p:cNvSpPr/>
            <p:nvPr/>
          </p:nvSpPr>
          <p:spPr>
            <a:xfrm>
              <a:off x="7238880" y="353376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Complejidad copres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685800"/>
            <a:ext cx="9163080" cy="5638680"/>
            <a:chOff x="0" y="685800"/>
            <a:chExt cx="9163080" cy="5638680"/>
          </a:xfrm>
        </p:grpSpPr>
        <p:sp>
          <p:nvSpPr>
            <p:cNvPr id="146" name=""/>
            <p:cNvSpPr/>
            <p:nvPr/>
          </p:nvSpPr>
          <p:spPr>
            <a:xfrm>
              <a:off x="0" y="685800"/>
              <a:ext cx="9163080" cy="5638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c4c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685800"/>
              <a:ext cx="457200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0" y="3428640"/>
              <a:ext cx="457200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572000" y="685800"/>
              <a:ext cx="457200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72000" y="3429000"/>
              <a:ext cx="457200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479440" y="2286000"/>
              <a:ext cx="4291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752480" y="2362320"/>
            <a:ext cx="6172200" cy="3704760"/>
            <a:chOff x="1752480" y="2362320"/>
            <a:chExt cx="6172200" cy="3704760"/>
          </a:xfrm>
        </p:grpSpPr>
        <p:sp>
          <p:nvSpPr>
            <p:cNvPr id="153" name=""/>
            <p:cNvSpPr/>
            <p:nvPr/>
          </p:nvSpPr>
          <p:spPr>
            <a:xfrm>
              <a:off x="3005280" y="5486400"/>
              <a:ext cx="312408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Unidad de comunicación como selección de tres cifr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0800000">
              <a:off x="2743200" y="2895480"/>
              <a:ext cx="3657600" cy="1371600"/>
            </a:xfrm>
            <a:prstGeom prst="triangle">
              <a:avLst>
                <a:gd name="adj" fmla="val 50000"/>
              </a:avLst>
            </a:prstGeom>
            <a:noFill/>
            <a:ln w="7632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1752480" y="2362320"/>
              <a:ext cx="2286000" cy="380880"/>
              <a:chOff x="1752480" y="2362320"/>
              <a:chExt cx="2286000" cy="380880"/>
            </a:xfrm>
          </p:grpSpPr>
          <p:sp>
            <p:nvSpPr>
              <p:cNvPr id="156" name=""/>
              <p:cNvSpPr/>
              <p:nvPr/>
            </p:nvSpPr>
            <p:spPr>
              <a:xfrm>
                <a:off x="2082960" y="236232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752480" y="2362320"/>
                <a:ext cx="228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Informa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638680" y="2362320"/>
              <a:ext cx="2286000" cy="393480"/>
              <a:chOff x="5638680" y="2362320"/>
              <a:chExt cx="2286000" cy="393480"/>
            </a:xfrm>
          </p:grpSpPr>
          <p:sp>
            <p:nvSpPr>
              <p:cNvPr id="159" name=""/>
              <p:cNvSpPr/>
              <p:nvPr/>
            </p:nvSpPr>
            <p:spPr>
              <a:xfrm>
                <a:off x="6006960" y="237492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638680" y="2362320"/>
                <a:ext cx="228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Notifica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3657600" y="4330800"/>
              <a:ext cx="2286000" cy="393120"/>
              <a:chOff x="3657600" y="4330800"/>
              <a:chExt cx="2286000" cy="393120"/>
            </a:xfrm>
          </p:grpSpPr>
          <p:sp>
            <p:nvSpPr>
              <p:cNvPr id="162" name=""/>
              <p:cNvSpPr/>
              <p:nvPr/>
            </p:nvSpPr>
            <p:spPr>
              <a:xfrm>
                <a:off x="3962520" y="4343400"/>
                <a:ext cx="380880" cy="380520"/>
              </a:xfrm>
              <a:prstGeom prst="ellipse">
                <a:avLst/>
              </a:prstGeom>
              <a:noFill/>
              <a:ln w="381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657600" y="4330800"/>
                <a:ext cx="228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Comprens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318960" y="762120"/>
            <a:ext cx="3186720" cy="990360"/>
            <a:chOff x="318960" y="762120"/>
            <a:chExt cx="3186720" cy="990360"/>
          </a:xfrm>
        </p:grpSpPr>
        <p:sp>
          <p:nvSpPr>
            <p:cNvPr id="165" name=""/>
            <p:cNvSpPr/>
            <p:nvPr/>
          </p:nvSpPr>
          <p:spPr>
            <a:xfrm>
              <a:off x="318960" y="762120"/>
              <a:ext cx="114300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6280" y="822240"/>
              <a:ext cx="2849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Comunic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Versión sistém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/>
          <p:nvPr/>
        </p:nvSpPr>
        <p:spPr>
          <a:xfrm>
            <a:off x="0" y="0"/>
            <a:ext cx="15238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43360" y="380880"/>
            <a:ext cx="3146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Verdana"/>
              </a:rPr>
              <a:t>Desdiferenciaci</a:t>
            </a:r>
            <a:r>
              <a:rPr b="1" lang="en-US" sz="2600" spc="-1" strike="noStrike">
                <a:solidFill>
                  <a:srgbClr val="00ff00"/>
                </a:solidFill>
                <a:latin typeface="Verdana"/>
                <a:ea typeface="ＭＳ Ｐゴシック"/>
              </a:rPr>
              <a:t>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419720" y="2590560"/>
            <a:ext cx="3267000" cy="3546360"/>
            <a:chOff x="4419720" y="2590560"/>
            <a:chExt cx="3267000" cy="3546360"/>
          </a:xfrm>
        </p:grpSpPr>
        <p:sp>
          <p:nvSpPr>
            <p:cNvPr id="1320" name=""/>
            <p:cNvSpPr/>
            <p:nvPr/>
          </p:nvSpPr>
          <p:spPr>
            <a:xfrm>
              <a:off x="6881760" y="2773080"/>
              <a:ext cx="346680" cy="489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ff66"/>
                  </a:solidFill>
                  <a:latin typeface="Arial Narrow"/>
                </a:rPr>
                <a:t>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rot="16200000">
              <a:off x="4280040" y="2730240"/>
              <a:ext cx="3546360" cy="3267000"/>
            </a:xfrm>
            <a:custGeom>
              <a:avLst/>
              <a:gdLst>
                <a:gd name="textAreaLeft" fmla="*/ 0 w 3546360"/>
                <a:gd name="textAreaRight" fmla="*/ 3546720 w 3546360"/>
                <a:gd name="textAreaTop" fmla="*/ 0 h 3267000"/>
                <a:gd name="textAreaBottom" fmla="*/ 3267360 h 32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ccccc">
                    <a:alpha val="50196"/>
                  </a:srgbClr>
                </a:gs>
                <a:gs pos="100000">
                  <a:srgbClr val="5e5e5e">
                    <a:alpha val="50196"/>
                  </a:srgbClr>
                </a:gs>
              </a:gsLst>
              <a:lin ang="5400000"/>
            </a:gradFill>
            <a:ln w="572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445360" y="53704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l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661000" y="278100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l’’’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853520" y="3406680"/>
              <a:ext cx="4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l’’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762080" y="4608360"/>
              <a:ext cx="35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l’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481000" y="4352760"/>
              <a:ext cx="56340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E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1371240" y="1824120"/>
            <a:ext cx="3267000" cy="3546360"/>
            <a:chOff x="1371240" y="1824120"/>
            <a:chExt cx="3267000" cy="3546360"/>
          </a:xfrm>
        </p:grpSpPr>
        <p:sp>
          <p:nvSpPr>
            <p:cNvPr id="1328" name=""/>
            <p:cNvSpPr/>
            <p:nvPr/>
          </p:nvSpPr>
          <p:spPr>
            <a:xfrm rot="5400000">
              <a:off x="1231560" y="1963440"/>
              <a:ext cx="3546360" cy="3267000"/>
            </a:xfrm>
            <a:custGeom>
              <a:avLst/>
              <a:gdLst>
                <a:gd name="textAreaLeft" fmla="*/ 0 w 3546360"/>
                <a:gd name="textAreaRight" fmla="*/ 3546720 w 3546360"/>
                <a:gd name="textAreaTop" fmla="*/ 0 h 3267000"/>
                <a:gd name="textAreaBottom" fmla="*/ 3267360 h 32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cff66">
                    <a:alpha val="50196"/>
                  </a:srgbClr>
                </a:gs>
                <a:gs pos="100000">
                  <a:srgbClr val="ccff66">
                    <a:alpha val="50196"/>
                  </a:srgbClr>
                </a:gs>
              </a:gsLst>
              <a:lin ang="5400000"/>
            </a:gradFill>
            <a:ln w="5724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715760" y="4678200"/>
              <a:ext cx="375840" cy="489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ff66"/>
                  </a:solidFill>
                  <a:latin typeface="Arial Narrow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009240" y="4629240"/>
              <a:ext cx="54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’’’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998160" y="2846520"/>
              <a:ext cx="42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’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187440" y="210996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900240" y="405936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’’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977200" y="3119400"/>
              <a:ext cx="64260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Al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5" name=""/>
          <p:cNvGrpSpPr/>
          <p:nvPr/>
        </p:nvGrpSpPr>
        <p:grpSpPr>
          <a:xfrm>
            <a:off x="4141080" y="3605040"/>
            <a:ext cx="964440" cy="1201680"/>
            <a:chOff x="4141080" y="3605040"/>
            <a:chExt cx="964440" cy="1201680"/>
          </a:xfrm>
        </p:grpSpPr>
        <p:cxnSp>
          <p:nvCxnSpPr>
            <p:cNvPr id="1336" name=""/>
            <p:cNvCxnSpPr/>
            <p:nvPr/>
          </p:nvCxnSpPr>
          <p:spPr>
            <a:xfrm rot="5400000">
              <a:off x="4511160" y="4146120"/>
              <a:ext cx="805320" cy="119880"/>
            </a:xfrm>
            <a:prstGeom prst="curvedConnector5">
              <a:avLst>
                <a:gd name="adj1" fmla="val 49865"/>
                <a:gd name="adj2" fmla="val 50000"/>
                <a:gd name="adj3" fmla="val 49865"/>
              </a:avLst>
            </a:prstGeom>
            <a:ln w="38160">
              <a:solidFill>
                <a:srgbClr val="ffcc66"/>
              </a:solidFill>
              <a:miter/>
              <a:headEnd len="med" type="triangle" w="med"/>
            </a:ln>
          </p:spPr>
        </p:cxnSp>
        <p:sp>
          <p:nvSpPr>
            <p:cNvPr id="1337" name=""/>
            <p:cNvSpPr/>
            <p:nvPr/>
          </p:nvSpPr>
          <p:spPr>
            <a:xfrm>
              <a:off x="4724280" y="4057560"/>
              <a:ext cx="381240" cy="38124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38" name=""/>
            <p:cNvCxnSpPr>
              <a:stCxn id="1324" idx="1"/>
              <a:endCxn id="1333" idx="0"/>
            </p:cNvCxnSpPr>
            <p:nvPr/>
          </p:nvCxnSpPr>
          <p:spPr>
            <a:xfrm flipV="1" rot="10800000">
              <a:off x="4141080" y="3604680"/>
              <a:ext cx="710280" cy="455040"/>
            </a:xfrm>
            <a:prstGeom prst="curvedConnector2">
              <a:avLst/>
            </a:prstGeom>
            <a:ln w="38160">
              <a:solidFill>
                <a:srgbClr val="80ff00"/>
              </a:solidFill>
              <a:miter/>
              <a:headEnd len="med" type="triangle" w="med"/>
            </a:ln>
          </p:spPr>
        </p:cxnSp>
        <p:cxnSp>
          <p:nvCxnSpPr>
            <p:cNvPr id="1339" name=""/>
            <p:cNvCxnSpPr>
              <a:stCxn id="1333" idx="2"/>
              <a:endCxn id="1325" idx="1"/>
            </p:cNvCxnSpPr>
            <p:nvPr/>
          </p:nvCxnSpPr>
          <p:spPr>
            <a:xfrm flipH="1" rot="16200000">
              <a:off x="4276080" y="4321080"/>
              <a:ext cx="351360" cy="619920"/>
            </a:xfrm>
            <a:prstGeom prst="curvedConnector2">
              <a:avLst/>
            </a:prstGeom>
            <a:ln w="38160">
              <a:solidFill>
                <a:srgbClr val="80ff00"/>
              </a:solidFill>
              <a:miter/>
              <a:headEnd len="med" type="triangle" w="med"/>
            </a:ln>
          </p:spPr>
        </p:cxnSp>
      </p:grp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5486400" y="0"/>
            <a:ext cx="36576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524640" y="34920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ff00"/>
                </a:solidFill>
                <a:latin typeface="Verdana"/>
              </a:rPr>
              <a:t>Desdiferen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2" name=""/>
          <p:cNvGrpSpPr/>
          <p:nvPr/>
        </p:nvGrpSpPr>
        <p:grpSpPr>
          <a:xfrm>
            <a:off x="228600" y="914400"/>
            <a:ext cx="9067680" cy="5868000"/>
            <a:chOff x="228600" y="914400"/>
            <a:chExt cx="9067680" cy="5868000"/>
          </a:xfrm>
        </p:grpSpPr>
        <p:sp>
          <p:nvSpPr>
            <p:cNvPr id="1343" name=""/>
            <p:cNvSpPr/>
            <p:nvPr/>
          </p:nvSpPr>
          <p:spPr>
            <a:xfrm>
              <a:off x="2286000" y="137160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asado presente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808600" y="91440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resente</a:t>
              </a:r>
              <a:r>
                <a:rPr b="1" lang="es-MX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086600" y="14032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Futuro presente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066680" y="1295280"/>
              <a:ext cx="0" cy="5181840"/>
            </a:xfrm>
            <a:prstGeom prst="line">
              <a:avLst/>
            </a:prstGeom>
            <a:ln cap="rnd" w="9360">
              <a:solidFill>
                <a:srgbClr val="66ff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553080" y="1295280"/>
              <a:ext cx="0" cy="5257800"/>
            </a:xfrm>
            <a:prstGeom prst="line">
              <a:avLst/>
            </a:prstGeom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238880" y="1295280"/>
              <a:ext cx="0" cy="5257800"/>
            </a:xfrm>
            <a:prstGeom prst="line">
              <a:avLst/>
            </a:prstGeom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28600" y="3048120"/>
              <a:ext cx="8839080" cy="0"/>
            </a:xfrm>
            <a:prstGeom prst="line">
              <a:avLst/>
            </a:prstGeom>
            <a:ln w="381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48400" y="2727360"/>
              <a:ext cx="4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be0e3"/>
                  </a:solidFill>
                  <a:latin typeface="Arial"/>
                  <a:ea typeface="Times New Roman"/>
                </a:rPr>
                <a:t>t-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8686800" y="1295280"/>
              <a:ext cx="0" cy="5257800"/>
            </a:xfrm>
            <a:prstGeom prst="line">
              <a:avLst/>
            </a:prstGeom>
            <a:ln cap="rnd" w="9360">
              <a:solidFill>
                <a:srgbClr val="66ff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2" name=""/>
            <p:cNvGrpSpPr/>
            <p:nvPr/>
          </p:nvGrpSpPr>
          <p:grpSpPr>
            <a:xfrm>
              <a:off x="228600" y="4481640"/>
              <a:ext cx="8839080" cy="337320"/>
              <a:chOff x="228600" y="4481640"/>
              <a:chExt cx="8839080" cy="337320"/>
            </a:xfrm>
          </p:grpSpPr>
          <p:sp>
            <p:nvSpPr>
              <p:cNvPr id="1353" name=""/>
              <p:cNvSpPr/>
              <p:nvPr/>
            </p:nvSpPr>
            <p:spPr>
              <a:xfrm>
                <a:off x="228600" y="4802400"/>
                <a:ext cx="8839080" cy="0"/>
              </a:xfrm>
              <a:prstGeom prst="line">
                <a:avLst/>
              </a:prstGeom>
              <a:ln w="38160">
                <a:solidFill>
                  <a:srgbClr val="66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236160" y="4481640"/>
                <a:ext cx="461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bbe0e3"/>
                    </a:solidFill>
                    <a:latin typeface="Arial"/>
                    <a:ea typeface="Times New Roman"/>
                  </a:rPr>
                  <a:t>t-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5" name=""/>
            <p:cNvSpPr/>
            <p:nvPr/>
          </p:nvSpPr>
          <p:spPr>
            <a:xfrm>
              <a:off x="2286000" y="60958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asado presente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808600" y="64450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resente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086600" y="612792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Futuro presente</a:t>
              </a:r>
              <a:r>
                <a:rPr b="1" lang="es-MX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0" y="1820880"/>
            <a:ext cx="8651880" cy="1074600"/>
            <a:chOff x="0" y="1820880"/>
            <a:chExt cx="8651880" cy="1074600"/>
          </a:xfrm>
        </p:grpSpPr>
        <p:grpSp>
          <p:nvGrpSpPr>
            <p:cNvPr id="1359" name=""/>
            <p:cNvGrpSpPr/>
            <p:nvPr/>
          </p:nvGrpSpPr>
          <p:grpSpPr>
            <a:xfrm>
              <a:off x="4648320" y="1820880"/>
              <a:ext cx="2241360" cy="1074600"/>
              <a:chOff x="4648320" y="1820880"/>
              <a:chExt cx="2241360" cy="1074600"/>
            </a:xfrm>
          </p:grpSpPr>
          <p:grpSp>
            <p:nvGrpSpPr>
              <p:cNvPr id="1360" name=""/>
              <p:cNvGrpSpPr/>
              <p:nvPr/>
            </p:nvGrpSpPr>
            <p:grpSpPr>
              <a:xfrm>
                <a:off x="4648320" y="2438280"/>
                <a:ext cx="726480" cy="457200"/>
                <a:chOff x="4648320" y="2438280"/>
                <a:chExt cx="726480" cy="457200"/>
              </a:xfrm>
            </p:grpSpPr>
            <p:sp>
              <p:nvSpPr>
                <p:cNvPr id="1361" name=""/>
                <p:cNvSpPr/>
                <p:nvPr/>
              </p:nvSpPr>
              <p:spPr>
                <a:xfrm>
                  <a:off x="4648320" y="24382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4689360" y="25146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363" name=""/>
              <p:cNvCxnSpPr>
                <a:stCxn id="1364" idx="0"/>
                <a:endCxn id="1361" idx="0"/>
              </p:cNvCxnSpPr>
              <p:nvPr/>
            </p:nvCxnSpPr>
            <p:spPr>
              <a:xfrm rot="5400000">
                <a:off x="5938920" y="1489680"/>
                <a:ext cx="2160" cy="1899360"/>
              </a:xfrm>
              <a:prstGeom prst="curvedConnector5">
                <a:avLst>
                  <a:gd name="adj1" fmla="val -34300000"/>
                  <a:gd name="adj2" fmla="val 49990"/>
                  <a:gd name="adj3" fmla="val -343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1365" name=""/>
            <p:cNvGrpSpPr/>
            <p:nvPr/>
          </p:nvGrpSpPr>
          <p:grpSpPr>
            <a:xfrm>
              <a:off x="3155400" y="1840680"/>
              <a:ext cx="3133800" cy="1054800"/>
              <a:chOff x="3155400" y="1840680"/>
              <a:chExt cx="3133800" cy="1054800"/>
            </a:xfrm>
          </p:grpSpPr>
          <p:grpSp>
            <p:nvGrpSpPr>
              <p:cNvPr id="1366" name=""/>
              <p:cNvGrpSpPr/>
              <p:nvPr/>
            </p:nvGrpSpPr>
            <p:grpSpPr>
              <a:xfrm>
                <a:off x="5562720" y="2438280"/>
                <a:ext cx="726480" cy="457200"/>
                <a:chOff x="5562720" y="2438280"/>
                <a:chExt cx="726480" cy="457200"/>
              </a:xfrm>
            </p:grpSpPr>
            <p:sp>
              <p:nvSpPr>
                <p:cNvPr id="1367" name=""/>
                <p:cNvSpPr/>
                <p:nvPr/>
              </p:nvSpPr>
              <p:spPr>
                <a:xfrm>
                  <a:off x="5562720" y="24382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5603760" y="25146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369" name=""/>
              <p:cNvCxnSpPr>
                <a:stCxn id="1367" idx="0"/>
                <a:endCxn id="1370" idx="0"/>
              </p:cNvCxnSpPr>
              <p:nvPr/>
            </p:nvCxnSpPr>
            <p:spPr>
              <a:xfrm rot="5400000">
                <a:off x="4529160" y="1064160"/>
                <a:ext cx="2160" cy="2750040"/>
              </a:xfrm>
              <a:prstGeom prst="curvedConnector5">
                <a:avLst>
                  <a:gd name="adj1" fmla="val -33200000"/>
                  <a:gd name="adj2" fmla="val 50000"/>
                  <a:gd name="adj3" fmla="val -332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1371" name=""/>
            <p:cNvGrpSpPr/>
            <p:nvPr/>
          </p:nvGrpSpPr>
          <p:grpSpPr>
            <a:xfrm>
              <a:off x="6889320" y="2179080"/>
              <a:ext cx="1762560" cy="716400"/>
              <a:chOff x="6889320" y="2179080"/>
              <a:chExt cx="1762560" cy="716400"/>
            </a:xfrm>
          </p:grpSpPr>
          <p:grpSp>
            <p:nvGrpSpPr>
              <p:cNvPr id="1372" name=""/>
              <p:cNvGrpSpPr/>
              <p:nvPr/>
            </p:nvGrpSpPr>
            <p:grpSpPr>
              <a:xfrm>
                <a:off x="7924680" y="2438280"/>
                <a:ext cx="727200" cy="457200"/>
                <a:chOff x="7924680" y="2438280"/>
                <a:chExt cx="727200" cy="457200"/>
              </a:xfrm>
            </p:grpSpPr>
            <p:sp>
              <p:nvSpPr>
                <p:cNvPr id="1373" name=""/>
                <p:cNvSpPr/>
                <p:nvPr/>
              </p:nvSpPr>
              <p:spPr>
                <a:xfrm>
                  <a:off x="7924680" y="2438280"/>
                  <a:ext cx="685800" cy="457200"/>
                </a:xfrm>
                <a:prstGeom prst="rect">
                  <a:avLst/>
                </a:prstGeom>
                <a:noFill/>
                <a:ln cap="rnd" w="9360">
                  <a:solidFill>
                    <a:srgbClr val="bbe0e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796608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cc3300"/>
                      </a:solidFill>
                      <a:latin typeface="Arial"/>
                      <a:ea typeface="Times New Roman"/>
                    </a:rPr>
                    <a:t>eL-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375" name=""/>
              <p:cNvCxnSpPr>
                <a:stCxn id="1373" idx="0"/>
                <a:endCxn id="1364" idx="0"/>
              </p:cNvCxnSpPr>
              <p:nvPr/>
            </p:nvCxnSpPr>
            <p:spPr>
              <a:xfrm rot="5400000">
                <a:off x="7577280" y="1749960"/>
                <a:ext cx="2160" cy="1378800"/>
              </a:xfrm>
              <a:prstGeom prst="curvedConnector5">
                <a:avLst>
                  <a:gd name="adj1" fmla="val -14400000"/>
                  <a:gd name="adj2" fmla="val 49986"/>
                  <a:gd name="adj3" fmla="val -144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grpSp>
          <p:nvGrpSpPr>
            <p:cNvPr id="1376" name=""/>
            <p:cNvGrpSpPr/>
            <p:nvPr/>
          </p:nvGrpSpPr>
          <p:grpSpPr>
            <a:xfrm>
              <a:off x="1066680" y="2179080"/>
              <a:ext cx="3924360" cy="716400"/>
              <a:chOff x="1066680" y="2179080"/>
              <a:chExt cx="3924360" cy="716400"/>
            </a:xfrm>
          </p:grpSpPr>
          <p:grpSp>
            <p:nvGrpSpPr>
              <p:cNvPr id="1377" name=""/>
              <p:cNvGrpSpPr/>
              <p:nvPr/>
            </p:nvGrpSpPr>
            <p:grpSpPr>
              <a:xfrm>
                <a:off x="1066680" y="2438280"/>
                <a:ext cx="727200" cy="457200"/>
                <a:chOff x="1066680" y="2438280"/>
                <a:chExt cx="727200" cy="457200"/>
              </a:xfrm>
            </p:grpSpPr>
            <p:sp>
              <p:nvSpPr>
                <p:cNvPr id="1378" name=""/>
                <p:cNvSpPr/>
                <p:nvPr/>
              </p:nvSpPr>
              <p:spPr>
                <a:xfrm>
                  <a:off x="106668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110808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380" name=""/>
              <p:cNvCxnSpPr>
                <a:stCxn id="1361" idx="0"/>
                <a:endCxn id="1378" idx="0"/>
              </p:cNvCxnSpPr>
              <p:nvPr/>
            </p:nvCxnSpPr>
            <p:spPr>
              <a:xfrm rot="5400000">
                <a:off x="3198960" y="648360"/>
                <a:ext cx="2160" cy="3582000"/>
              </a:xfrm>
              <a:prstGeom prst="curvedConnector5">
                <a:avLst>
                  <a:gd name="adj1" fmla="val -14400000"/>
                  <a:gd name="adj2" fmla="val 49994"/>
                  <a:gd name="adj3" fmla="val -144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sp>
          <p:nvSpPr>
            <p:cNvPr id="1381" name=""/>
            <p:cNvSpPr/>
            <p:nvPr/>
          </p:nvSpPr>
          <p:spPr>
            <a:xfrm>
              <a:off x="3692520" y="2438280"/>
              <a:ext cx="685800" cy="457200"/>
            </a:xfrm>
            <a:prstGeom prst="rect">
              <a:avLst/>
            </a:pr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733920" y="25146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eL-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3" name=""/>
            <p:cNvCxnSpPr>
              <a:stCxn id="1361" idx="0"/>
              <a:endCxn id="1381" idx="0"/>
            </p:cNvCxnSpPr>
            <p:nvPr/>
          </p:nvCxnSpPr>
          <p:spPr>
            <a:xfrm rot="5400000">
              <a:off x="4511880" y="1960560"/>
              <a:ext cx="2520" cy="956160"/>
            </a:xfrm>
            <a:prstGeom prst="curvedConnector5">
              <a:avLst>
                <a:gd name="adj1" fmla="val -14400000"/>
                <a:gd name="adj2" fmla="val 49981"/>
                <a:gd name="adj3" fmla="val -14400000"/>
              </a:avLst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</p:cxnSp>
        <p:grpSp>
          <p:nvGrpSpPr>
            <p:cNvPr id="1384" name=""/>
            <p:cNvGrpSpPr/>
            <p:nvPr/>
          </p:nvGrpSpPr>
          <p:grpSpPr>
            <a:xfrm>
              <a:off x="2813040" y="2179080"/>
              <a:ext cx="1222200" cy="716400"/>
              <a:chOff x="2813040" y="2179080"/>
              <a:chExt cx="1222200" cy="716400"/>
            </a:xfrm>
          </p:grpSpPr>
          <p:grpSp>
            <p:nvGrpSpPr>
              <p:cNvPr id="1385" name=""/>
              <p:cNvGrpSpPr/>
              <p:nvPr/>
            </p:nvGrpSpPr>
            <p:grpSpPr>
              <a:xfrm>
                <a:off x="2813040" y="2438280"/>
                <a:ext cx="727200" cy="457200"/>
                <a:chOff x="2813040" y="2438280"/>
                <a:chExt cx="727200" cy="45720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281304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285444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387" name=""/>
              <p:cNvCxnSpPr>
                <a:stCxn id="1381" idx="0"/>
                <a:endCxn id="1370" idx="0"/>
              </p:cNvCxnSpPr>
              <p:nvPr/>
            </p:nvCxnSpPr>
            <p:spPr>
              <a:xfrm rot="5400000">
                <a:off x="3594240" y="1999080"/>
                <a:ext cx="2160" cy="880200"/>
              </a:xfrm>
              <a:prstGeom prst="curvedConnector5">
                <a:avLst>
                  <a:gd name="adj1" fmla="val -14400000"/>
                  <a:gd name="adj2" fmla="val 50000"/>
                  <a:gd name="adj3" fmla="val -144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1388" name=""/>
            <p:cNvGrpSpPr/>
            <p:nvPr/>
          </p:nvGrpSpPr>
          <p:grpSpPr>
            <a:xfrm>
              <a:off x="6546960" y="2438280"/>
              <a:ext cx="726480" cy="457200"/>
              <a:chOff x="6546960" y="2438280"/>
              <a:chExt cx="726480" cy="457200"/>
            </a:xfrm>
          </p:grpSpPr>
          <p:sp>
            <p:nvSpPr>
              <p:cNvPr id="1364" name=""/>
              <p:cNvSpPr/>
              <p:nvPr/>
            </p:nvSpPr>
            <p:spPr>
              <a:xfrm>
                <a:off x="6546960" y="2438280"/>
                <a:ext cx="68544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588000" y="2514600"/>
                <a:ext cx="68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L-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1933560" y="1820880"/>
              <a:ext cx="2102040" cy="1074600"/>
              <a:chOff x="1933560" y="1820880"/>
              <a:chExt cx="2102040" cy="1074600"/>
            </a:xfrm>
          </p:grpSpPr>
          <p:grpSp>
            <p:nvGrpSpPr>
              <p:cNvPr id="1391" name=""/>
              <p:cNvGrpSpPr/>
              <p:nvPr/>
            </p:nvGrpSpPr>
            <p:grpSpPr>
              <a:xfrm>
                <a:off x="1933560" y="2438280"/>
                <a:ext cx="727200" cy="457200"/>
                <a:chOff x="1933560" y="2438280"/>
                <a:chExt cx="727200" cy="457200"/>
              </a:xfrm>
            </p:grpSpPr>
            <p:sp>
              <p:nvSpPr>
                <p:cNvPr id="1392" name=""/>
                <p:cNvSpPr/>
                <p:nvPr/>
              </p:nvSpPr>
              <p:spPr>
                <a:xfrm>
                  <a:off x="193356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197496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394" name=""/>
              <p:cNvCxnSpPr>
                <a:stCxn id="1381" idx="0"/>
                <a:endCxn id="1392" idx="0"/>
              </p:cNvCxnSpPr>
              <p:nvPr/>
            </p:nvCxnSpPr>
            <p:spPr>
              <a:xfrm rot="5400000">
                <a:off x="3154680" y="1559520"/>
                <a:ext cx="2160" cy="1759680"/>
              </a:xfrm>
              <a:prstGeom prst="curvedConnector5">
                <a:avLst>
                  <a:gd name="adj1" fmla="val -34300000"/>
                  <a:gd name="adj2" fmla="val 49989"/>
                  <a:gd name="adj3" fmla="val -343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sp>
          <p:nvSpPr>
            <p:cNvPr id="1395" name=""/>
            <p:cNvSpPr/>
            <p:nvPr/>
          </p:nvSpPr>
          <p:spPr>
            <a:xfrm>
              <a:off x="0" y="190512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Comunicación 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6" name=""/>
          <p:cNvGrpSpPr/>
          <p:nvPr/>
        </p:nvGrpSpPr>
        <p:grpSpPr>
          <a:xfrm>
            <a:off x="120600" y="4952880"/>
            <a:ext cx="8531280" cy="1059120"/>
            <a:chOff x="120600" y="4952880"/>
            <a:chExt cx="8531280" cy="1059120"/>
          </a:xfrm>
        </p:grpSpPr>
        <p:sp>
          <p:nvSpPr>
            <p:cNvPr id="1397" name=""/>
            <p:cNvSpPr/>
            <p:nvPr/>
          </p:nvSpPr>
          <p:spPr>
            <a:xfrm>
              <a:off x="120600" y="563868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Comunicación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8" name=""/>
            <p:cNvGrpSpPr/>
            <p:nvPr/>
          </p:nvGrpSpPr>
          <p:grpSpPr>
            <a:xfrm>
              <a:off x="1066680" y="4952880"/>
              <a:ext cx="7585200" cy="1059120"/>
              <a:chOff x="1066680" y="4952880"/>
              <a:chExt cx="7585200" cy="1059120"/>
            </a:xfrm>
          </p:grpSpPr>
          <p:grpSp>
            <p:nvGrpSpPr>
              <p:cNvPr id="1399" name=""/>
              <p:cNvGrpSpPr/>
              <p:nvPr/>
            </p:nvGrpSpPr>
            <p:grpSpPr>
              <a:xfrm>
                <a:off x="4648320" y="4952880"/>
                <a:ext cx="726480" cy="457200"/>
                <a:chOff x="4648320" y="4952880"/>
                <a:chExt cx="726480" cy="457200"/>
              </a:xfrm>
            </p:grpSpPr>
            <p:sp>
              <p:nvSpPr>
                <p:cNvPr id="1400" name=""/>
                <p:cNvSpPr/>
                <p:nvPr/>
              </p:nvSpPr>
              <p:spPr>
                <a:xfrm>
                  <a:off x="4648320" y="49528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4689360" y="50292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"/>
              <p:cNvGrpSpPr/>
              <p:nvPr/>
            </p:nvGrpSpPr>
            <p:grpSpPr>
              <a:xfrm>
                <a:off x="5562720" y="4952880"/>
                <a:ext cx="726480" cy="457200"/>
                <a:chOff x="5562720" y="4952880"/>
                <a:chExt cx="726480" cy="457200"/>
              </a:xfrm>
            </p:grpSpPr>
            <p:sp>
              <p:nvSpPr>
                <p:cNvPr id="1403" name=""/>
                <p:cNvSpPr/>
                <p:nvPr/>
              </p:nvSpPr>
              <p:spPr>
                <a:xfrm>
                  <a:off x="5562720" y="49528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5603760" y="50292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"/>
              <p:cNvGrpSpPr/>
              <p:nvPr/>
            </p:nvGrpSpPr>
            <p:grpSpPr>
              <a:xfrm>
                <a:off x="7924680" y="4952880"/>
                <a:ext cx="727200" cy="457200"/>
                <a:chOff x="7924680" y="4952880"/>
                <a:chExt cx="727200" cy="457200"/>
              </a:xfrm>
            </p:grpSpPr>
            <p:sp>
              <p:nvSpPr>
                <p:cNvPr id="1406" name=""/>
                <p:cNvSpPr/>
                <p:nvPr/>
              </p:nvSpPr>
              <p:spPr>
                <a:xfrm>
                  <a:off x="7924680" y="4952880"/>
                  <a:ext cx="685800" cy="457200"/>
                </a:xfrm>
                <a:prstGeom prst="rect">
                  <a:avLst/>
                </a:prstGeom>
                <a:noFill/>
                <a:ln cap="rnd" w="9360">
                  <a:solidFill>
                    <a:srgbClr val="bbe0e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796608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cc3300"/>
                      </a:solidFill>
                      <a:latin typeface="Arial"/>
                      <a:ea typeface="Times New Roman"/>
                    </a:rPr>
                    <a:t>eD-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"/>
              <p:cNvGrpSpPr/>
              <p:nvPr/>
            </p:nvGrpSpPr>
            <p:grpSpPr>
              <a:xfrm>
                <a:off x="1066680" y="4952880"/>
                <a:ext cx="727200" cy="457200"/>
                <a:chOff x="1066680" y="4952880"/>
                <a:chExt cx="727200" cy="457200"/>
              </a:xfrm>
            </p:grpSpPr>
            <p:sp>
              <p:nvSpPr>
                <p:cNvPr id="1409" name=""/>
                <p:cNvSpPr/>
                <p:nvPr/>
              </p:nvSpPr>
              <p:spPr>
                <a:xfrm>
                  <a:off x="106668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110808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1" name=""/>
              <p:cNvGrpSpPr/>
              <p:nvPr/>
            </p:nvGrpSpPr>
            <p:grpSpPr>
              <a:xfrm>
                <a:off x="3692520" y="4952880"/>
                <a:ext cx="727200" cy="457200"/>
                <a:chOff x="3692520" y="4952880"/>
                <a:chExt cx="727200" cy="457200"/>
              </a:xfrm>
            </p:grpSpPr>
            <p:sp>
              <p:nvSpPr>
                <p:cNvPr id="1412" name=""/>
                <p:cNvSpPr/>
                <p:nvPr/>
              </p:nvSpPr>
              <p:spPr>
                <a:xfrm>
                  <a:off x="369252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373392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4" name=""/>
              <p:cNvGrpSpPr/>
              <p:nvPr/>
            </p:nvGrpSpPr>
            <p:grpSpPr>
              <a:xfrm>
                <a:off x="2813040" y="4952880"/>
                <a:ext cx="727200" cy="457200"/>
                <a:chOff x="2813040" y="4952880"/>
                <a:chExt cx="727200" cy="457200"/>
              </a:xfrm>
            </p:grpSpPr>
            <p:sp>
              <p:nvSpPr>
                <p:cNvPr id="1415" name=""/>
                <p:cNvSpPr/>
                <p:nvPr/>
              </p:nvSpPr>
              <p:spPr>
                <a:xfrm>
                  <a:off x="281304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285444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1933560" y="4952880"/>
                <a:ext cx="727200" cy="457200"/>
                <a:chOff x="1933560" y="4952880"/>
                <a:chExt cx="727200" cy="45720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193356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197496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0" name=""/>
              <p:cNvSpPr/>
              <p:nvPr/>
            </p:nvSpPr>
            <p:spPr>
              <a:xfrm>
                <a:off x="6535800" y="49528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576840" y="50292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D-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22" name=""/>
              <p:cNvCxnSpPr>
                <a:stCxn id="1420" idx="2"/>
                <a:endCxn id="1403" idx="2"/>
              </p:cNvCxnSpPr>
              <p:nvPr/>
            </p:nvCxnSpPr>
            <p:spPr>
              <a:xfrm rot="5400000">
                <a:off x="6390360" y="4924080"/>
                <a:ext cx="2520" cy="97380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423" name=""/>
              <p:cNvCxnSpPr>
                <a:stCxn id="1403" idx="2"/>
                <a:endCxn id="1415" idx="2"/>
              </p:cNvCxnSpPr>
              <p:nvPr/>
            </p:nvCxnSpPr>
            <p:spPr>
              <a:xfrm rot="5400000">
                <a:off x="4529160" y="4035960"/>
                <a:ext cx="2520" cy="275004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cap="rnd" w="9360">
                <a:solidFill>
                  <a:srgbClr val="bbe0e3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  <p:cxnSp>
            <p:nvCxnSpPr>
              <p:cNvPr id="1424" name=""/>
              <p:cNvCxnSpPr>
                <a:stCxn id="1400" idx="2"/>
                <a:endCxn id="1418" idx="2"/>
              </p:cNvCxnSpPr>
              <p:nvPr/>
            </p:nvCxnSpPr>
            <p:spPr>
              <a:xfrm rot="5400000">
                <a:off x="3632400" y="4053600"/>
                <a:ext cx="2520" cy="2715120"/>
              </a:xfrm>
              <a:prstGeom prst="curvedConnector5">
                <a:avLst>
                  <a:gd name="adj1" fmla="val 27883333"/>
                  <a:gd name="adj2" fmla="val 49993"/>
                  <a:gd name="adj3" fmla="val 278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425" name=""/>
              <p:cNvCxnSpPr>
                <a:stCxn id="1412" idx="2"/>
                <a:endCxn id="1409" idx="2"/>
              </p:cNvCxnSpPr>
              <p:nvPr/>
            </p:nvCxnSpPr>
            <p:spPr>
              <a:xfrm rot="5400000">
                <a:off x="2721240" y="4097880"/>
                <a:ext cx="2520" cy="2626560"/>
              </a:xfrm>
              <a:prstGeom prst="curvedConnector5">
                <a:avLst>
                  <a:gd name="adj1" fmla="val 24483333"/>
                  <a:gd name="adj2" fmla="val 49993"/>
                  <a:gd name="adj3" fmla="val 244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426" name=""/>
              <p:cNvCxnSpPr>
                <a:stCxn id="1403" idx="2"/>
                <a:endCxn id="1412" idx="2"/>
              </p:cNvCxnSpPr>
              <p:nvPr/>
            </p:nvCxnSpPr>
            <p:spPr>
              <a:xfrm rot="5400000">
                <a:off x="4969080" y="4475880"/>
                <a:ext cx="2520" cy="1870560"/>
              </a:xfrm>
              <a:prstGeom prst="curvedConnector5">
                <a:avLst>
                  <a:gd name="adj1" fmla="val 24383333"/>
                  <a:gd name="adj2" fmla="val 49990"/>
                  <a:gd name="adj3" fmla="val 243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427" name=""/>
              <p:cNvCxnSpPr>
                <a:stCxn id="1406" idx="2"/>
                <a:endCxn id="1420" idx="2"/>
              </p:cNvCxnSpPr>
              <p:nvPr/>
            </p:nvCxnSpPr>
            <p:spPr>
              <a:xfrm rot="5400000">
                <a:off x="7571520" y="4716000"/>
                <a:ext cx="2520" cy="138996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cap="rnd" w="9360">
                <a:solidFill>
                  <a:srgbClr val="bbe0e3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</p:grpSp>
      <p:grpSp>
        <p:nvGrpSpPr>
          <p:cNvPr id="1428" name=""/>
          <p:cNvGrpSpPr/>
          <p:nvPr/>
        </p:nvGrpSpPr>
        <p:grpSpPr>
          <a:xfrm>
            <a:off x="3155400" y="2894760"/>
            <a:ext cx="2196000" cy="915840"/>
            <a:chOff x="3155400" y="2894760"/>
            <a:chExt cx="2196000" cy="915840"/>
          </a:xfrm>
        </p:grpSpPr>
        <p:grpSp>
          <p:nvGrpSpPr>
            <p:cNvPr id="1429" name=""/>
            <p:cNvGrpSpPr/>
            <p:nvPr/>
          </p:nvGrpSpPr>
          <p:grpSpPr>
            <a:xfrm>
              <a:off x="3499560" y="3209760"/>
              <a:ext cx="1851840" cy="600840"/>
              <a:chOff x="3499560" y="3209760"/>
              <a:chExt cx="1851840" cy="600840"/>
            </a:xfrm>
          </p:grpSpPr>
          <p:grpSp>
            <p:nvGrpSpPr>
              <p:cNvPr id="1430" name=""/>
              <p:cNvGrpSpPr/>
              <p:nvPr/>
            </p:nvGrpSpPr>
            <p:grpSpPr>
              <a:xfrm>
                <a:off x="4038480" y="3209760"/>
                <a:ext cx="1067040" cy="457200"/>
                <a:chOff x="4038480" y="3209760"/>
                <a:chExt cx="1067040" cy="457200"/>
              </a:xfrm>
            </p:grpSpPr>
            <p:sp>
              <p:nvSpPr>
                <p:cNvPr id="1431" name=""/>
                <p:cNvSpPr/>
                <p:nvPr/>
              </p:nvSpPr>
              <p:spPr>
                <a:xfrm>
                  <a:off x="4038480" y="3209760"/>
                  <a:ext cx="95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4038480" y="3286080"/>
                  <a:ext cx="1067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(eL-3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3" name=""/>
              <p:cNvGrpSpPr/>
              <p:nvPr/>
            </p:nvGrpSpPr>
            <p:grpSpPr>
              <a:xfrm>
                <a:off x="3499560" y="3473280"/>
                <a:ext cx="1851840" cy="337320"/>
                <a:chOff x="3499560" y="3473280"/>
                <a:chExt cx="1851840" cy="337320"/>
              </a:xfrm>
            </p:grpSpPr>
            <p:sp>
              <p:nvSpPr>
                <p:cNvPr id="1434" name=""/>
                <p:cNvSpPr/>
                <p:nvPr/>
              </p:nvSpPr>
              <p:spPr>
                <a:xfrm>
                  <a:off x="3675240" y="3779280"/>
                  <a:ext cx="1676160" cy="0"/>
                </a:xfrm>
                <a:prstGeom prst="line">
                  <a:avLst/>
                </a:prstGeom>
                <a:ln w="38160">
                  <a:solidFill>
                    <a:srgbClr val="66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3499560" y="3473280"/>
                  <a:ext cx="438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bbe0e3"/>
                      </a:solidFill>
                      <a:latin typeface="Arial"/>
                      <a:ea typeface="Times New Roman"/>
                    </a:rPr>
                    <a:t>t-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1436" name=""/>
            <p:cNvCxnSpPr>
              <a:stCxn id="1432" idx="1"/>
              <a:endCxn id="1370" idx="2"/>
            </p:cNvCxnSpPr>
            <p:nvPr/>
          </p:nvCxnSpPr>
          <p:spPr>
            <a:xfrm rot="10800000">
              <a:off x="3155400" y="2894760"/>
              <a:ext cx="883080" cy="559800"/>
            </a:xfrm>
            <a:prstGeom prst="curvedConnector2">
              <a:avLst/>
            </a:prstGeom>
            <a:ln w="28440">
              <a:solidFill>
                <a:srgbClr val="bbe0e3"/>
              </a:solidFill>
              <a:miter/>
              <a:tailEnd len="med" type="triangle" w="med"/>
            </a:ln>
          </p:spPr>
        </p:cxnSp>
        <p:cxnSp>
          <p:nvCxnSpPr>
            <p:cNvPr id="1437" name=""/>
            <p:cNvCxnSpPr>
              <a:stCxn id="1361" idx="2"/>
              <a:endCxn id="1431" idx="3"/>
            </p:cNvCxnSpPr>
            <p:nvPr/>
          </p:nvCxnSpPr>
          <p:spPr>
            <a:xfrm flipH="1" rot="16200000">
              <a:off x="4720320" y="3165120"/>
              <a:ext cx="543600" cy="3960"/>
            </a:xfrm>
            <a:prstGeom prst="curvedConnector5">
              <a:avLst>
                <a:gd name="adj1" fmla="val 28893"/>
                <a:gd name="adj2" fmla="val 3650000"/>
                <a:gd name="adj3" fmla="val 28893"/>
              </a:avLst>
            </a:prstGeom>
            <a:ln w="28440">
              <a:solidFill>
                <a:srgbClr val="bbe0e3"/>
              </a:solidFill>
              <a:miter/>
              <a:tailEnd len="med" type="triangle" w="med"/>
            </a:ln>
          </p:spPr>
        </p:cxnSp>
      </p:grpSp>
      <p:grpSp>
        <p:nvGrpSpPr>
          <p:cNvPr id="1438" name=""/>
          <p:cNvGrpSpPr/>
          <p:nvPr/>
        </p:nvGrpSpPr>
        <p:grpSpPr>
          <a:xfrm>
            <a:off x="2276280" y="3962520"/>
            <a:ext cx="3628800" cy="990720"/>
            <a:chOff x="2276280" y="3962520"/>
            <a:chExt cx="3628800" cy="990720"/>
          </a:xfrm>
        </p:grpSpPr>
        <p:grpSp>
          <p:nvGrpSpPr>
            <p:cNvPr id="1439" name=""/>
            <p:cNvGrpSpPr/>
            <p:nvPr/>
          </p:nvGrpSpPr>
          <p:grpSpPr>
            <a:xfrm>
              <a:off x="3489120" y="3962520"/>
              <a:ext cx="1862280" cy="600840"/>
              <a:chOff x="3489120" y="3962520"/>
              <a:chExt cx="1862280" cy="600840"/>
            </a:xfrm>
          </p:grpSpPr>
          <p:grpSp>
            <p:nvGrpSpPr>
              <p:cNvPr id="1440" name=""/>
              <p:cNvGrpSpPr/>
              <p:nvPr/>
            </p:nvGrpSpPr>
            <p:grpSpPr>
              <a:xfrm>
                <a:off x="4038480" y="3962520"/>
                <a:ext cx="955800" cy="457200"/>
                <a:chOff x="4038480" y="3962520"/>
                <a:chExt cx="955800" cy="457200"/>
              </a:xfrm>
            </p:grpSpPr>
            <p:sp>
              <p:nvSpPr>
                <p:cNvPr id="1441" name=""/>
                <p:cNvSpPr/>
                <p:nvPr/>
              </p:nvSpPr>
              <p:spPr>
                <a:xfrm>
                  <a:off x="4038480" y="3962520"/>
                  <a:ext cx="95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4191120" y="403848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x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"/>
              <p:cNvGrpSpPr/>
              <p:nvPr/>
            </p:nvGrpSpPr>
            <p:grpSpPr>
              <a:xfrm>
                <a:off x="3489120" y="4226040"/>
                <a:ext cx="1862280" cy="337320"/>
                <a:chOff x="3489120" y="4226040"/>
                <a:chExt cx="1862280" cy="337320"/>
              </a:xfrm>
            </p:grpSpPr>
            <p:sp>
              <p:nvSpPr>
                <p:cNvPr id="1444" name=""/>
                <p:cNvSpPr/>
                <p:nvPr/>
              </p:nvSpPr>
              <p:spPr>
                <a:xfrm>
                  <a:off x="3675240" y="4532040"/>
                  <a:ext cx="1676160" cy="0"/>
                </a:xfrm>
                <a:prstGeom prst="line">
                  <a:avLst/>
                </a:prstGeom>
                <a:ln w="38160">
                  <a:solidFill>
                    <a:srgbClr val="66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3489120" y="4226040"/>
                  <a:ext cx="461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bbe0e3"/>
                      </a:solidFill>
                      <a:latin typeface="Arial"/>
                      <a:ea typeface="Times New Roman"/>
                    </a:rPr>
                    <a:t>t-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1446" name=""/>
            <p:cNvCxnSpPr>
              <a:stCxn id="1403" idx="0"/>
              <a:endCxn id="1441" idx="3"/>
            </p:cNvCxnSpPr>
            <p:nvPr/>
          </p:nvCxnSpPr>
          <p:spPr>
            <a:xfrm flipV="1" rot="16200000">
              <a:off x="5068440" y="4115880"/>
              <a:ext cx="762480" cy="911880"/>
            </a:xfrm>
            <a:prstGeom prst="curvedConnector2">
              <a:avLst/>
            </a:prstGeom>
            <a:ln cap="rnd" w="9360">
              <a:solidFill>
                <a:srgbClr val="bbe0e3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1447" name=""/>
            <p:cNvCxnSpPr>
              <a:stCxn id="1441" idx="1"/>
              <a:endCxn id="1418" idx="0"/>
            </p:cNvCxnSpPr>
            <p:nvPr/>
          </p:nvCxnSpPr>
          <p:spPr>
            <a:xfrm flipV="1" rot="10800000">
              <a:off x="2275920" y="4190760"/>
              <a:ext cx="1762560" cy="762480"/>
            </a:xfrm>
            <a:prstGeom prst="curvedConnector2">
              <a:avLst/>
            </a:prstGeom>
            <a:ln w="9360">
              <a:solidFill>
                <a:srgbClr val="bbe0e3"/>
              </a:solidFill>
              <a:miter/>
              <a:tailEnd len="med" type="triangle" w="med"/>
            </a:ln>
          </p:spPr>
        </p:cxnSp>
      </p:grpSp>
      <p:grpSp>
        <p:nvGrpSpPr>
          <p:cNvPr id="1448" name=""/>
          <p:cNvGrpSpPr/>
          <p:nvPr/>
        </p:nvGrpSpPr>
        <p:grpSpPr>
          <a:xfrm>
            <a:off x="2555640" y="3454560"/>
            <a:ext cx="6054840" cy="844560"/>
            <a:chOff x="2555640" y="3454560"/>
            <a:chExt cx="6054840" cy="844560"/>
          </a:xfrm>
        </p:grpSpPr>
        <p:cxnSp>
          <p:nvCxnSpPr>
            <p:cNvPr id="1449" name=""/>
            <p:cNvCxnSpPr/>
            <p:nvPr/>
          </p:nvCxnSpPr>
          <p:spPr>
            <a:xfrm flipH="1" flipV="1" rot="10800000">
              <a:off x="4037400" y="3454200"/>
              <a:ext cx="2520" cy="737280"/>
            </a:xfrm>
            <a:prstGeom prst="curvedConnector5">
              <a:avLst>
                <a:gd name="adj1" fmla="val -68600000"/>
                <a:gd name="adj2" fmla="val 49975"/>
                <a:gd name="adj3" fmla="val -68600000"/>
              </a:avLst>
            </a:prstGeom>
            <a:ln w="9360">
              <a:solidFill>
                <a:srgbClr val="cccc00"/>
              </a:solidFill>
              <a:miter/>
            </a:ln>
          </p:spPr>
        </p:cxnSp>
        <p:sp>
          <p:nvSpPr>
            <p:cNvPr id="1450" name=""/>
            <p:cNvSpPr/>
            <p:nvPr/>
          </p:nvSpPr>
          <p:spPr>
            <a:xfrm>
              <a:off x="5545080" y="3475080"/>
              <a:ext cx="3065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Restricción de complejidad actualizada L / ampliación de complejidad actualizada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2362320" y="1523880"/>
            <a:ext cx="38088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04920" y="4724280"/>
            <a:ext cx="685800" cy="1981440"/>
          </a:xfrm>
          <a:prstGeom prst="rect">
            <a:avLst/>
          </a:prstGeom>
          <a:solidFill>
            <a:srgbClr val="000000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304920" y="533520"/>
            <a:ext cx="685800" cy="1218960"/>
          </a:xfrm>
          <a:prstGeom prst="rect">
            <a:avLst/>
          </a:prstGeom>
          <a:solidFill>
            <a:srgbClr val="000000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304920" y="685800"/>
            <a:ext cx="853416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Politización </a:t>
            </a:r>
            <a:r>
              <a:rPr b="1" lang="es-ES" sz="1800" spc="-1" strike="noStrike">
                <a:solidFill>
                  <a:srgbClr val="ffcc66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 instrumentalizacíón del entorno para finalidades políticas. “Capacidad de la política de observarse a través de la sociedad” Cousiño y Valenzu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362320" y="1523880"/>
            <a:ext cx="6553080" cy="30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Educación 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Escuela Nacional Unific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Economía 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 Elementos de Plan Vuskov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Ciencia 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 Modificación de estatutos de CONICY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Derecho 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 Resquicios leg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Arte 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 Canción (arte) de prot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Medios 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 Periodismo de trinch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304920" y="4724280"/>
            <a:ext cx="853416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Consecuenci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1.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Pretensión de relacionamiento total de la política </a:t>
            </a:r>
            <a:r>
              <a:rPr b="1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 desdiferenciación de límites prop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2.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Cada resistencia desde esas esferas es observada por la política como oposición al gobierno </a:t>
            </a:r>
            <a:r>
              <a:rPr b="1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 de ahí se observa que el conflicto gobierno/oposición rebasa se extiende a toda la sociedad y el golpe se justifica en nombre de e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2098800" y="4414680"/>
            <a:ext cx="5568480" cy="2193480"/>
            <a:chOff x="2098800" y="4414680"/>
            <a:chExt cx="5568480" cy="2193480"/>
          </a:xfrm>
        </p:grpSpPr>
        <p:sp>
          <p:nvSpPr>
            <p:cNvPr id="168" name=""/>
            <p:cNvSpPr/>
            <p:nvPr/>
          </p:nvSpPr>
          <p:spPr>
            <a:xfrm rot="820200">
              <a:off x="3850920" y="5040000"/>
              <a:ext cx="3733920" cy="1143000"/>
            </a:xfrm>
            <a:prstGeom prst="ellipse">
              <a:avLst/>
            </a:prstGeom>
            <a:gradFill rotWithShape="0">
              <a:gsLst>
                <a:gs pos="0">
                  <a:srgbClr val="5e5e5e"/>
                </a:gs>
                <a:gs pos="100000">
                  <a:srgbClr val="cc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954000">
              <a:off x="4460760" y="5497200"/>
              <a:ext cx="1067040" cy="380880"/>
            </a:xfrm>
            <a:custGeom>
              <a:avLst/>
              <a:gdLst>
                <a:gd name="textAreaLeft" fmla="*/ 186480 w 1067040"/>
                <a:gd name="textAreaRight" fmla="*/ 773640 w 1067040"/>
                <a:gd name="textAreaTop" fmla="*/ 50760 h 380880"/>
                <a:gd name="textAreaBottom" fmla="*/ 330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93880" y="4867200"/>
              <a:ext cx="23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98800" y="5883120"/>
              <a:ext cx="3504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Comprensión en base a determinación estructural de ego - Irrit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13400" y="4414680"/>
              <a:ext cx="0" cy="457200"/>
            </a:xfrm>
            <a:prstGeom prst="line">
              <a:avLst/>
            </a:prstGeom>
            <a:ln w="38160">
              <a:solidFill>
                <a:srgbClr val="ff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45960" y="757080"/>
            <a:ext cx="5035320" cy="2710800"/>
            <a:chOff x="345960" y="757080"/>
            <a:chExt cx="5035320" cy="2710800"/>
          </a:xfrm>
        </p:grpSpPr>
        <p:sp>
          <p:nvSpPr>
            <p:cNvPr id="174" name=""/>
            <p:cNvSpPr/>
            <p:nvPr/>
          </p:nvSpPr>
          <p:spPr>
            <a:xfrm rot="820200">
              <a:off x="1564920" y="1899720"/>
              <a:ext cx="3733920" cy="1143000"/>
            </a:xfrm>
            <a:prstGeom prst="ellipse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5e75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483800">
              <a:off x="3774960" y="2205000"/>
              <a:ext cx="1219320" cy="457200"/>
            </a:xfrm>
            <a:custGeom>
              <a:avLst/>
              <a:gdLst>
                <a:gd name="textAreaLeft" fmla="*/ 213120 w 1219320"/>
                <a:gd name="textAreaRight" fmla="*/ 884160 w 121932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68320" y="28098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5960" y="757080"/>
              <a:ext cx="221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Selección de informació</a:t>
              </a:r>
              <a:r>
                <a:rPr b="0" lang="es-MX" sz="14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Tema de comunic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65480" y="1371600"/>
              <a:ext cx="214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Conducta de notific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Forma de comunic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9" name=""/>
            <p:cNvCxnSpPr>
              <a:stCxn id="177" idx="3"/>
              <a:endCxn id="178" idx="0"/>
            </p:cNvCxnSpPr>
            <p:nvPr/>
          </p:nvCxnSpPr>
          <p:spPr>
            <a:xfrm>
              <a:off x="2556000" y="1015920"/>
              <a:ext cx="1681920" cy="356400"/>
            </a:xfrm>
            <a:prstGeom prst="curvedConnector2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180" name=""/>
          <p:cNvGrpSpPr/>
          <p:nvPr/>
        </p:nvGrpSpPr>
        <p:grpSpPr>
          <a:xfrm>
            <a:off x="-76320" y="1824120"/>
            <a:ext cx="9337680" cy="4435560"/>
            <a:chOff x="-76320" y="1824120"/>
            <a:chExt cx="9337680" cy="4435560"/>
          </a:xfrm>
        </p:grpSpPr>
        <p:grpSp>
          <p:nvGrpSpPr>
            <p:cNvPr id="181" name=""/>
            <p:cNvGrpSpPr/>
            <p:nvPr/>
          </p:nvGrpSpPr>
          <p:grpSpPr>
            <a:xfrm>
              <a:off x="-76320" y="1824120"/>
              <a:ext cx="3267360" cy="3546360"/>
              <a:chOff x="-76320" y="1824120"/>
              <a:chExt cx="3267360" cy="3546360"/>
            </a:xfrm>
          </p:grpSpPr>
          <p:sp>
            <p:nvSpPr>
              <p:cNvPr id="182" name=""/>
              <p:cNvSpPr/>
              <p:nvPr/>
            </p:nvSpPr>
            <p:spPr>
              <a:xfrm rot="5400000">
                <a:off x="-215640" y="1963440"/>
                <a:ext cx="3546360" cy="3267360"/>
              </a:xfrm>
              <a:custGeom>
                <a:avLst/>
                <a:gdLst>
                  <a:gd name="textAreaLeft" fmla="*/ 0 w 3546360"/>
                  <a:gd name="textAreaRight" fmla="*/ 3546720 w 3546360"/>
                  <a:gd name="textAreaTop" fmla="*/ 0 h 3267360"/>
                  <a:gd name="textAreaBottom" fmla="*/ 3267720 h 326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00000"/>
                    <a:lnTo>
                      <a:pt x="0" y="10800"/>
                    </a:lnTo>
                    <a:arcTo wR="10800" hR="10800" stAng="10800000" swAng="1080000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66">
                      <a:alpha val="50196"/>
                    </a:srgbClr>
                  </a:gs>
                  <a:gs pos="100000">
                    <a:srgbClr val="ccff66">
                      <a:alpha val="50196"/>
                    </a:srgbClr>
                  </a:gs>
                </a:gsLst>
                <a:lin ang="5400000"/>
              </a:gradFill>
              <a:ln w="5724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68560" y="4678200"/>
                <a:ext cx="375840" cy="48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ff66"/>
                    </a:solidFill>
                    <a:latin typeface="Arial Narrow"/>
                  </a:rPr>
                  <a:t>D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561680" y="4629240"/>
                <a:ext cx="54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550600" y="2846520"/>
                <a:ext cx="424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39880" y="2109960"/>
                <a:ext cx="36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452680" y="4059360"/>
                <a:ext cx="48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529640" y="3119400"/>
                <a:ext cx="6426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Alt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994360" y="2712960"/>
              <a:ext cx="3267000" cy="3546720"/>
              <a:chOff x="5994360" y="2712960"/>
              <a:chExt cx="3267000" cy="3546720"/>
            </a:xfrm>
          </p:grpSpPr>
          <p:sp>
            <p:nvSpPr>
              <p:cNvPr id="190" name=""/>
              <p:cNvSpPr/>
              <p:nvPr/>
            </p:nvSpPr>
            <p:spPr>
              <a:xfrm>
                <a:off x="8456400" y="2895480"/>
                <a:ext cx="346680" cy="48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ff66"/>
                    </a:solidFill>
                    <a:latin typeface="Arial Narrow"/>
                  </a:rPr>
                  <a:t>L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6200000">
                <a:off x="5854320" y="2852640"/>
                <a:ext cx="3546720" cy="3267000"/>
              </a:xfrm>
              <a:custGeom>
                <a:avLst/>
                <a:gdLst>
                  <a:gd name="textAreaLeft" fmla="*/ 0 w 3546720"/>
                  <a:gd name="textAreaRight" fmla="*/ 3547080 w 3546720"/>
                  <a:gd name="textAreaTop" fmla="*/ 0 h 3267000"/>
                  <a:gd name="textAreaBottom" fmla="*/ 3267360 h 326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00000"/>
                    <a:lnTo>
                      <a:pt x="0" y="10800"/>
                    </a:lnTo>
                    <a:arcTo wR="10800" hR="10800" stAng="10800000" swAng="1080000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>
                      <a:alpha val="50196"/>
                    </a:srgbClr>
                  </a:gs>
                  <a:gs pos="100000">
                    <a:srgbClr val="5e5e5e">
                      <a:alpha val="50196"/>
                    </a:srgbClr>
                  </a:gs>
                </a:gsLst>
                <a:lin ang="5400000"/>
              </a:gradFill>
              <a:ln w="5724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020000" y="5492880"/>
                <a:ext cx="29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35640" y="2903400"/>
                <a:ext cx="470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428160" y="3529080"/>
                <a:ext cx="41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336720" y="4730760"/>
                <a:ext cx="35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055640" y="4475160"/>
                <a:ext cx="5634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Eg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5833080" y="757080"/>
            <a:ext cx="3006000" cy="995400"/>
            <a:chOff x="5833080" y="757080"/>
            <a:chExt cx="3006000" cy="995400"/>
          </a:xfrm>
        </p:grpSpPr>
        <p:sp>
          <p:nvSpPr>
            <p:cNvPr id="198" name=""/>
            <p:cNvSpPr/>
            <p:nvPr/>
          </p:nvSpPr>
          <p:spPr>
            <a:xfrm>
              <a:off x="8381880" y="762120"/>
              <a:ext cx="45720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833080" y="757080"/>
              <a:ext cx="2914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ff00"/>
                  </a:solidFill>
                  <a:latin typeface="Verdana"/>
                </a:rPr>
                <a:t>Comun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ff00"/>
                  </a:solidFill>
                  <a:latin typeface="Verdana"/>
                </a:rPr>
                <a:t>Versión sistém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ff00"/>
                  </a:solidFill>
                  <a:latin typeface="Verdana"/>
                </a:rPr>
                <a:t>Selectividad coordin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154760" y="1741320"/>
            <a:ext cx="1809000" cy="2745000"/>
            <a:chOff x="4154760" y="1741320"/>
            <a:chExt cx="1809000" cy="2745000"/>
          </a:xfrm>
        </p:grpSpPr>
        <p:cxnSp>
          <p:nvCxnSpPr>
            <p:cNvPr id="201" name=""/>
            <p:cNvCxnSpPr>
              <a:stCxn id="191" idx="0"/>
              <a:endCxn id="175" idx="0"/>
            </p:cNvCxnSpPr>
            <p:nvPr/>
          </p:nvCxnSpPr>
          <p:spPr>
            <a:xfrm rot="10800000">
              <a:off x="4423680" y="2199600"/>
              <a:ext cx="1540440" cy="2286720"/>
            </a:xfrm>
            <a:prstGeom prst="curvedConnector5">
              <a:avLst>
                <a:gd name="adj1" fmla="val 29172"/>
                <a:gd name="adj2" fmla="val 60022"/>
                <a:gd name="adj3" fmla="val 29172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202" name=""/>
            <p:cNvSpPr/>
            <p:nvPr/>
          </p:nvSpPr>
          <p:spPr>
            <a:xfrm>
              <a:off x="4613400" y="3271680"/>
              <a:ext cx="0" cy="762120"/>
            </a:xfrm>
            <a:prstGeom prst="line">
              <a:avLst/>
            </a:prstGeom>
            <a:ln w="38160">
              <a:solidFill>
                <a:srgbClr val="ff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56200" y="3500280"/>
              <a:ext cx="9144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56200" y="3652920"/>
              <a:ext cx="9144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54760" y="4013280"/>
              <a:ext cx="102816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66"/>
                  </a:solidFill>
                  <a:latin typeface="Arial Narrow"/>
                </a:rPr>
                <a:t>[ si / cn 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5833080" y="757080"/>
            <a:ext cx="3006000" cy="995400"/>
            <a:chOff x="5833080" y="757080"/>
            <a:chExt cx="3006000" cy="995400"/>
          </a:xfrm>
        </p:grpSpPr>
        <p:sp>
          <p:nvSpPr>
            <p:cNvPr id="207" name=""/>
            <p:cNvSpPr/>
            <p:nvPr/>
          </p:nvSpPr>
          <p:spPr>
            <a:xfrm>
              <a:off x="8381880" y="762120"/>
              <a:ext cx="45720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3080" y="757080"/>
              <a:ext cx="2914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ff00"/>
                  </a:solidFill>
                  <a:latin typeface="Verdana"/>
                </a:rPr>
                <a:t>Comun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ff00"/>
                  </a:solidFill>
                  <a:latin typeface="Verdana"/>
                </a:rPr>
                <a:t>Versión sistém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ff00"/>
                  </a:solidFill>
                  <a:latin typeface="Verdana"/>
                </a:rPr>
                <a:t>Selectividad coordin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04920" y="2028960"/>
            <a:ext cx="8534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Sgeun un etsduio de una uivenrsdiad ignlsea, no ipmotra el odren en el que las ltears etsan ersciats, la uicna csoa ipormtnate es que la pmrirea y la utlima ltera e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et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sn ecsritas en la psiocion cocrrtea. El rsteo pe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d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uen e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ta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sr ttaolmntee mal y aun por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í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das lerelo i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s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n pobrleams. Etso es pquore no lem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o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es c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d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aa ltera por si ms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m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ia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,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 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snio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 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que 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la paalbra 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se lee cmoo 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un tdoo.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548280" y="152280"/>
            <a:ext cx="3006000" cy="995400"/>
            <a:chOff x="548280" y="152280"/>
            <a:chExt cx="3006000" cy="995400"/>
          </a:xfrm>
        </p:grpSpPr>
        <p:sp>
          <p:nvSpPr>
            <p:cNvPr id="211" name=""/>
            <p:cNvSpPr/>
            <p:nvPr/>
          </p:nvSpPr>
          <p:spPr>
            <a:xfrm>
              <a:off x="3097080" y="157320"/>
              <a:ext cx="45720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8280" y="152280"/>
              <a:ext cx="2914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ff00"/>
                  </a:solidFill>
                  <a:latin typeface="Verdana"/>
                </a:rPr>
                <a:t>Comun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ff00"/>
                  </a:solidFill>
                  <a:latin typeface="Verdana"/>
                </a:rPr>
                <a:t>Versión sistém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ff00"/>
                  </a:solidFill>
                  <a:latin typeface="Verdana"/>
                </a:rPr>
                <a:t>Selectividad coordin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648320" y="1968480"/>
            <a:ext cx="2241360" cy="1074600"/>
            <a:chOff x="4648320" y="1968480"/>
            <a:chExt cx="2241360" cy="1074600"/>
          </a:xfrm>
        </p:grpSpPr>
        <p:grpSp>
          <p:nvGrpSpPr>
            <p:cNvPr id="214" name=""/>
            <p:cNvGrpSpPr/>
            <p:nvPr/>
          </p:nvGrpSpPr>
          <p:grpSpPr>
            <a:xfrm>
              <a:off x="4648320" y="2585880"/>
              <a:ext cx="726480" cy="457200"/>
              <a:chOff x="4648320" y="2585880"/>
              <a:chExt cx="726480" cy="457200"/>
            </a:xfrm>
          </p:grpSpPr>
          <p:sp>
            <p:nvSpPr>
              <p:cNvPr id="215" name=""/>
              <p:cNvSpPr/>
              <p:nvPr/>
            </p:nvSpPr>
            <p:spPr>
              <a:xfrm>
                <a:off x="4648320" y="2585880"/>
                <a:ext cx="68544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89360" y="2662200"/>
                <a:ext cx="68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eK-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17" name=""/>
            <p:cNvCxnSpPr>
              <a:stCxn id="218" idx="0"/>
              <a:endCxn id="215" idx="0"/>
            </p:cNvCxnSpPr>
            <p:nvPr/>
          </p:nvCxnSpPr>
          <p:spPr>
            <a:xfrm rot="5400000">
              <a:off x="5938920" y="1637280"/>
              <a:ext cx="2160" cy="1899360"/>
            </a:xfrm>
            <a:prstGeom prst="curvedConnector5">
              <a:avLst>
                <a:gd name="adj1" fmla="val -34300000"/>
                <a:gd name="adj2" fmla="val 49990"/>
                <a:gd name="adj3" fmla="val -34300000"/>
              </a:avLst>
            </a:prstGeom>
            <a:ln w="9360">
              <a:solidFill>
                <a:srgbClr val="66ff99"/>
              </a:solidFill>
              <a:miter/>
              <a:tailEnd len="med" type="triangle" w="med"/>
            </a:ln>
          </p:spPr>
        </p:cxnSp>
      </p:grpSp>
      <p:grpSp>
        <p:nvGrpSpPr>
          <p:cNvPr id="219" name=""/>
          <p:cNvGrpSpPr/>
          <p:nvPr/>
        </p:nvGrpSpPr>
        <p:grpSpPr>
          <a:xfrm>
            <a:off x="3155400" y="1988280"/>
            <a:ext cx="3133800" cy="1054800"/>
            <a:chOff x="3155400" y="1988280"/>
            <a:chExt cx="3133800" cy="1054800"/>
          </a:xfrm>
        </p:grpSpPr>
        <p:grpSp>
          <p:nvGrpSpPr>
            <p:cNvPr id="220" name=""/>
            <p:cNvGrpSpPr/>
            <p:nvPr/>
          </p:nvGrpSpPr>
          <p:grpSpPr>
            <a:xfrm>
              <a:off x="5562720" y="2585880"/>
              <a:ext cx="726480" cy="457200"/>
              <a:chOff x="5562720" y="2585880"/>
              <a:chExt cx="726480" cy="457200"/>
            </a:xfrm>
          </p:grpSpPr>
          <p:sp>
            <p:nvSpPr>
              <p:cNvPr id="221" name=""/>
              <p:cNvSpPr/>
              <p:nvPr/>
            </p:nvSpPr>
            <p:spPr>
              <a:xfrm>
                <a:off x="5562720" y="2585880"/>
                <a:ext cx="68544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603760" y="2662200"/>
                <a:ext cx="68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eK-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23" name=""/>
            <p:cNvCxnSpPr>
              <a:stCxn id="221" idx="0"/>
              <a:endCxn id="224" idx="0"/>
            </p:cNvCxnSpPr>
            <p:nvPr/>
          </p:nvCxnSpPr>
          <p:spPr>
            <a:xfrm rot="5400000">
              <a:off x="4529160" y="1211760"/>
              <a:ext cx="2160" cy="2750040"/>
            </a:xfrm>
            <a:prstGeom prst="curvedConnector5">
              <a:avLst>
                <a:gd name="adj1" fmla="val -33200000"/>
                <a:gd name="adj2" fmla="val 50000"/>
                <a:gd name="adj3" fmla="val -33200000"/>
              </a:avLst>
            </a:prstGeom>
            <a:ln w="9360">
              <a:solidFill>
                <a:srgbClr val="66ff99"/>
              </a:solidFill>
              <a:miter/>
              <a:tailEnd len="med" type="triangle" w="med"/>
            </a:ln>
          </p:spPr>
        </p:cxnSp>
      </p:grpSp>
      <p:grpSp>
        <p:nvGrpSpPr>
          <p:cNvPr id="225" name=""/>
          <p:cNvGrpSpPr/>
          <p:nvPr/>
        </p:nvGrpSpPr>
        <p:grpSpPr>
          <a:xfrm>
            <a:off x="6889320" y="2326680"/>
            <a:ext cx="1762560" cy="716400"/>
            <a:chOff x="6889320" y="2326680"/>
            <a:chExt cx="1762560" cy="716400"/>
          </a:xfrm>
        </p:grpSpPr>
        <p:grpSp>
          <p:nvGrpSpPr>
            <p:cNvPr id="226" name=""/>
            <p:cNvGrpSpPr/>
            <p:nvPr/>
          </p:nvGrpSpPr>
          <p:grpSpPr>
            <a:xfrm>
              <a:off x="7924680" y="2585880"/>
              <a:ext cx="727200" cy="457200"/>
              <a:chOff x="7924680" y="2585880"/>
              <a:chExt cx="727200" cy="457200"/>
            </a:xfrm>
          </p:grpSpPr>
          <p:sp>
            <p:nvSpPr>
              <p:cNvPr id="227" name=""/>
              <p:cNvSpPr/>
              <p:nvPr/>
            </p:nvSpPr>
            <p:spPr>
              <a:xfrm>
                <a:off x="7924680" y="2585880"/>
                <a:ext cx="685800" cy="457200"/>
              </a:xfrm>
              <a:prstGeom prst="rect">
                <a:avLst/>
              </a:prstGeom>
              <a:noFill/>
              <a:ln cap="rnd" w="9360">
                <a:solidFill>
                  <a:srgbClr val="bbe0e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966080" y="26622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66"/>
                    </a:solidFill>
                    <a:latin typeface="Arial"/>
                    <a:ea typeface="Times New Roman"/>
                  </a:rPr>
                  <a:t>eK-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29" name=""/>
            <p:cNvCxnSpPr>
              <a:stCxn id="227" idx="0"/>
              <a:endCxn id="218" idx="0"/>
            </p:cNvCxnSpPr>
            <p:nvPr/>
          </p:nvCxnSpPr>
          <p:spPr>
            <a:xfrm rot="5400000">
              <a:off x="7577280" y="1897560"/>
              <a:ext cx="2160" cy="1378800"/>
            </a:xfrm>
            <a:prstGeom prst="curvedConnector5">
              <a:avLst>
                <a:gd name="adj1" fmla="val -14400000"/>
                <a:gd name="adj2" fmla="val 49986"/>
                <a:gd name="adj3" fmla="val -14400000"/>
              </a:avLst>
            </a:prstGeom>
            <a:ln cap="rnd" w="9360">
              <a:solidFill>
                <a:srgbClr val="66ff99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  <p:grpSp>
        <p:nvGrpSpPr>
          <p:cNvPr id="230" name=""/>
          <p:cNvGrpSpPr/>
          <p:nvPr/>
        </p:nvGrpSpPr>
        <p:grpSpPr>
          <a:xfrm>
            <a:off x="1066680" y="2326680"/>
            <a:ext cx="3924360" cy="716400"/>
            <a:chOff x="1066680" y="2326680"/>
            <a:chExt cx="3924360" cy="716400"/>
          </a:xfrm>
        </p:grpSpPr>
        <p:grpSp>
          <p:nvGrpSpPr>
            <p:cNvPr id="231" name=""/>
            <p:cNvGrpSpPr/>
            <p:nvPr/>
          </p:nvGrpSpPr>
          <p:grpSpPr>
            <a:xfrm>
              <a:off x="1066680" y="2585880"/>
              <a:ext cx="727200" cy="457200"/>
              <a:chOff x="1066680" y="2585880"/>
              <a:chExt cx="727200" cy="457200"/>
            </a:xfrm>
          </p:grpSpPr>
          <p:sp>
            <p:nvSpPr>
              <p:cNvPr id="232" name=""/>
              <p:cNvSpPr/>
              <p:nvPr/>
            </p:nvSpPr>
            <p:spPr>
              <a:xfrm>
                <a:off x="1066680" y="25858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08080" y="26622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eK-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34" name=""/>
            <p:cNvCxnSpPr>
              <a:stCxn id="215" idx="0"/>
              <a:endCxn id="232" idx="0"/>
            </p:cNvCxnSpPr>
            <p:nvPr/>
          </p:nvCxnSpPr>
          <p:spPr>
            <a:xfrm rot="5400000">
              <a:off x="3198960" y="795960"/>
              <a:ext cx="2160" cy="3582000"/>
            </a:xfrm>
            <a:prstGeom prst="curvedConnector5">
              <a:avLst>
                <a:gd name="adj1" fmla="val -14400000"/>
                <a:gd name="adj2" fmla="val 49994"/>
                <a:gd name="adj3" fmla="val -14400000"/>
              </a:avLst>
            </a:prstGeom>
            <a:ln cap="rnd" w="9360">
              <a:solidFill>
                <a:srgbClr val="66ff99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  <p:grpSp>
        <p:nvGrpSpPr>
          <p:cNvPr id="235" name=""/>
          <p:cNvGrpSpPr/>
          <p:nvPr/>
        </p:nvGrpSpPr>
        <p:grpSpPr>
          <a:xfrm>
            <a:off x="3692520" y="2326680"/>
            <a:ext cx="1298520" cy="716400"/>
            <a:chOff x="3692520" y="2326680"/>
            <a:chExt cx="1298520" cy="716400"/>
          </a:xfrm>
        </p:grpSpPr>
        <p:grpSp>
          <p:nvGrpSpPr>
            <p:cNvPr id="236" name=""/>
            <p:cNvGrpSpPr/>
            <p:nvPr/>
          </p:nvGrpSpPr>
          <p:grpSpPr>
            <a:xfrm>
              <a:off x="3692520" y="2585880"/>
              <a:ext cx="727200" cy="457200"/>
              <a:chOff x="3692520" y="2585880"/>
              <a:chExt cx="727200" cy="457200"/>
            </a:xfrm>
          </p:grpSpPr>
          <p:sp>
            <p:nvSpPr>
              <p:cNvPr id="237" name=""/>
              <p:cNvSpPr/>
              <p:nvPr/>
            </p:nvSpPr>
            <p:spPr>
              <a:xfrm>
                <a:off x="3692520" y="25858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733920" y="26622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eK-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39" name=""/>
            <p:cNvCxnSpPr>
              <a:stCxn id="215" idx="0"/>
              <a:endCxn id="237" idx="0"/>
            </p:cNvCxnSpPr>
            <p:nvPr/>
          </p:nvCxnSpPr>
          <p:spPr>
            <a:xfrm rot="5400000">
              <a:off x="4511880" y="2108880"/>
              <a:ext cx="2160" cy="956160"/>
            </a:xfrm>
            <a:prstGeom prst="curvedConnector5">
              <a:avLst>
                <a:gd name="adj1" fmla="val -14400000"/>
                <a:gd name="adj2" fmla="val 49981"/>
                <a:gd name="adj3" fmla="val -14400000"/>
              </a:avLst>
            </a:prstGeom>
            <a:ln w="9360">
              <a:solidFill>
                <a:srgbClr val="66ff99"/>
              </a:solidFill>
              <a:miter/>
              <a:tailEnd len="med" type="triangle" w="med"/>
            </a:ln>
          </p:spPr>
        </p:cxnSp>
      </p:grpSp>
      <p:grpSp>
        <p:nvGrpSpPr>
          <p:cNvPr id="240" name=""/>
          <p:cNvGrpSpPr/>
          <p:nvPr/>
        </p:nvGrpSpPr>
        <p:grpSpPr>
          <a:xfrm>
            <a:off x="2813040" y="2326680"/>
            <a:ext cx="1222200" cy="716400"/>
            <a:chOff x="2813040" y="2326680"/>
            <a:chExt cx="1222200" cy="716400"/>
          </a:xfrm>
        </p:grpSpPr>
        <p:grpSp>
          <p:nvGrpSpPr>
            <p:cNvPr id="241" name=""/>
            <p:cNvGrpSpPr/>
            <p:nvPr/>
          </p:nvGrpSpPr>
          <p:grpSpPr>
            <a:xfrm>
              <a:off x="2813040" y="2585880"/>
              <a:ext cx="727200" cy="457200"/>
              <a:chOff x="2813040" y="2585880"/>
              <a:chExt cx="7272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2813040" y="25858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854440" y="26622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eK-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43" name=""/>
            <p:cNvCxnSpPr>
              <a:stCxn id="237" idx="0"/>
              <a:endCxn id="224" idx="0"/>
            </p:cNvCxnSpPr>
            <p:nvPr/>
          </p:nvCxnSpPr>
          <p:spPr>
            <a:xfrm rot="5400000">
              <a:off x="3594240" y="2146680"/>
              <a:ext cx="2160" cy="88020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9360">
              <a:solidFill>
                <a:srgbClr val="66ff99"/>
              </a:solidFill>
              <a:miter/>
              <a:tailEnd len="med" type="triangle" w="med"/>
            </a:ln>
          </p:spPr>
        </p:cxnSp>
      </p:grpSp>
      <p:grpSp>
        <p:nvGrpSpPr>
          <p:cNvPr id="244" name=""/>
          <p:cNvGrpSpPr/>
          <p:nvPr/>
        </p:nvGrpSpPr>
        <p:grpSpPr>
          <a:xfrm>
            <a:off x="0" y="1066680"/>
            <a:ext cx="9372600" cy="4876560"/>
            <a:chOff x="0" y="1066680"/>
            <a:chExt cx="9372600" cy="4876560"/>
          </a:xfrm>
        </p:grpSpPr>
        <p:grpSp>
          <p:nvGrpSpPr>
            <p:cNvPr id="245" name=""/>
            <p:cNvGrpSpPr/>
            <p:nvPr/>
          </p:nvGrpSpPr>
          <p:grpSpPr>
            <a:xfrm>
              <a:off x="0" y="1066680"/>
              <a:ext cx="9372600" cy="1981080"/>
              <a:chOff x="0" y="1066680"/>
              <a:chExt cx="9372600" cy="1981080"/>
            </a:xfrm>
          </p:grpSpPr>
          <p:sp>
            <p:nvSpPr>
              <p:cNvPr id="246" name=""/>
              <p:cNvSpPr/>
              <p:nvPr/>
            </p:nvSpPr>
            <p:spPr>
              <a:xfrm>
                <a:off x="2286000" y="1523880"/>
                <a:ext cx="2209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Pasado presen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6546960" y="2590560"/>
                <a:ext cx="726480" cy="457200"/>
                <a:chOff x="6546960" y="2590560"/>
                <a:chExt cx="726480" cy="45720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6546960" y="259056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588000" y="266688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ccff66"/>
                      </a:solidFill>
                      <a:latin typeface="Arial"/>
                      <a:ea typeface="Times New Roman"/>
                    </a:rPr>
                    <a:t>eK-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5808600" y="1066680"/>
                <a:ext cx="221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Presen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162920" y="1555560"/>
                <a:ext cx="2209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Futuro presen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2057040"/>
                <a:ext cx="2209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Comunicac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228600" y="1447560"/>
              <a:ext cx="8839080" cy="4495680"/>
              <a:chOff x="228600" y="1447560"/>
              <a:chExt cx="8839080" cy="4495680"/>
            </a:xfrm>
          </p:grpSpPr>
          <p:sp>
            <p:nvSpPr>
              <p:cNvPr id="253" name=""/>
              <p:cNvSpPr/>
              <p:nvPr/>
            </p:nvSpPr>
            <p:spPr>
              <a:xfrm>
                <a:off x="1066680" y="1447560"/>
                <a:ext cx="0" cy="4495680"/>
              </a:xfrm>
              <a:prstGeom prst="line">
                <a:avLst/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53080" y="1447560"/>
                <a:ext cx="0" cy="4495680"/>
              </a:xfrm>
              <a:prstGeom prst="line">
                <a:avLst/>
              </a:prstGeom>
              <a:ln w="9360">
                <a:solidFill>
                  <a:srgbClr val="66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38880" y="1447560"/>
                <a:ext cx="0" cy="4495680"/>
              </a:xfrm>
              <a:prstGeom prst="line">
                <a:avLst/>
              </a:prstGeom>
              <a:ln w="9360">
                <a:solidFill>
                  <a:srgbClr val="66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28600" y="3200040"/>
                <a:ext cx="8839080" cy="0"/>
              </a:xfrm>
              <a:prstGeom prst="line">
                <a:avLst/>
              </a:prstGeom>
              <a:ln w="38160">
                <a:solidFill>
                  <a:srgbClr val="66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40200" y="287964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bbe0e3"/>
                    </a:solidFill>
                    <a:latin typeface="Arial"/>
                    <a:ea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1933560" y="1968480"/>
            <a:ext cx="2102040" cy="1074600"/>
            <a:chOff x="1933560" y="1968480"/>
            <a:chExt cx="2102040" cy="1074600"/>
          </a:xfrm>
        </p:grpSpPr>
        <p:grpSp>
          <p:nvGrpSpPr>
            <p:cNvPr id="259" name=""/>
            <p:cNvGrpSpPr/>
            <p:nvPr/>
          </p:nvGrpSpPr>
          <p:grpSpPr>
            <a:xfrm>
              <a:off x="1933560" y="2585880"/>
              <a:ext cx="727200" cy="457200"/>
              <a:chOff x="1933560" y="2585880"/>
              <a:chExt cx="727200" cy="457200"/>
            </a:xfrm>
          </p:grpSpPr>
          <p:sp>
            <p:nvSpPr>
              <p:cNvPr id="260" name=""/>
              <p:cNvSpPr/>
              <p:nvPr/>
            </p:nvSpPr>
            <p:spPr>
              <a:xfrm>
                <a:off x="1933560" y="25858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974960" y="26622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eK-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62" name=""/>
            <p:cNvCxnSpPr>
              <a:stCxn id="237" idx="0"/>
              <a:endCxn id="260" idx="0"/>
            </p:cNvCxnSpPr>
            <p:nvPr/>
          </p:nvCxnSpPr>
          <p:spPr>
            <a:xfrm rot="5400000">
              <a:off x="3154680" y="1707120"/>
              <a:ext cx="2160" cy="1759680"/>
            </a:xfrm>
            <a:prstGeom prst="curvedConnector5">
              <a:avLst>
                <a:gd name="adj1" fmla="val -34300000"/>
                <a:gd name="adj2" fmla="val 49989"/>
                <a:gd name="adj3" fmla="val -34300000"/>
              </a:avLst>
            </a:prstGeom>
            <a:ln cap="rnd" w="9360">
              <a:solidFill>
                <a:srgbClr val="66ff99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1062000" y="3886200"/>
            <a:ext cx="800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ff66"/>
                </a:solidFill>
                <a:latin typeface="Arial Narrow"/>
              </a:rPr>
              <a:t>Comprensión no es empatía, es que a una comunicación le siga o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65240" y="4738680"/>
            <a:ext cx="80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ff66"/>
                </a:solidFill>
                <a:latin typeface="Arial Narrow"/>
              </a:rPr>
              <a:t>El abismo de la doble contingencia es insuperable </a:t>
            </a:r>
            <a:r>
              <a:rPr b="1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ccff66"/>
                </a:solidFill>
                <a:latin typeface="Arial Narrow"/>
              </a:rPr>
              <a:t> reflexividad cuando no hay coordinación de expect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60560" y="5576760"/>
            <a:ext cx="80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ff66"/>
                </a:solidFill>
                <a:latin typeface="Arial Narrow"/>
              </a:rPr>
              <a:t>La comunicación opera desde el presente hacia el pas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724280" y="1905120"/>
            <a:ext cx="685800" cy="4876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533520"/>
            <a:ext cx="9144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668160"/>
            <a:ext cx="281916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Supuestos de la teoría sistémica de la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84600" y="730080"/>
            <a:ext cx="61722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La comunicación es improbable en tanto comunican sistemas autónomos, operativamente clausurados y estructuralmente determin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2038320"/>
            <a:ext cx="4267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Es improbable que </a:t>
            </a:r>
            <a:r>
              <a:rPr b="0" lang="en-US" sz="18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ego entienda lo que pretende alter</a:t>
            </a:r>
            <a:r>
              <a:rPr b="0" lang="en-US" sz="18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 dada la individualización de las concienci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3321000"/>
            <a:ext cx="42670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Es improbable que la comunicación </a:t>
            </a:r>
            <a:r>
              <a:rPr b="0" lang="en-US" sz="18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llegue a más personas de las presentes</a:t>
            </a:r>
            <a:r>
              <a:rPr b="0" lang="en-US" sz="18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 en una situación concre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4692600"/>
            <a:ext cx="42670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Es improbable que la </a:t>
            </a:r>
            <a:r>
              <a:rPr b="0" lang="en-US" sz="18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comunicación tenga éxito</a:t>
            </a:r>
            <a:r>
              <a:rPr b="0" lang="en-US" sz="18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, es decir, que ego acepte el contenido selectivo de la comunicación (información) como premisa de su propia conducta o pens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2030400"/>
            <a:ext cx="426744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Lenguaje:</a:t>
            </a:r>
            <a:r>
              <a:rPr b="0" lang="en-US" sz="18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 probabiliza la comprensión de la comunicación para todas las concienci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24280" y="3321000"/>
            <a:ext cx="426744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Medios de comunicación:</a:t>
            </a:r>
            <a:r>
              <a:rPr b="0" lang="en-US" sz="18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 probabiliza que la comunicación llegue a más personas de las presen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24280" y="4737240"/>
            <a:ext cx="4267440" cy="16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Medios de comunicación simbó-licamente generalizados:</a:t>
            </a:r>
            <a:r>
              <a:rPr b="0" lang="en-US" sz="18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 probabilizan la aceptación del contenido selectivo de la comunicación (información) por medio de una reducción de complejidad de alternativas: quien quiera comprar necesita dine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70866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-33480" y="136440"/>
            <a:ext cx="72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66"/>
                </a:solidFill>
                <a:latin typeface="Trebuchet MS"/>
              </a:rPr>
              <a:t>Medios de comunicación simbólicamente general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57200" y="3373560"/>
            <a:ext cx="3203280" cy="3484440"/>
            <a:chOff x="457200" y="3373560"/>
            <a:chExt cx="3203280" cy="3484440"/>
          </a:xfrm>
        </p:grpSpPr>
        <p:sp>
          <p:nvSpPr>
            <p:cNvPr id="279" name=""/>
            <p:cNvSpPr/>
            <p:nvPr/>
          </p:nvSpPr>
          <p:spPr>
            <a:xfrm>
              <a:off x="457200" y="3373560"/>
              <a:ext cx="3203280" cy="348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3520" y="3425760"/>
              <a:ext cx="311904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cff66"/>
                  </a:solidFill>
                  <a:latin typeface="Trebuchet MS"/>
                </a:rPr>
                <a:t>Doble conting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165400" y="1279440"/>
            <a:ext cx="6597720" cy="2043360"/>
            <a:chOff x="2165400" y="1279440"/>
            <a:chExt cx="6597720" cy="2043360"/>
          </a:xfrm>
        </p:grpSpPr>
        <p:sp>
          <p:nvSpPr>
            <p:cNvPr id="282" name=""/>
            <p:cNvSpPr/>
            <p:nvPr/>
          </p:nvSpPr>
          <p:spPr>
            <a:xfrm>
              <a:off x="4267080" y="1279440"/>
              <a:ext cx="4496040" cy="82404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ccff66"/>
                  </a:solidFill>
                  <a:latin typeface="Trebuchet MS"/>
                </a:rPr>
                <a:t>Problema se origina en Parsons </a:t>
              </a:r>
              <a:r>
                <a:rPr b="0" lang="es-ES_tradnl" sz="1600" spc="-1" strike="noStrike">
                  <a:solidFill>
                    <a:srgbClr val="ccff66"/>
                  </a:solidFill>
                  <a:latin typeface="Wingdings"/>
                  <a:ea typeface="Wingdings"/>
                </a:rPr>
                <a:t></a:t>
              </a:r>
              <a:r>
                <a:rPr b="0" lang="es-ES_tradnl" sz="1600" spc="-1" strike="noStrike">
                  <a:solidFill>
                    <a:srgbClr val="ccff66"/>
                  </a:solidFill>
                  <a:latin typeface="Trebuchet MS"/>
                </a:rPr>
                <a:t> Gratificación de ego es contingente sobre acción que elige al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0" idx="0"/>
              <a:endCxn id="282" idx="1"/>
            </p:cNvCxnSpPr>
            <p:nvPr/>
          </p:nvCxnSpPr>
          <p:spPr>
            <a:xfrm flipH="1" flipV="1" rot="5400000">
              <a:off x="2445840" y="1501560"/>
              <a:ext cx="1540800" cy="2102040"/>
            </a:xfrm>
            <a:prstGeom prst="curvedConnector2">
              <a:avLst/>
            </a:prstGeom>
            <a:ln w="9360">
              <a:solidFill>
                <a:srgbClr val="99cc00"/>
              </a:solidFill>
              <a:miter/>
              <a:tailEnd len="med" type="triangle" w="med"/>
            </a:ln>
          </p:spPr>
        </p:cxnSp>
      </p:grpSp>
      <p:grpSp>
        <p:nvGrpSpPr>
          <p:cNvPr id="284" name=""/>
          <p:cNvGrpSpPr/>
          <p:nvPr/>
        </p:nvGrpSpPr>
        <p:grpSpPr>
          <a:xfrm>
            <a:off x="2165400" y="3902040"/>
            <a:ext cx="6597720" cy="2407320"/>
            <a:chOff x="2165400" y="3902040"/>
            <a:chExt cx="6597720" cy="2407320"/>
          </a:xfrm>
        </p:grpSpPr>
        <p:cxnSp>
          <p:nvCxnSpPr>
            <p:cNvPr id="285" name=""/>
            <p:cNvCxnSpPr>
              <a:stCxn id="280" idx="2"/>
              <a:endCxn id="286" idx="1"/>
            </p:cNvCxnSpPr>
            <p:nvPr/>
          </p:nvCxnSpPr>
          <p:spPr>
            <a:xfrm flipH="1" rot="16200000">
              <a:off x="2294640" y="3772800"/>
              <a:ext cx="1843920" cy="2102040"/>
            </a:xfrm>
            <a:prstGeom prst="curvedConnector2">
              <a:avLst/>
            </a:prstGeom>
            <a:ln w="9360">
              <a:solidFill>
                <a:srgbClr val="99cc00"/>
              </a:solidFill>
              <a:miter/>
              <a:tailEnd len="med" type="triangle" w="med"/>
            </a:ln>
          </p:spPr>
        </p:cxnSp>
        <p:sp>
          <p:nvSpPr>
            <p:cNvPr id="286" name=""/>
            <p:cNvSpPr/>
            <p:nvPr/>
          </p:nvSpPr>
          <p:spPr>
            <a:xfrm>
              <a:off x="4267080" y="5241960"/>
              <a:ext cx="4496040" cy="106740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ccff66"/>
                  </a:solidFill>
                  <a:latin typeface="Trebuchet MS"/>
                </a:rPr>
                <a:t>Doble contingencia hace selectividad de otros disponible para selección</a:t>
              </a:r>
              <a:r>
                <a:rPr b="0" lang="es-ES_tradnl" sz="1600" spc="-1" strike="noStrike">
                  <a:solidFill>
                    <a:srgbClr val="ccff66"/>
                  </a:solidFill>
                  <a:latin typeface="Wingdings"/>
                  <a:ea typeface="Wingdings"/>
                </a:rPr>
                <a:t></a:t>
              </a:r>
              <a:r>
                <a:rPr b="0" lang="es-ES_tradnl" sz="1600" spc="-1" strike="noStrike">
                  <a:solidFill>
                    <a:srgbClr val="ccff66"/>
                  </a:solidFill>
                  <a:latin typeface="Trebuchet MS"/>
                </a:rPr>
                <a:t> esto construye cadenas de selección de alta fragi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711240" y="2590920"/>
            <a:ext cx="5051880" cy="1022400"/>
            <a:chOff x="3711240" y="2590920"/>
            <a:chExt cx="5051880" cy="1022400"/>
          </a:xfrm>
        </p:grpSpPr>
        <p:sp>
          <p:nvSpPr>
            <p:cNvPr id="288" name=""/>
            <p:cNvSpPr/>
            <p:nvPr/>
          </p:nvSpPr>
          <p:spPr>
            <a:xfrm>
              <a:off x="4267080" y="2590920"/>
              <a:ext cx="4496040" cy="82404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ccff66"/>
                  </a:solidFill>
                  <a:latin typeface="Trebuchet MS"/>
                </a:rPr>
                <a:t>Ser depende de la selección </a:t>
              </a:r>
              <a:r>
                <a:rPr b="0" lang="es-ES_tradnl" sz="1600" spc="-1" strike="noStrike">
                  <a:solidFill>
                    <a:srgbClr val="ccff66"/>
                  </a:solidFill>
                  <a:latin typeface="Wingdings"/>
                  <a:ea typeface="Wingdings"/>
                </a:rPr>
                <a:t></a:t>
              </a:r>
              <a:r>
                <a:rPr b="0" lang="es-ES_tradnl" sz="1600" spc="-1" strike="noStrike">
                  <a:solidFill>
                    <a:srgbClr val="ccff66"/>
                  </a:solidFill>
                  <a:latin typeface="Trebuchet MS"/>
                </a:rPr>
                <a:t> selección entre otras posibilidades que siguen siendo posibilidades a pesar de selec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9" name=""/>
            <p:cNvCxnSpPr>
              <a:stCxn id="280" idx="3"/>
              <a:endCxn id="288" idx="1"/>
            </p:cNvCxnSpPr>
            <p:nvPr/>
          </p:nvCxnSpPr>
          <p:spPr>
            <a:xfrm flipV="1">
              <a:off x="3711240" y="2941200"/>
              <a:ext cx="556200" cy="672480"/>
            </a:xfrm>
            <a:prstGeom prst="curvedConnector5">
              <a:avLst>
                <a:gd name="adj1" fmla="val 50000"/>
                <a:gd name="adj2" fmla="val 49973"/>
                <a:gd name="adj3" fmla="val 50000"/>
              </a:avLst>
            </a:prstGeom>
            <a:ln w="9360">
              <a:solidFill>
                <a:srgbClr val="99cc00"/>
              </a:solidFill>
              <a:miter/>
              <a:tailEnd len="med" type="triangle" w="med"/>
            </a:ln>
          </p:spPr>
        </p:cxnSp>
      </p:grpSp>
      <p:grpSp>
        <p:nvGrpSpPr>
          <p:cNvPr id="290" name=""/>
          <p:cNvGrpSpPr/>
          <p:nvPr/>
        </p:nvGrpSpPr>
        <p:grpSpPr>
          <a:xfrm>
            <a:off x="3722760" y="3613320"/>
            <a:ext cx="5040360" cy="822960"/>
            <a:chOff x="3722760" y="3613320"/>
            <a:chExt cx="5040360" cy="822960"/>
          </a:xfrm>
        </p:grpSpPr>
        <p:sp>
          <p:nvSpPr>
            <p:cNvPr id="291" name=""/>
            <p:cNvSpPr/>
            <p:nvPr/>
          </p:nvSpPr>
          <p:spPr>
            <a:xfrm>
              <a:off x="4267080" y="4098960"/>
              <a:ext cx="4496040" cy="3373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ccff66"/>
                  </a:solidFill>
                  <a:latin typeface="Trebuchet MS"/>
                </a:rPr>
                <a:t>Duplicación de la estructura de selec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2" name=""/>
            <p:cNvCxnSpPr>
              <a:stCxn id="280" idx="3"/>
              <a:endCxn id="291" idx="1"/>
            </p:cNvCxnSpPr>
            <p:nvPr/>
          </p:nvCxnSpPr>
          <p:spPr>
            <a:xfrm>
              <a:off x="3722760" y="3613320"/>
              <a:ext cx="545040" cy="684720"/>
            </a:xfrm>
            <a:prstGeom prst="curvedConnector5">
              <a:avLst>
                <a:gd name="adj1" fmla="val 49834"/>
                <a:gd name="adj2" fmla="val 49973"/>
                <a:gd name="adj3" fmla="val 49834"/>
              </a:avLst>
            </a:prstGeom>
            <a:ln w="9360">
              <a:solidFill>
                <a:srgbClr val="99cc00"/>
              </a:solidFill>
              <a:miter/>
              <a:tailEnd len="med" type="triangle" w="med"/>
            </a:ln>
          </p:spPr>
        </p:cxnSp>
      </p:grp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7924680" y="4724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1" action="ppaction://hlinksldjump"/>
          </p:cNvPr>
          <p:cNvSpPr/>
          <p:nvPr/>
        </p:nvSpPr>
        <p:spPr>
          <a:xfrm>
            <a:off x="79246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0" y="0"/>
            <a:ext cx="5867280" cy="762120"/>
            <a:chOff x="0" y="0"/>
            <a:chExt cx="5867280" cy="762120"/>
          </a:xfrm>
        </p:grpSpPr>
        <p:sp>
          <p:nvSpPr>
            <p:cNvPr id="296" name=""/>
            <p:cNvSpPr/>
            <p:nvPr/>
          </p:nvSpPr>
          <p:spPr>
            <a:xfrm>
              <a:off x="0" y="0"/>
              <a:ext cx="5867280" cy="762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3920" y="76320"/>
              <a:ext cx="5583240" cy="52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ccff66"/>
                  </a:solidFill>
                  <a:latin typeface="Arial Narrow"/>
                </a:rPr>
                <a:t>Duplicación de estructura de selec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09480" y="1219320"/>
            <a:ext cx="7925040" cy="337320"/>
            <a:chOff x="609480" y="1219320"/>
            <a:chExt cx="7925040" cy="337320"/>
          </a:xfrm>
        </p:grpSpPr>
        <p:sp>
          <p:nvSpPr>
            <p:cNvPr id="299" name=""/>
            <p:cNvSpPr/>
            <p:nvPr/>
          </p:nvSpPr>
          <p:spPr>
            <a:xfrm>
              <a:off x="609480" y="1219320"/>
              <a:ext cx="160020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AL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34320" y="1219320"/>
              <a:ext cx="160020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E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219320" y="1729080"/>
            <a:ext cx="6705360" cy="2004840"/>
            <a:chOff x="1219320" y="1729080"/>
            <a:chExt cx="6705360" cy="2004840"/>
          </a:xfrm>
        </p:grpSpPr>
        <p:sp>
          <p:nvSpPr>
            <p:cNvPr id="302" name=""/>
            <p:cNvSpPr/>
            <p:nvPr/>
          </p:nvSpPr>
          <p:spPr>
            <a:xfrm>
              <a:off x="1219320" y="2057400"/>
              <a:ext cx="30456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19320" y="2701800"/>
              <a:ext cx="30456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3429000"/>
              <a:ext cx="30456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620120" y="2057400"/>
              <a:ext cx="30456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0120" y="2701800"/>
              <a:ext cx="30456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20120" y="3429000"/>
              <a:ext cx="30456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8" name=""/>
            <p:cNvCxnSpPr>
              <a:stCxn id="309" idx="0"/>
              <a:endCxn id="302" idx="7"/>
            </p:cNvCxnSpPr>
            <p:nvPr/>
          </p:nvCxnSpPr>
          <p:spPr>
            <a:xfrm rot="5400000">
              <a:off x="3024360" y="555480"/>
              <a:ext cx="2520" cy="3093120"/>
            </a:xfrm>
            <a:prstGeom prst="curvedConnector5">
              <a:avLst>
                <a:gd name="adj1" fmla="val -17200000"/>
                <a:gd name="adj2" fmla="val 49994"/>
                <a:gd name="adj3" fmla="val -17200000"/>
              </a:avLst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309" idx="0"/>
              <a:endCxn id="305" idx="0"/>
            </p:cNvCxnSpPr>
            <p:nvPr/>
          </p:nvCxnSpPr>
          <p:spPr>
            <a:xfrm flipH="1" flipV="1" rot="5400000">
              <a:off x="6149880" y="478800"/>
              <a:ext cx="45000" cy="3201120"/>
            </a:xfrm>
            <a:prstGeom prst="curvedConnector5">
              <a:avLst>
                <a:gd name="adj1" fmla="val 613709"/>
                <a:gd name="adj2" fmla="val 49994"/>
                <a:gd name="adj3" fmla="val 613709"/>
              </a:avLst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  <p:cxnSp>
          <p:nvCxnSpPr>
            <p:cNvPr id="311" name=""/>
            <p:cNvCxnSpPr>
              <a:stCxn id="312" idx="0"/>
              <a:endCxn id="303" idx="0"/>
            </p:cNvCxnSpPr>
            <p:nvPr/>
          </p:nvCxnSpPr>
          <p:spPr>
            <a:xfrm flipV="1" rot="16200000">
              <a:off x="2930040" y="1142280"/>
              <a:ext cx="86400" cy="3204360"/>
            </a:xfrm>
            <a:prstGeom prst="curvedConnector5">
              <a:avLst>
                <a:gd name="adj1" fmla="val 366527"/>
                <a:gd name="adj2" fmla="val 50000"/>
                <a:gd name="adj3" fmla="val 366527"/>
              </a:avLst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  <p:cxnSp>
          <p:nvCxnSpPr>
            <p:cNvPr id="313" name=""/>
            <p:cNvCxnSpPr>
              <a:stCxn id="312" idx="0"/>
              <a:endCxn id="306" idx="0"/>
            </p:cNvCxnSpPr>
            <p:nvPr/>
          </p:nvCxnSpPr>
          <p:spPr>
            <a:xfrm flipH="1" flipV="1" rot="5400000">
              <a:off x="6130440" y="1145520"/>
              <a:ext cx="86400" cy="3197880"/>
            </a:xfrm>
            <a:prstGeom prst="curvedConnector5">
              <a:avLst>
                <a:gd name="adj1" fmla="val 366527"/>
                <a:gd name="adj2" fmla="val 50000"/>
                <a:gd name="adj3" fmla="val 366527"/>
              </a:avLst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315" idx="0"/>
              <a:endCxn id="304" idx="0"/>
            </p:cNvCxnSpPr>
            <p:nvPr/>
          </p:nvCxnSpPr>
          <p:spPr>
            <a:xfrm flipV="1" rot="16200000">
              <a:off x="2947320" y="1851840"/>
              <a:ext cx="45000" cy="3197880"/>
            </a:xfrm>
            <a:prstGeom prst="curvedConnector5">
              <a:avLst>
                <a:gd name="adj1" fmla="val 613709"/>
                <a:gd name="adj2" fmla="val 50000"/>
                <a:gd name="adj3" fmla="val 613709"/>
              </a:avLst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  <p:cxnSp>
          <p:nvCxnSpPr>
            <p:cNvPr id="316" name=""/>
            <p:cNvCxnSpPr>
              <a:stCxn id="315" idx="0"/>
              <a:endCxn id="307" idx="0"/>
            </p:cNvCxnSpPr>
            <p:nvPr/>
          </p:nvCxnSpPr>
          <p:spPr>
            <a:xfrm flipH="1" flipV="1" rot="5400000">
              <a:off x="6148080" y="1848600"/>
              <a:ext cx="45000" cy="3204360"/>
            </a:xfrm>
            <a:prstGeom prst="curvedConnector5">
              <a:avLst>
                <a:gd name="adj1" fmla="val 613709"/>
                <a:gd name="adj2" fmla="val 50000"/>
                <a:gd name="adj3" fmla="val 613709"/>
              </a:avLst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</p:grpSp>
      <p:grpSp>
        <p:nvGrpSpPr>
          <p:cNvPr id="317" name=""/>
          <p:cNvGrpSpPr/>
          <p:nvPr/>
        </p:nvGrpSpPr>
        <p:grpSpPr>
          <a:xfrm>
            <a:off x="2479680" y="4014720"/>
            <a:ext cx="4191120" cy="1020600"/>
            <a:chOff x="2479680" y="4014720"/>
            <a:chExt cx="4191120" cy="1020600"/>
          </a:xfrm>
        </p:grpSpPr>
        <p:sp>
          <p:nvSpPr>
            <p:cNvPr id="318" name=""/>
            <p:cNvSpPr/>
            <p:nvPr/>
          </p:nvSpPr>
          <p:spPr>
            <a:xfrm>
              <a:off x="2479680" y="4454640"/>
              <a:ext cx="4191120" cy="580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Univers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 </a:t>
              </a: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Potencial significativamente organiz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60760" y="4014720"/>
              <a:ext cx="22860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04920" y="3962520"/>
            <a:ext cx="8557920" cy="1770480"/>
            <a:chOff x="304920" y="3962520"/>
            <a:chExt cx="8557920" cy="1770480"/>
          </a:xfrm>
        </p:grpSpPr>
        <p:sp>
          <p:nvSpPr>
            <p:cNvPr id="321" name=""/>
            <p:cNvSpPr/>
            <p:nvPr/>
          </p:nvSpPr>
          <p:spPr>
            <a:xfrm>
              <a:off x="304920" y="5334120"/>
              <a:ext cx="213336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Selección subjeti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729480" y="5334120"/>
              <a:ext cx="213336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Selección subjeti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53960" y="3962520"/>
              <a:ext cx="0" cy="1066680"/>
            </a:xfrm>
            <a:prstGeom prst="line">
              <a:avLst/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772400" y="3962520"/>
              <a:ext cx="0" cy="1066680"/>
            </a:xfrm>
            <a:prstGeom prst="line">
              <a:avLst/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370880" y="5740200"/>
            <a:ext cx="6425280" cy="427320"/>
            <a:chOff x="1370880" y="5740200"/>
            <a:chExt cx="6425280" cy="427320"/>
          </a:xfrm>
        </p:grpSpPr>
        <p:cxnSp>
          <p:nvCxnSpPr>
            <p:cNvPr id="326" name=""/>
            <p:cNvCxnSpPr>
              <a:stCxn id="327" idx="1"/>
              <a:endCxn id="321" idx="2"/>
            </p:cNvCxnSpPr>
            <p:nvPr/>
          </p:nvCxnSpPr>
          <p:spPr>
            <a:xfrm rot="10800000">
              <a:off x="1370880" y="5739840"/>
              <a:ext cx="1770840" cy="427680"/>
            </a:xfrm>
            <a:prstGeom prst="bentConnector2">
              <a:avLst/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28" name=""/>
            <p:cNvCxnSpPr>
              <a:stCxn id="327" idx="3"/>
              <a:endCxn id="322" idx="2"/>
            </p:cNvCxnSpPr>
            <p:nvPr/>
          </p:nvCxnSpPr>
          <p:spPr>
            <a:xfrm flipV="1">
              <a:off x="6001920" y="5740200"/>
              <a:ext cx="1794600" cy="427680"/>
            </a:xfrm>
            <a:prstGeom prst="bentConnector2">
              <a:avLst/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329" name=""/>
          <p:cNvGrpSpPr/>
          <p:nvPr/>
        </p:nvGrpSpPr>
        <p:grpSpPr>
          <a:xfrm>
            <a:off x="3141720" y="5334120"/>
            <a:ext cx="2860560" cy="1059840"/>
            <a:chOff x="3141720" y="5334120"/>
            <a:chExt cx="2860560" cy="1059840"/>
          </a:xfrm>
        </p:grpSpPr>
        <p:sp>
          <p:nvSpPr>
            <p:cNvPr id="327" name=""/>
            <p:cNvSpPr/>
            <p:nvPr/>
          </p:nvSpPr>
          <p:spPr>
            <a:xfrm>
              <a:off x="3141720" y="5934240"/>
              <a:ext cx="2860560" cy="459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Senti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54640" y="5334120"/>
              <a:ext cx="22860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cc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895480" y="91440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ff66"/>
                </a:solidFill>
                <a:latin typeface="Arial Narrow"/>
              </a:rPr>
              <a:t>Estructura de sele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2473200" y="1447920"/>
            <a:ext cx="4191120" cy="2362680"/>
            <a:chOff x="2473200" y="1447920"/>
            <a:chExt cx="4191120" cy="2362680"/>
          </a:xfrm>
        </p:grpSpPr>
        <p:sp>
          <p:nvSpPr>
            <p:cNvPr id="309" name=""/>
            <p:cNvSpPr/>
            <p:nvPr/>
          </p:nvSpPr>
          <p:spPr>
            <a:xfrm>
              <a:off x="2895480" y="2101680"/>
              <a:ext cx="335304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Potencial de selección-neg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41800" y="2787480"/>
              <a:ext cx="266688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Potencial de negar nega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73200" y="3473280"/>
              <a:ext cx="419112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Potencial para reconstruir otras posibilida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54640" y="1447920"/>
              <a:ext cx="22860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>
            <a:hlinkClick r:id="" action="ppaction://hlinkshowjump?jump=previous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7301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5456" y="3804"/>
                </a:lnTo>
                <a:lnTo>
                  <a:pt x="5456" y="17817"/>
                </a:lnTo>
                <a:lnTo>
                  <a:pt x="3794" y="17817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3:24:32Z</dcterms:created>
  <dc:creator>U. de Chile</dc:creator>
  <dc:description/>
  <dc:language>en-US</dc:language>
  <cp:lastModifiedBy>amascaren</cp:lastModifiedBy>
  <dcterms:modified xsi:type="dcterms:W3CDTF">2005-04-28T19:47:24Z</dcterms:modified>
  <cp:revision>29</cp:revision>
  <dc:subject/>
  <dc:title>Diapositiva 1</dc:title>
</cp:coreProperties>
</file>