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320E-F969-4172-967D-1248CF1BB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7A2C-0E37-4F7D-B442-1CDAE55E3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1E84-0E8B-48F5-8C72-888D417DE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904A-6DFB-4017-AACD-9AE4B198E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49B3C-3F9C-4322-9BD8-AD025A3E4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28CBB-5335-43A0-A993-6E389CE58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0AC45-BF1D-47D0-A3C0-D964A68BF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8C730-E50E-4292-A11D-2A49C0369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8EE43-3D28-49E6-A1BB-5BD4AEB8B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0A889-D63B-4B16-9260-5A75CEBF9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C9FBB-159F-408A-92A1-45488B54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5D47-BF54-415D-AA27-42ABD5DAB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C16AE-DDE5-4D52-920C-231491AB4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CC380-C6D9-4B31-A360-53D4CF70C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9CC47-C589-4587-A09E-649BE12F5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5AD37-638C-4832-A196-271D3002F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D2BF9-E3AC-457B-B4E4-209350779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4B90-BD31-468A-8962-12DC91B9F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523D-47EE-4A3E-8219-439BED963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F278-F398-4A72-883C-3C12E0CCD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8B74-0194-47DE-BBB2-31FED9A2C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FE75-3602-4291-A4E1-1DB6D23EC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47FC-34A6-4D40-A1DF-76A8F6FC0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C51B-BB2F-4CB6-B5A1-95F81DF87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09040-00A4-462D-854B-3821ECA0FEB7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835CF-B386-4227-8267-EFE05E5AFBA6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900000" y="1844640"/>
            <a:ext cx="5832720" cy="50403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268360" y="260280"/>
            <a:ext cx="5616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cc"/>
                </a:solidFill>
                <a:latin typeface="Arial"/>
              </a:rPr>
              <a:t>Universidad de Chile</a:t>
            </a:r>
            <a:br>
              <a:rPr sz="4000"/>
            </a:br>
            <a:r>
              <a:rPr b="1" lang="es-ES" sz="3600" spc="-1" strike="noStrike">
                <a:solidFill>
                  <a:srgbClr val="ffffcc"/>
                </a:solidFill>
                <a:latin typeface="Tahoma"/>
              </a:rPr>
              <a:t>Facultad de Derech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659640" y="5589720"/>
            <a:ext cx="2232000" cy="6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948360" y="5734080"/>
            <a:ext cx="1944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659640" y="5805360"/>
            <a:ext cx="27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398480" y="2590920"/>
            <a:ext cx="4423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Arial"/>
              </a:rPr>
              <a:t>Módulo 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Arial"/>
              </a:rPr>
              <a:t>La Mediación Famili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066320" y="1294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Designación del mediador</a:t>
            </a:r>
            <a:r>
              <a:rPr b="0" lang="es-MX" sz="2400" spc="-1" strike="noStrike">
                <a:solidFill>
                  <a:srgbClr val="ffff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De común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acuerdo par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Si no hay acuerdo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: lo designará el juez mediante un mecanismo aleatorio, de entre quienes figuren en el registro de mediador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Efectos de la designación del mediador</a:t>
            </a:r>
            <a:r>
              <a:rPr b="0" lang="es-MX" sz="2400" spc="-1" strike="noStrike">
                <a:solidFill>
                  <a:srgbClr val="ffff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Se suspende el procedimiento, sin perjuicio de las medidas cautelares que se estimen proceden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066320" y="1219320"/>
            <a:ext cx="7543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Principios que rigen la medi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l mediador se cerciorará de que los participantes se encuentren en igualdad de condiciones para adoptar acuerdos. (Nivel de equivalencia entre las parte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l mediador velará siempre en el curso de la mediación, para que se tome en consideración el interés superior del niño, niña y adolesce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l mediador deberá guardar reserva de todo lo escuchado o visto durante el proceso de medición y estará amparado por el secreto profesi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066320" y="1219320"/>
            <a:ext cx="7543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Mediación propiamente tal</a:t>
            </a:r>
            <a:r>
              <a:rPr b="0" lang="es-MX" sz="2400" spc="-1" strike="noStrike">
                <a:solidFill>
                  <a:srgbClr val="ffff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esignado el mediador, el cita a una sesión inicial de mediación, a todos los adultos involucrados en el conflicto quienes deben concurrir personalmente, sin perjuicio de la comparecencia de sus abogad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Duración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: sesenta días contados desde que se haya realizado la sesión inicial de mediación, salvo que los participantes de común acuerdo, le amplíen este plazo hasta por sesenta días m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entro de este plazo el mediador podrá celebrar todas las sesiones que él y las partes estimen necesari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cuerdo en la mediación</a:t>
            </a:r>
            <a:r>
              <a:rPr b="0" lang="es-MX" sz="2400" spc="-1" strike="noStrike">
                <a:solidFill>
                  <a:srgbClr val="ffff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ebe levantarse un acta de mediación, la cual debe ser leída a los participantes, y  debe ser firmada por ellos y por el mediador, quedando una copia en poder de cada una de la par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l acta debe ser remitida por el mediador al tribunal, para su aprobación en todo aquello que no sea contrario a derech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probada por el juez tendrá valor de </a:t>
            </a: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sentencia ejecutoria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066320" y="1125000"/>
            <a:ext cx="754380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Desacuerdo en la mediació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e levanta un acta en que se deja constancia del término de la mediación sin agregar otros anteceden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Cuando se entiende frustrada la mediación</a:t>
            </a:r>
            <a:r>
              <a:rPr b="0" lang="es-MX" sz="2400" spc="-1" strike="noStrike">
                <a:solidFill>
                  <a:srgbClr val="ffff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Si alguno de los participantes citado por dos veces, no concurriere a la sesión inicial, ni justifica su ausenci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Si habiendo concurrido a las sesiones manifiesta su voluntad de no perseverar en la med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En cualquier momento en que el mediador adquiera la convicción de que no se alcanzará acuerd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	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692280"/>
            <a:ext cx="754380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Requisitos para ser mediado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oseer un título profesional idóneo de institución de educación superior del Estado o reconocida por el Estado, determinada en el reglament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No haber sido condenado u objeto de formalización, en su cas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or delito que merezca pena aflictiv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or delitos del artículo 361 a 375 del Código Penal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Ni por actos de violencia intrafamiliar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Disponer de un lugar adecuado para desarrollarla en la comuna de asiento del tribunal (Art. 110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l reglamento podrá considerar requisitos complementarios de especialización en mediación familiar.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066680" y="1981080"/>
            <a:ext cx="681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El registro de mediadores ante el Ministerio de Justic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Art. 11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Eliminación del registro y san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rt. 11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5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es-MX" sz="3200" spc="-1" strike="noStrike">
                <a:solidFill>
                  <a:srgbClr val="ffff00"/>
                </a:solidFill>
                <a:latin typeface="Tahoma"/>
              </a:rPr>
              <a:t>Financiamiento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ahoma"/>
              </a:rPr>
              <a:t>Sistema privado de financiamiento: (art. 113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Lo costean las part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Valores no pueden exceder aranceles del Ministerio de Justici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ahoma"/>
              </a:rPr>
              <a:t>Sistema Público de financiamiento: (Art. 113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Requisitos: contar con informe favorable de las Corporaciones de Asistencia Judicial u otras instituciones públicas o privadas que presten asesoría jurídica gratuit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67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ahoma"/>
              </a:rPr>
              <a:t>La Mediación Familiar</a:t>
            </a:r>
            <a:r>
              <a:rPr b="1" lang="es-MX" sz="3200" spc="-1" strike="noStrike">
                <a:solidFill>
                  <a:srgbClr val="ffff00"/>
                </a:solidFill>
                <a:latin typeface="Tahoma"/>
              </a:rPr>
              <a:t>.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899640" y="2057400"/>
            <a:ext cx="77043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Tahoma"/>
              </a:rPr>
              <a:t>Contexto: Principio de colaboración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“Durante el procedimiento y en la resolución del conflicto, se buscarán alternativas orientadas a mitigar la confrontación entre las partes, privilegiando las soluciones acordadas por ella” </a:t>
            </a:r>
            <a:r>
              <a:rPr b="1" lang="es-MX" sz="2000" spc="-1" strike="noStrike">
                <a:solidFill>
                  <a:srgbClr val="ffff00"/>
                </a:solidFill>
                <a:latin typeface="Tahoma"/>
              </a:rPr>
              <a:t>Artículo 14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Concepto: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Sistema de resolución de conflictos en el que un tercero imparcial, sin poder decisorio, llamado mediador, ayudará a las partes a buscar por sí mismas, una solución al conflicto y sus efectos, mediante acuerd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Reglamentación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Art. 103 a 114 Ley de Tribunales de Famil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7068960" y="640080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066320" y="106668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Arial"/>
              </a:rPr>
              <a:t>Procedenci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Arial"/>
              </a:rPr>
              <a:t>Regla general: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Todas las materias de competencia de los tribunales de familia, pueden derivarse a medi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Arial"/>
              </a:rPr>
              <a:t>Excepciones: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Cuestiones relativas al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- Estado civil de las personas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- La declaración de interdicción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- Las causas sobre maltratos de meno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- y los procedimientos regulados en la ley de 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meno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066320" y="762120"/>
            <a:ext cx="7543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Mediación restringida en procedimientos de violencia intrafamiliar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- Artículo 104 inciso 2°:</a:t>
            </a:r>
            <a:r>
              <a:rPr b="0" lang="es-MX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a mediación procede sólo en los términos de los artículos 96 y 97 de la Ley 19.96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or lo tanto, la mediación sólo procede si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Concurren los supuestos que hacen procedente la suspensión condicional de la dictación de la sentenc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Hay acuerdo entre las partes, en los términos del  inciso primero del artículo 96. (Acuerdos de reparación y obligaciones patrimoniale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066320" y="106668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Objeto de la mediación en violencia intrafamili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l único fin es determinar las obligaciones especificas y determinadas de las relaciones de familia y aquellas de carácter reparatorio a satisfacción de la víctima, para poder suspender condicionalmente la dictación de la sentenci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066320" y="11430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Tahoma"/>
              </a:rPr>
              <a:t>Oportunidad procesal</a:t>
            </a:r>
            <a:r>
              <a:rPr b="0" lang="es-MX" sz="2000" spc="-1" strike="noStrike">
                <a:solidFill>
                  <a:srgbClr val="ffff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Tahoma"/>
              </a:rPr>
              <a:t>Antes de iniciarse la acción judicial</a:t>
            </a:r>
            <a:r>
              <a:rPr b="0" lang="es-MX" sz="2000" spc="-1" strike="noStrike">
                <a:solidFill>
                  <a:srgbClr val="ffff00"/>
                </a:solidFill>
                <a:latin typeface="Tahoma"/>
              </a:rPr>
              <a:t>: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Este acuerdo de mediación debe ser informado al juez de familia, para su aprobación en lo que se ajuste a derech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Tahoma"/>
              </a:rPr>
              <a:t>Al interponerse la acción judicial susceptible de mediación</a:t>
            </a:r>
            <a:r>
              <a:rPr b="0" lang="es-MX" sz="2000" spc="-1" strike="noStrike">
                <a:solidFill>
                  <a:srgbClr val="ffff00"/>
                </a:solidFill>
                <a:latin typeface="Tahoma"/>
              </a:rPr>
              <a:t>: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El juez ordenará que un funcionario calificado instruya al actor sobre la alternativa de concurrir a esta mediación. Si el actor acepta, el tribunal notificará a la  persona respecto de la cual se dedujo la acción, para que concurra a manifestar su voluntad de aceptar la mediación, o de rechazarla, dentro de los diez días siguient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Durante el procedimiento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y hasta cinco días antes de la celebración de la audiencia del juicio, el juez puede disponer la mediación a solicitud de ambas parte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e hecho, el juez la promoverá en la audiencia preparatoria (artículo 61 N°4) y el consejo técnico podrá asesorar al juez sobre su pertinencia (artículo 5 letra 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rtículo 5 letra 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l consejo técnico en particular tendrá las siguientes funcion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) Evaluar la pertinencia de derivar a mediación o aconsejar conciliación entre las partes, y sugerir los términos en que esta última pudiere llevarse a cab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rtículo 61 número 4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n la audiencia preparatoria se procederá 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4) Promover,  a iniciativa del tribunal o a petición de parte, la sujeción del conflicto a la mediación familiar a que se refiere el Título V, suspendiéndose el procedimiento judicial en caso de que se dé lugar a ést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ala17</cp:lastModifiedBy>
  <dcterms:modified xsi:type="dcterms:W3CDTF">2005-12-07T18:17:00Z</dcterms:modified>
  <cp:revision>71</cp:revision>
  <dc:subject/>
  <dc:title>MECESUP PROJECT</dc:title>
</cp:coreProperties>
</file>