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696-BF73-4E6E-AFFB-DE2F78BD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9F7-E9A8-45C5-8769-D648601E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586-1938-4284-AE3D-85DE8F29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D976-0A21-4DC5-83F1-FC46B795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F762-0057-4D31-B4AD-34039523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8E45-FEAB-4738-BDEC-1D25BA16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9564-2B45-4E5A-A3BF-F8B2E2DF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9BB-084A-4806-8B6F-E7EE874D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9302-A872-4542-92F1-31364F6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409-B51D-4465-94CF-3DE1FFF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4171-8735-4AF1-B471-CBC9BA48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FA0-5552-4614-9479-EB069A6B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F2C2-ED7F-4975-8E61-478B2DC5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3EB3-A51B-4BB0-91AC-0E2EEB3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8E68-744D-43F4-B043-CF04DA8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2F8C-041D-4D1D-BFC6-2DABD1DB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C84F-CF3C-4834-A955-15278F12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732-B30F-4522-8D11-FA4F089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ED4-9A77-49A2-AC59-BA2E357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A04E-3DF4-4A55-A743-8E43608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35F-B5B8-44D6-818E-561B1FD2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47B-60E7-4268-9AB3-0DBE09F8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3C9-A138-43F5-9241-0A557257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378-B44E-4204-8837-8828A939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904B-EFCD-4730-9434-D5541BF1903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17F-87F3-4A46-9E38-B14A8B69FD6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Tahoma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80536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98480" y="2590920"/>
            <a:ext cx="442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Módulo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Arial"/>
              </a:rPr>
              <a:t>La Mediación Famili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acuerdo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i no hay acuerd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lo designará el juez mediante un mecanismo aleatorio, de entre quienes figuren en el registro de medi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fectos de la designación del mediador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e suspende el procedimiento, sin perjuicio de las medidas cautelares que se estimen pro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Principios que rigen l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se cerciorará de que los participantes se encuentren en igualdad de condiciones para adoptar acuerdos. (Nivel de equivalencia entre las part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velará siempre en el curso de la mediación, para que se tome en consideración el interés superior del niño, niña y adolesc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mediador deberá guardar reserva de todo lo escuchado o visto durante el proceso de medición y estará amparado por el secreto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propiamente tal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signado el mediador, el cita a una sesión inicial de mediación, a todos los adultos involucrados en el conflicto quienes deben concurrir personalmente, sin perjuicio de la comparecencia de sus abog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uració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 sesenta días contados desde que se haya realizado la sesión inicial de mediación, salvo que los participantes de común acuerdo, le amplíen este plazo hasta por sesenta días 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tro de este plazo el mediador podrá celebrar todas las sesiones que él y las partes estimen necesari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en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be levantarse un acta de mediación, la cual debe ser leída a los participantes, y  debe ser firmada por ellos y por el mediador, quedando una copia en poder de cada una de la par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acta debe ser remitida por el mediador al tribunal, para su aprobación en todo aquello que no sea contrario a derec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probada por el juez tendrá valor de 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sentencia ejecutori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esacuerdo en la medi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levanta un acta en que se deja constancia del término de la mediación sin agregar otros anteced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Cuando se entiende frustrada la mediación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alguno de los participantes citado por dos veces, no concurriere a la sesión inicial, ni justifica su aus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Si habiendo concurrido a las sesiones manifiesta su voluntad de no perseverar en la med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En cualquier momento en que el mediador adquiera la convicción de que no se alcanzará acuer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quisitos para ser mediad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eer un título profesional idóneo de institución de educación superior del Estado o reconocida por el Estado, determinada en el regla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haber sido condenado u objeto de formalización, en su cas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 que merezca pena aflictiv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r delitos del artículo 361 a 375 del Código Pe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 por actos de violencia intrafamilia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sponer de un lugar adecuado para desarrollarla en la comuna de asiento del tribunal (Art. 11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reglamento podrá considerar requisitos complementarios de especialización en mediación familiar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l registro de mediadores ante el Ministerio de Justi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rt. 1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liminación del registro y san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rt. 1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5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Financiamiento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rivad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o costean las par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Valores no pueden exceder aranceles del Ministerio de Justi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Sistema Público de financiamiento: (Art. 11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quisitos: contar con informe favorable de las Corporaciones de Asistencia Judicial u otras instituciones públicas o privadas que presten asesoría jurídica gratui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6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ahoma"/>
              </a:rPr>
              <a:t>La Mediación Familia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99640" y="2057400"/>
            <a:ext cx="7704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texto: Principio de colaboración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Durante el procedimiento y en la resolución del conflicto, se buscarán alternativas orientadas a mitigar la confrontación entre las partes, privilegiando las soluciones acordadas por ella”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rtículo 1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Concepto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istema de resolución de conflictos en el que un tercero imparcial, sin poder decisorio, llamado mediador, ayudará a las partes a buscar por sí mismas, una solución al conflicto y sus efectos, mediante acuer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glamentación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Art. 103 a 114 Ley de Tribunales de Fami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7068960" y="64008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Proced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Regla gener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Todas las materias de competencia de los tribunales de familia, pueden derivarse a medi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Excepciones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Cuestiones relativas 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Estado civil de las persona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 declaración de interdicció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Las causas sobre maltratos de 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y los procedimientos regulados en la ley de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n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Mediación restringida en procedimientos de violencia intrafamili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- Artículo 104 inciso 2°:</a:t>
            </a: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a mediación procede sólo en los términos de los artículos 96 y 97 de la Ley 19.96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lo tanto, la mediación sólo procede 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Concurren los supuestos que hacen procedente la suspensión condicional de la dictación de la sen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Hay acuerdo entre las partes, en los términos del  inciso primero del artículo 96. (Acuerdos de reparación y obligaciones patrimonia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Objeto de la mediación en violencia intrafamili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único fin es determinar las obligaciones especificas y determinadas de las relaciones de familia y aquellas de carácter reparatorio a satisfacción de la víctima, para poder suspender condicionalmente la dictación de la sente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portunidad proces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ntes de iniciarse la acción judicial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te acuerdo de mediación debe ser informado al juez de familia, para su aprobación en lo que se ajuste a derec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l interponerse la acción judicial susceptible de mediación</a:t>
            </a:r>
            <a:r>
              <a:rPr b="0" lang="es-MX" sz="2000" spc="-1" strike="noStrike">
                <a:solidFill>
                  <a:srgbClr val="ffff00"/>
                </a:solidFill>
                <a:latin typeface="Tahoma"/>
              </a:rPr>
              <a:t>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 El juez ordenará que un funcionario calificado instruya al actor sobre la alternativa de concurrir a esta mediación. Si el actor acepta, el tribunal notificará a la  persona respecto de la cual se dedujo la acción, para que concurra a manifestar su voluntad de aceptar la mediación, o de rechazarla, dentro de los diez días sigui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Durante el procedimient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y hasta cinco días antes de la celebración de la audiencia del juicio, el juez puede disponer la mediación a solicitud de ambas par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hecho, el juez la promoverá en la audiencia preparatoria (artículo 61 N°4) y el consejo técnico podrá asesorar al juez sobre su pertinencia (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5 letra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onsejo técnico en particular tendrá las siguientes fun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) Evaluar la pertinencia de derivar a mediación o aconsejar conciliación entre las partes, y sugerir los términos en que esta última pudiere llevarse a ca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rtículo 61 número 4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audiencia preparatoria se procederá 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4) Promover,  a iniciativa del tribunal o a petición de parte, la sujeción del conflicto a la mediación familiar a que se refiere el Título V, suspendiéndose el procedimiento judicial en caso de que se dé lugar a é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la17</cp:lastModifiedBy>
  <dcterms:modified xsi:type="dcterms:W3CDTF">2005-12-07T18:17:00Z</dcterms:modified>
  <cp:revision>71</cp:revision>
  <dc:subject/>
  <dc:title>MECESUP PROJECT</dc:title>
</cp:coreProperties>
</file>