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20322-41D2-4BAB-AD04-4EE4E240C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EB5C3-8F58-48C8-8B78-0E0B1A03E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7B3E8-42F6-46E0-98E6-4C72E8A48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0E730-51C8-417B-9E74-28EB06CF3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B5EC9-50EB-44C6-B920-81A8E96CC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57967-6FF5-47E9-81C8-EE427DFF3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F1E67-E86A-451F-9BDD-35D1D36ED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721F2-DE6B-4CE4-972A-3DBE0E7FB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D7A76-7844-4404-A5CF-71300C7EE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5A201-DA68-4C6D-9AD7-EC83D55DD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75471-D767-42F0-AE39-A8A1A510A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F2776-6A6F-4519-92B3-0668FD3F2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86B7C-69A5-4B9B-8E52-24A24A1B9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B606A-BAE5-42AA-885C-5E23C600C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80311-01AC-4E35-8BE4-FB2EBA9E2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0A6EF-BD7A-4A75-8154-DE10B8588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39B68-B29D-4008-8AAE-2DAE37245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67054-28E8-43DF-AA5B-13C37D47B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9FA11-27B1-4788-891C-32A92AA20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1D435-3430-46BA-9371-312A56AE6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1D1C5-B9E5-4208-A90C-BC238C0ED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EFB6B-91A6-42DB-90D9-6FD0E5D32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E0100-CD68-4F61-B7EA-6AD982E63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B3183-D309-4AC5-A29B-952D60B25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97330-FD7C-4F1D-9831-E10EE1EFF251}" type="slidenum">
              <a:rPr b="0" lang="es-E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1F1E0-D2A7-4121-A062-AD9EC7504A5C}" type="slidenum">
              <a:rPr b="0" lang="es-E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39600" y="0"/>
            <a:ext cx="787320" cy="177336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900000" y="1844640"/>
            <a:ext cx="5832720" cy="504036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268360" y="260280"/>
            <a:ext cx="56167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cc"/>
                </a:solidFill>
                <a:latin typeface="Arial"/>
              </a:rPr>
              <a:t>Universidad de Chile</a:t>
            </a:r>
            <a:br>
              <a:rPr sz="4000"/>
            </a:br>
            <a:r>
              <a:rPr b="1" lang="es-ES" sz="3600" spc="-1" strike="noStrike">
                <a:solidFill>
                  <a:srgbClr val="ffffcc"/>
                </a:solidFill>
                <a:latin typeface="Tahoma"/>
              </a:rPr>
              <a:t>Facultad de Derech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659640" y="5589720"/>
            <a:ext cx="2232000" cy="6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948360" y="5734080"/>
            <a:ext cx="1944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659640" y="5805360"/>
            <a:ext cx="273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398480" y="2590920"/>
            <a:ext cx="4423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Arial"/>
              </a:rPr>
              <a:t>Módulo 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Arial"/>
              </a:rPr>
              <a:t>La Mediación Familia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1066320" y="129492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ahoma"/>
              </a:rPr>
              <a:t>Designación del mediador</a:t>
            </a:r>
            <a:r>
              <a:rPr b="0" lang="es-MX" sz="2400" spc="-1" strike="noStrike">
                <a:solidFill>
                  <a:srgbClr val="ffff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ahoma"/>
              </a:rPr>
              <a:t>De común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 acuerdo part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ahoma"/>
              </a:rPr>
              <a:t>Si no hay acuerdo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: lo designará el juez mediante un mecanismo aleatorio, de entre quienes figuren en el registro de mediador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ahoma"/>
              </a:rPr>
              <a:t>Efectos de la designación del mediador</a:t>
            </a:r>
            <a:r>
              <a:rPr b="0" lang="es-MX" sz="2400" spc="-1" strike="noStrike">
                <a:solidFill>
                  <a:srgbClr val="ffff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Se suspende el procedimiento, sin perjuicio de las medidas cautelares que se estimen procedent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39600" y="0"/>
            <a:ext cx="787320" cy="17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1066320" y="1219320"/>
            <a:ext cx="7543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just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ahoma"/>
              </a:rPr>
              <a:t>Principios que rigen la mediació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 algn="just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El mediador se cerciorará de que los participantes se encuentren en igualdad de condiciones para adoptar acuerdos. (Nivel de equivalencia entre las partes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 algn="just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El mediador velará siempre en el curso de la mediación, para que se tome en consideración el interés superior del niño, niña y adolescent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 algn="just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El mediador deberá guardar reserva de todo lo escuchado o visto durante el proceso de medición y estará amparado por el secreto profesion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9600" y="0"/>
            <a:ext cx="787320" cy="17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1066320" y="1219320"/>
            <a:ext cx="7543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ahoma"/>
              </a:rPr>
              <a:t>Mediación propiamente tal</a:t>
            </a:r>
            <a:r>
              <a:rPr b="0" lang="es-MX" sz="2400" spc="-1" strike="noStrike">
                <a:solidFill>
                  <a:srgbClr val="ffff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Designado el mediador, el cita a una sesión inicial de mediación, a todos los adultos involucrados en el conflicto quienes deben concurrir personalmente, sin perjuicio de la comparecencia de sus abogado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ahoma"/>
              </a:rPr>
              <a:t>Duración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: sesenta días contados desde que se haya realizado la sesión inicial de mediación, salvo que los participantes de común acuerdo, le amplíen este plazo hasta por sesenta días ma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Dentro de este plazo el mediador podrá celebrar todas las sesiones que él y las partes estimen necesaria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39600" y="0"/>
            <a:ext cx="787320" cy="17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ahoma"/>
              </a:rPr>
              <a:t>Acuerdo en la mediación</a:t>
            </a:r>
            <a:r>
              <a:rPr b="0" lang="es-MX" sz="2400" spc="-1" strike="noStrike">
                <a:solidFill>
                  <a:srgbClr val="ffff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Debe levantarse un acta de mediación, la cual debe ser leída a los participantes, y  debe ser firmada por ellos y por el mediador, quedando una copia en poder de cada una de la part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El acta debe ser remitida por el mediador al tribunal, para su aprobación en todo aquello que no sea contrario a derech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Aprobada por el juez tendrá valor de </a:t>
            </a:r>
            <a:r>
              <a:rPr b="1" lang="es-MX" sz="2400" spc="-1" strike="noStrike">
                <a:solidFill>
                  <a:srgbClr val="ffffff"/>
                </a:solidFill>
                <a:latin typeface="Tahoma"/>
              </a:rPr>
              <a:t>sentencia ejecutoriad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9600" y="0"/>
            <a:ext cx="787320" cy="17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1066320" y="1125000"/>
            <a:ext cx="7543800" cy="49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MX" sz="2400" spc="-1" strike="noStrike">
                <a:solidFill>
                  <a:srgbClr val="ffff00"/>
                </a:solidFill>
                <a:latin typeface="Tahoma"/>
              </a:rPr>
              <a:t>Desacuerdo en la mediación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Se levanta un acta en que se deja constancia del término de la mediación sin agregar otros antecedent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es-MX" sz="2400" spc="-1" strike="noStrike">
                <a:solidFill>
                  <a:srgbClr val="ffff00"/>
                </a:solidFill>
                <a:latin typeface="Tahoma"/>
              </a:rPr>
              <a:t>Cuando se entiende frustrada la mediación</a:t>
            </a:r>
            <a:r>
              <a:rPr b="0" lang="es-MX" sz="2400" spc="-1" strike="noStrike">
                <a:solidFill>
                  <a:srgbClr val="ffff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Si alguno de los participantes citado por dos veces, no concurriere a la sesión inicial, ni justifica su ausenci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Si habiendo concurrido a las sesiones manifiesta su voluntad de no perseverar en la medicació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En cualquier momento en que el mediador adquiera la convicción de que no se alcanzará acuerdo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39600" y="0"/>
            <a:ext cx="787320" cy="17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	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066320" y="692280"/>
            <a:ext cx="7543800" cy="54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ahoma"/>
              </a:rPr>
              <a:t>Requisitos para ser mediador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Poseer un título profesional idóneo de institución de educación superior del Estado o reconocida por el Estado, determinada en el reglament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No haber sido condenado u objeto de formalización, en su caso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Por delito que merezca pena aflictiv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Por delitos del artículo 361 a 375 del Código Penal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Ni por actos de violencia intrafamiliar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Disponer de un lugar adecuado para desarrollarla en la comuna de asiento del tribunal (Art. 110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El reglamento podrá considerar requisitos complementarios de especialización en mediación familiar.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39600" y="0"/>
            <a:ext cx="787320" cy="17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1066680" y="1981080"/>
            <a:ext cx="6818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Arial"/>
              </a:rPr>
              <a:t>El registro de mediadores ante el Ministerio de Justici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Art. 11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Eliminación del registro y sancion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Art. 11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5564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1" lang="es-MX" sz="3200" spc="-1" strike="noStrike">
                <a:solidFill>
                  <a:srgbClr val="ffff00"/>
                </a:solidFill>
                <a:latin typeface="Tahoma"/>
              </a:rPr>
              <a:t>Financiamiento 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Tahoma"/>
              </a:rPr>
              <a:t>Sistema privado de financiamiento: (art. 113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Lo costean las part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Valores no pueden exceder aranceles del Ministerio de Justicia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Tahoma"/>
              </a:rPr>
              <a:t>Sistema Público de financiamiento: (Art. 113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Requisitos: contar con informe favorable de las Corporaciones de Asistencia Judicial u otras instituciones públicas o privadas que presten asesoría jurídica gratuita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39600" y="0"/>
            <a:ext cx="787320" cy="17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2640" y="533160"/>
            <a:ext cx="7677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ahoma"/>
              </a:rPr>
              <a:t>La Mediación Familiar</a:t>
            </a:r>
            <a:r>
              <a:rPr b="1" lang="es-MX" sz="3200" spc="-1" strike="noStrike">
                <a:solidFill>
                  <a:srgbClr val="ffff00"/>
                </a:solidFill>
                <a:latin typeface="Tahoma"/>
              </a:rPr>
              <a:t>.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899640" y="2057400"/>
            <a:ext cx="77043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00"/>
                </a:solidFill>
                <a:latin typeface="Tahoma"/>
              </a:rPr>
              <a:t>Contexto: Principio de colaboración 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“Durante el procedimiento y en la resolución del conflicto, se buscarán alternativas orientadas a mitigar la confrontación entre las partes, privilegiando las soluciones acordadas por ella” </a:t>
            </a:r>
            <a:r>
              <a:rPr b="1" lang="es-MX" sz="2000" spc="-1" strike="noStrike">
                <a:solidFill>
                  <a:srgbClr val="ffff00"/>
                </a:solidFill>
                <a:latin typeface="Tahoma"/>
              </a:rPr>
              <a:t>Artículo 14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00"/>
                </a:solidFill>
                <a:latin typeface="Arial"/>
              </a:rPr>
              <a:t>Concepto: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 Sistema de resolución de conflictos en el que un tercero imparcial, sin poder decisorio, llamado mediador, ayudará a las partes a buscar por sí mismas, una solución al conflicto y sus efectos, mediante acuerdo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00"/>
                </a:solidFill>
                <a:latin typeface="Arial"/>
              </a:rPr>
              <a:t>Reglamentación</a:t>
            </a: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 Art. 103 a 114 Ley de Tribunales de Famili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7068960" y="6400800"/>
            <a:ext cx="3048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0"/>
            <a:ext cx="9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39600" y="0"/>
            <a:ext cx="787320" cy="1773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" dur="5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1066320" y="1066680"/>
            <a:ext cx="7543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Arial"/>
              </a:rPr>
              <a:t>Procedencia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Arial"/>
              </a:rPr>
              <a:t>Regla general: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 Todas las materias de competencia de los tribunales de familia, pueden derivarse a mediació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Arial"/>
              </a:rPr>
              <a:t>Excepciones: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 Cuestiones relativas al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- Estado civil de las personas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- La declaración de interdicción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- Las causas sobre maltratos de menor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- y los procedimientos regulados en la ley de 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menor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39600" y="0"/>
            <a:ext cx="787320" cy="17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1066320" y="762120"/>
            <a:ext cx="7543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ahoma"/>
              </a:rPr>
              <a:t>Mediación restringida en procedimientos de violencia intrafamiliar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ahoma"/>
              </a:rPr>
              <a:t>- Artículo 104 inciso 2°:</a:t>
            </a:r>
            <a:r>
              <a:rPr b="0" lang="es-MX" sz="2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La mediación procede sólo en los términos de los artículos 96 y 97 de la Ley 19.968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Por lo tanto, la mediación sólo procede si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Concurren los supuestos que hacen procedente la suspensión condicional de la dictación de la sentenci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Hay acuerdo entre las partes, en los términos del  inciso primero del artículo 96. (Acuerdos de reparación y obligaciones patrimoniales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9600" y="0"/>
            <a:ext cx="787320" cy="17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1066320" y="1066680"/>
            <a:ext cx="7543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ahoma"/>
              </a:rPr>
              <a:t>Objeto de la mediación en violencia intrafamilia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El único fin es determinar las obligaciones especificas y determinadas de las relaciones de familia y aquellas de carácter reparatorio a satisfacción de la víctima, para poder suspender condicionalmente la dictación de la sentenci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9600" y="0"/>
            <a:ext cx="787320" cy="17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1066320" y="1143000"/>
            <a:ext cx="7543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00"/>
                </a:solidFill>
                <a:latin typeface="Tahoma"/>
              </a:rPr>
              <a:t>Oportunidad procesal</a:t>
            </a:r>
            <a:r>
              <a:rPr b="0" lang="es-MX" sz="2000" spc="-1" strike="noStrike">
                <a:solidFill>
                  <a:srgbClr val="ffff00"/>
                </a:solidFill>
                <a:latin typeface="Tahoma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00"/>
                </a:solidFill>
                <a:latin typeface="Tahoma"/>
              </a:rPr>
              <a:t>Antes de iniciarse la acción judicial</a:t>
            </a:r>
            <a:r>
              <a:rPr b="0" lang="es-MX" sz="2000" spc="-1" strike="noStrike">
                <a:solidFill>
                  <a:srgbClr val="ffff00"/>
                </a:solidFill>
                <a:latin typeface="Tahoma"/>
              </a:rPr>
              <a:t>: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 Este acuerdo de mediación debe ser informado al juez de familia, para su aprobación en lo que se ajuste a derech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00"/>
                </a:solidFill>
                <a:latin typeface="Tahoma"/>
              </a:rPr>
              <a:t>Al interponerse la acción judicial susceptible de mediación</a:t>
            </a:r>
            <a:r>
              <a:rPr b="0" lang="es-MX" sz="2000" spc="-1" strike="noStrike">
                <a:solidFill>
                  <a:srgbClr val="ffff00"/>
                </a:solidFill>
                <a:latin typeface="Tahoma"/>
              </a:rPr>
              <a:t>: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  El juez ordenará que un funcionario calificado instruya al actor sobre la alternativa de concurrir a esta mediación. Si el actor acepta, el tribunal notificará a la  persona respecto de la cual se dedujo la acción, para que concurra a manifestar su voluntad de aceptar la mediación, o de rechazarla, dentro de los diez días siguient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9600" y="0"/>
            <a:ext cx="787320" cy="17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 algn="just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ahoma"/>
              </a:rPr>
              <a:t>Durante el procedimiento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 y hasta cinco días antes de la celebración de la audiencia del juicio, el juez puede disponer la mediación a solicitud de ambas partes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De hecho, el juez la promoverá en la audiencia preparatoria (artículo 61 N°4) y el consejo técnico podrá asesorar al juez sobre su pertinencia (artículo 5 letra c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9600" y="0"/>
            <a:ext cx="787320" cy="17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ahoma"/>
              </a:rPr>
              <a:t>Artículo 5 letra c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El consejo técnico en particular tendrá las siguientes funcione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c) Evaluar la pertinencia de derivar a mediación o aconsejar conciliación entre las partes, y sugerir los términos en que esta última pudiere llevarse a cab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39600" y="0"/>
            <a:ext cx="787320" cy="17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ahoma"/>
              </a:rPr>
              <a:t>Artículo 61 número 4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En la audiencia preparatoria se procederá a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4) Promover,  a iniciativa del tribunal o a petición de parte, la sujeción del conflicto a la mediación familiar a que se refiere el Título V, suspendiéndose el procedimiento judicial en caso de que se dé lugar a ést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39600" y="0"/>
            <a:ext cx="787320" cy="17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ala17</cp:lastModifiedBy>
  <dcterms:modified xsi:type="dcterms:W3CDTF">2005-12-07T18:17:00Z</dcterms:modified>
  <cp:revision>71</cp:revision>
  <dc:subject/>
  <dc:title>MECESUP PROJECT</dc:title>
</cp:coreProperties>
</file>