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3D9-83F4-4324-9A21-FB1922A7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4A7-CDCF-430F-B4F8-057DAB0D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401-56BF-4547-B24C-8513793E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6FD-091B-4931-B3E1-679381DB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CF40-A7BF-46CF-BB00-F4C65859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B616-6BDF-4609-9866-7CDFB041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3196-164E-4D7E-B633-22B96F9A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E916-61D6-4C7C-907C-73CF3710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52D6-ECEE-4A9F-883F-4BF72B5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802D-A2C1-4689-A392-5E520F93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87C3-4731-406C-ACE8-634A2D38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B4D-37BB-4E41-9B1A-AF80E85B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B870-F50D-4967-81EB-0328964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ACB-E943-49D8-8B04-C3C62AF5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CD74-A159-4B44-A47E-B02B0CF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22BA-7B05-4F1A-B219-4AF973AF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BA38-245A-4E9C-9412-2590DBFE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710-C108-4B48-8AC7-282CAA15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3FC-59E7-4D07-997F-4D11F6C6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679-B18D-44CB-A98C-3397F2B8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565-F532-48B8-8560-6BF27B00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7F3-534C-4FE7-8794-D7A5255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AA6-FA85-4460-9F4B-2E4D1B7F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D86-21E8-4233-8DDE-99992D9E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377E-69E6-4757-9178-04511606E00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D7AE-7646-454E-9C99-BE487E79D5F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Tahoma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80536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98480" y="2590920"/>
            <a:ext cx="442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Módulo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La Mediación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comú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acuerdo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i no hay acuerd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lo designará el juez mediante un mecanismo aleatorio, de entre quienes figuren en el registro de mediad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Efectos de la 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e suspende el procedimiento, sin perjuicio de las medidas cautelares que se estimen pro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Principios que rigen l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se cerciorará de que los participantes se encuentren en igualdad de condiciones para adoptar acuerdos. (Nivel de equivalencia entre las part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velará siempre en el curso de la mediación, para que se tome en consideración el interés superior del niño, niña y adolesc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deberá guardar reserva de todo lo escuchado o visto durante el proceso de medición y estará amparado por el secreto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propiamente tal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signado el mediador, el cita a una sesión inicial de mediación, a todos los adultos involucrados en el conflicto quienes deben concurrir personalmente, sin perjuicio de la comparecencia de sus abo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ur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sesenta días contados desde que se haya realizado la sesión inicial de mediación, salvo que los participantes de común acuerdo, le amplíen este plazo hasta por sesenta días 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tro de este plazo el mediador podrá celebrar todas las sesiones que él y las partes estimen necesari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en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be levantarse un acta de mediación, la cual debe ser leída a los participantes, y  debe ser firmada por ellos y por el mediador, quedando una copia en poder de cada una de la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acta debe ser remitida por el mediador al tribunal, para su aprobación en todo aquello que no sea contrario a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probada por el juez tendrá valor de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entencia ejecutori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acuerdo en la medi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evanta un acta en que se deja constancia del término de la mediación sin agregar otros ante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Cuando se entiende frustrada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alguno de los participantes citado por dos veces, no concurriere a la sesión inicial, ni justifica su aus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habiendo concurrido a las sesiones manifiesta su voluntad de no perseverar en la med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n cualquier momento en que el mediador adquiera la convicción de que no se alcanzará acuer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Requisitos para ser medi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eer un título profesional idóneo de institución de educación superior del Estado o reconocida por el Estado, determinada en el regla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haber sido condenado u objeto de formalización, en su cas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 que merezca pena afli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s del artículo 361 a 375 del Código Pe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i por actos de violencia intrafamili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sponer de un lugar adecuado para desarrollarla en la comuna de asiento del tribunal (Art. 11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reglamento podrá considerar requisitos complementarios de especialización en mediación familiar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l registro de mediadores ante el Ministerio de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. 1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liminación del registro y san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. 1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Financiamiento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rivad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o costean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alores no pueden exceder aranceles del Ministerio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úblic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quisitos: contar con informe favorable de las Corporaciones de Asistencia Judicial u otras instituciones públicas o privadas que presten asesoría jurídica gratui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67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La Mediación Familiar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2057400"/>
            <a:ext cx="770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Contexto: Principio de colaboración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Durante el procedimiento y en la resolución del conflicto, se buscarán alternativas orientadas a mitigar la confrontación entre las partes, privilegiando las soluciones acordadas por ella”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rtículo 1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Concepto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istema de resolución de conflictos en el que un tercero imparcial, sin poder decisorio, llamado mediador, ayudará a las partes a buscar por sí mismas, una solución al conflicto y sus efectos, mediante acuer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glamentación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Art. 103 a 114 Ley de Tribunales de Fami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068960" y="6400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Proced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Regla gener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odas las materias de competencia de los tribunales de familia, pueden derivarse 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xcepciones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Cuestiones relativas 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Estado civil de las persona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 declaración de interdicció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s causas sobre maltratos de 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y los procedimientos regulados en la ley de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restringida en procedimientos de violencia intrafamili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- Artículo 104 inciso 2°: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mediación procede sólo en los términos de los artículos 96 y 97 de la Ley 19.9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lo tanto, la mediación sólo procede 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curren los supuestos que hacen procedente la suspensión condicional de la dictación de la sen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Hay acuerdo entre las partes, en los términos del  inciso primero del artículo 96. (Acuerdos de reparación y obligaciones patrimonia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Objeto de la mediación en violencia intra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único fin es determinar las obligaciones especificas y determinadas de las relaciones de familia y aquellas de carácter reparatorio a satisfacción de la víctima, para poder suspender condicionalmente la dictación de la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Oportunidad proces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ntes de iniciarse la acción judici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Este acuerdo de mediación debe ser informado al juez de familia, para su aprobación en lo que se ajuste a derec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l interponerse la acción judicial susceptible de mediación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El juez ordenará que un funcionario calificado instruya al actor sobre la alternativa de concurrir a esta mediación. Si el actor acepta, el tribunal notificará a la  persona respecto de la cual se dedujo la acción, para que concurra a manifestar su voluntad de aceptar la mediación, o de rechazarla, dentro de los diez días sigui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urante el procedimient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y hasta cinco días antes de la celebración de la audiencia del juicio, el juez puede disponer la mediación a solicitud de ambas part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hecho, el juez la promoverá en la audiencia preparatoria (artículo 61 N°4) y el consejo técnico podrá asesorar al juez sobre su pertinencia (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onsejo técnico en particular tendrá las siguientes 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) Evaluar la pertinencia de derivar a mediación o aconsejar conciliación entre las partes, y sugerir los términos en que esta última pudiere llevarse a ca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61 número 4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audiencia preparatoria se procederá 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4) Promover,  a iniciativa del tribunal o a petición de parte, la sujeción del conflicto a la mediación familiar a que se refiere el Título V, suspendiéndose el procedimiento judicial en caso de que se dé lugar a é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7T18:17:00Z</dcterms:modified>
  <cp:revision>71</cp:revision>
  <dc:subject/>
  <dc:title>MECESUP PROJECT</dc:title>
</cp:coreProperties>
</file>