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A39-4858-419F-BD15-06E170C1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214E-74AE-4C04-A71A-54BD2582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A8B-FC82-46EF-B291-3AB67F16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59C7-770D-4257-BCC7-7F3391D9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2774-FE01-463C-B521-B5BFCB37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51B6-2653-4984-8DA9-180CAB85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A81E-F6D5-402F-ABA6-A69906B5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1117-901E-47F1-907B-F1451E66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E5B9-52D4-45DA-95E5-9130DEE0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5046-5336-46C1-92B6-221A5F62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9916-59B9-472E-9E8C-C4D6B8A6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DDF-1318-45DF-9292-F7E1CC90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878C-4426-4F14-B7A8-03720DFE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932F-098F-47A3-BDB5-B008D666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F9F0-677F-49CB-9F66-2C875767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9A92-6DFD-4A81-8E76-877E09A4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26E8-610B-426F-81B6-12D8E474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8EB-080E-48F7-9147-576CE9E9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472E-71B5-4D6C-9E10-DDCE7984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27F-418C-4D2B-8924-D2F7A662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9704-E27E-47FE-A4E0-6FADACA9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3AF8-7623-4447-83A0-E52D75F4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BE87-0ADC-4F47-AC35-94628F71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40B-5AD2-43AD-9FE2-2FA32E61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7433-ABCF-411D-A920-3EDA7A73619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D6AC-680B-4067-BB32-BE011F51FDA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5832720" cy="5040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68360" y="260280"/>
            <a:ext cx="561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ffffcc"/>
                </a:solidFill>
                <a:latin typeface="Tahoma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5589720"/>
            <a:ext cx="2232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5734080"/>
            <a:ext cx="194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5805360"/>
            <a:ext cx="27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98480" y="2590920"/>
            <a:ext cx="442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Arial"/>
              </a:rPr>
              <a:t>Módulo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Arial"/>
              </a:rPr>
              <a:t>La Mediación Famili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Designación del mediador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De comú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acuerdo par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Si no hay acuerd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lo designará el juez mediante un mecanismo aleatorio, de entre quienes figuren en el registro de mediad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Efectos de la designación del mediador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Se suspende el procedimiento, sin perjuicio de las medidas cautelares que se estimen proced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Principios que rigen la medi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mediador se cerciorará de que los participantes se encuentren en igualdad de condiciones para adoptar acuerdos. (Nivel de equivalencia entre las part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mediador velará siempre en el curso de la mediación, para que se tome en consideración el interés superior del niño, niña y adolesc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mediador deberá guardar reserva de todo lo escuchado o visto durante el proceso de medición y estará amparado por el secreto profe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Mediación propiamente tal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signado el mediador, el cita a una sesión inicial de mediación, a todos los adultos involucrados en el conflicto quienes deben concurrir personalmente, sin perjuicio de la comparecencia de sus abog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Duració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sesenta días contados desde que se haya realizado la sesión inicial de mediación, salvo que los participantes de común acuerdo, le amplíen este plazo hasta por sesenta días 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ntro de este plazo el mediador podrá celebrar todas las sesiones que él y las partes estimen necesari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en la mediación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be levantarse un acta de mediación, la cual debe ser leída a los participantes, y  debe ser firmada por ellos y por el mediador, quedando una copia en poder de cada una de la par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acta debe ser remitida por el mediador al tribunal, para su aprobación en todo aquello que no sea contrario a derech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probada por el juez tendrá valor de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sentencia ejecutori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1125000"/>
            <a:ext cx="75438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Desacuerdo en la medi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levanta un acta en que se deja constancia del término de la mediación sin agregar otros anteced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Cuando se entiende frustrada la mediación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Si alguno de los participantes citado por dos veces, no concurriere a la sesión inicial, ni justifica su ause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Si habiendo concurrido a las sesiones manifiesta su voluntad de no perseverar en la med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n cualquier momento en que el mediador adquiera la convicción de que no se alcanzará acuer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Requisitos para ser mediad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seer un título profesional idóneo de institución de educación superior del Estado o reconocida por el Estado, determinada en el reglam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o haber sido condenado u objeto de formalización, en su cas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r delito que merezca pena aflictiv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r delitos del artículo 361 a 375 del Código Pe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i por actos de violencia intrafamilia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isponer de un lugar adecuado para desarrollarla en la comuna de asiento del tribunal (Art. 11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reglamento podrá considerar requisitos complementarios de especialización en mediación familiar.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l registro de mediadores ante el Ministerio de Justi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rt. 1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liminación del registro y san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t. 1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Financiamiento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Sistema privado de financiamiento: (art. 11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o costean las par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Valores no pueden exceder aranceles del Ministerio de Justic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Sistema Público de financiamiento: (Art. 11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equisitos: contar con informe favorable de las Corporaciones de Asistencia Judicial u otras instituciones públicas o privadas que presten asesoría jurídica gratui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67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La Mediación Familiar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99640" y="2057400"/>
            <a:ext cx="7704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Contexto: Principio de colaboración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“Durante el procedimiento y en la resolución del conflicto, se buscarán alternativas orientadas a mitigar la confrontación entre las partes, privilegiando las soluciones acordadas por ella”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Artículo 14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Concepto: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Sistema de resolución de conflictos en el que un tercero imparcial, sin poder decisorio, llamado mediador, ayudará a las partes a buscar por sí mismas, una solución al conflicto y sus efectos, mediante acuerd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Reglamentación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Art. 103 a 114 Ley de Tribunales de Fami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068960" y="6400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Procedenc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Regla general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Todas las materias de competencia de los tribunales de familia, pueden derivarse a medi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Excepciones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Cuestiones relativas 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Estado civil de las persona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La declaración de interdicción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Las causas sobre maltratos de men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y los procedimientos regulados en la ley de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n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Mediación restringida en procedimientos de violencia intrafamilia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- Artículo 104 inciso 2°: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mediación procede sólo en los términos de los artículos 96 y 97 de la Ley 19.96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lo tanto, la mediación sólo procede 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ncurren los supuestos que hacen procedente la suspensión condicional de la dictación de la sent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Hay acuerdo entre las partes, en los términos del  inciso primero del artículo 96. (Acuerdos de reparación y obligaciones patrimonia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Objeto de la mediación en violencia intrafamili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único fin es determinar las obligaciones especificas y determinadas de las relaciones de familia y aquellas de carácter reparatorio a satisfacción de la víctima, para poder suspender condicionalmente la dictación de la sente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Oportunidad procesal</a:t>
            </a:r>
            <a:r>
              <a:rPr b="0" lang="es-MX" sz="20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Antes de iniciarse la acción judicial</a:t>
            </a:r>
            <a:r>
              <a:rPr b="0" lang="es-MX" sz="20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Este acuerdo de mediación debe ser informado al juez de familia, para su aprobación en lo que se ajuste a derech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Al interponerse la acción judicial susceptible de mediación</a:t>
            </a:r>
            <a:r>
              <a:rPr b="0" lang="es-MX" sz="20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El juez ordenará que un funcionario calificado instruya al actor sobre la alternativa de concurrir a esta mediación. Si el actor acepta, el tribunal notificará a la  persona respecto de la cual se dedujo la acción, para que concurra a manifestar su voluntad de aceptar la mediación, o de rechazarla, dentro de los diez días sigui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Durante el procedimient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y hasta cinco días antes de la celebración de la audiencia del juicio, el juez puede disponer la mediación a solicitud de ambas part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 hecho, el juez la promoverá en la audiencia preparatoria (artículo 61 N°4) y el consejo técnico podrá asesorar al juez sobre su pertinencia (artículo 5 letra 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rtículo 5 letra 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consejo técnico en particular tendrá las siguientes func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) Evaluar la pertinencia de derivar a mediación o aconsejar conciliación entre las partes, y sugerir los términos en que esta última pudiere llevarse a cab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rtículo 61 número 4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la audiencia preparatoria se procederá 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4) Promover,  a iniciativa del tribunal o a petición de parte, la sujeción del conflicto a la mediación familiar a que se refiere el Título V, suspendiéndose el procedimiento judicial en caso de que se dé lugar a és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la17</cp:lastModifiedBy>
  <dcterms:modified xsi:type="dcterms:W3CDTF">2005-12-07T18:17:00Z</dcterms:modified>
  <cp:revision>71</cp:revision>
  <dc:subject/>
  <dc:title>MECESUP PROJECT</dc:title>
</cp:coreProperties>
</file>