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B951-5F08-4A70-B02B-71503F225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C2C9-D87D-4E55-8F4A-8851FEBCE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E45F-9C40-4713-8CFF-EB98D51FE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4E23-420B-42A9-92CC-5D1F42F1E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CB6FD-B5FA-45CF-A869-770CA573B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7C9B2-C9C8-479E-A82B-521B4DFF2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AB146-3E68-4DAB-9EBB-7DD748FAC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5F024-CA14-429B-A46A-936CFA5A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E4672-93FE-4B82-8B20-F941F4945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86E65-16C5-4DF4-81C9-12FFBF020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11E56-15CC-49DA-AC70-2F504C89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C6D9-7981-4140-A5D3-B3C25A7CD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B5CCB-7461-483B-9B7E-16F566F8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3D7CD-52CB-4D55-84C6-15E6D69F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AA7DE-EEA1-4B6C-8415-852CFEF3D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8BCBB-18B5-41E9-A7FC-EBC2667A3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0B67C-40EC-4BEE-93AF-213B1A764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03A6-D508-4C87-BECD-287F3DE4A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1DE1-A66B-49A3-9320-D2BBAEF7C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66BB-EA0F-46B2-8BA4-E85000287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C656-D2CC-4B1D-8329-003154FA0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E802-7BE4-4EED-BC4A-4D8DEF05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15D8-C36D-44A8-8B47-EB0F66E2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9070-7F4B-4B14-8B36-9C92E780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6022F-E6FB-49AD-ADAA-F08BBCE864F8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54D31-7AD2-4A8B-8503-E7B15170A140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5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228600"/>
            <a:ext cx="6400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66ff"/>
                </a:solidFill>
                <a:latin typeface="Times New Roman"/>
              </a:rPr>
              <a:t>Universidad de Chile</a:t>
            </a:r>
            <a:br>
              <a:rPr sz="4000"/>
            </a:br>
            <a:r>
              <a:rPr b="1" lang="es-ES" sz="3600" spc="-1" strike="noStrike">
                <a:solidFill>
                  <a:srgbClr val="0066ff"/>
                </a:solidFill>
                <a:latin typeface="Times New Roman"/>
              </a:rPr>
              <a:t>Facultad de Derech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77120" y="4648320"/>
            <a:ext cx="25146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ff"/>
                </a:solidFill>
                <a:latin typeface="Arial"/>
              </a:rPr>
              <a:t>María Nora Gonzále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ff"/>
                </a:solidFill>
                <a:latin typeface="Arial"/>
              </a:rPr>
              <a:t>Ruth Israel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ff"/>
                </a:solidFill>
                <a:latin typeface="Arial"/>
              </a:rPr>
              <a:t>Paulina Velos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ff"/>
                </a:solidFill>
                <a:latin typeface="Arial"/>
              </a:rPr>
              <a:t>René Núñe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ff"/>
                </a:solidFill>
                <a:latin typeface="Arial"/>
              </a:rPr>
              <a:t>Jorge Ugar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248520" y="1981080"/>
            <a:ext cx="2819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00"/>
                </a:solidFill>
                <a:latin typeface="Monotype Corsiva"/>
              </a:rPr>
              <a:t>Módulo 7: Medidas de protecció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344600" y="1870200"/>
            <a:ext cx="4903920" cy="4911120"/>
            <a:chOff x="1344600" y="1870200"/>
            <a:chExt cx="4903920" cy="491112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1352520" y="1873080"/>
              <a:ext cx="4869000" cy="48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1344600" y="6684840"/>
              <a:ext cx="4900680" cy="964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347840" y="1870200"/>
              <a:ext cx="4900680" cy="964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44600" y="1873080"/>
              <a:ext cx="74880" cy="48891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161040" y="1873080"/>
              <a:ext cx="74880" cy="48891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AUDIENCIA PREPARATORIA:</a:t>
            </a: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5640" y="1628280"/>
            <a:ext cx="76820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</a:rPr>
              <a:t>Iniciado el procedimiento, el juez fijará una audiencia para dentro de los cinco días siguientes, a la que citará al niño, niña o adolescente, a sus padres, a las personas a cuyo cuidado esté y a todos quienes puedan aportar antecedentes para una acertada resolución del asunto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AUDIENCIA PREPARATORIA:</a:t>
            </a: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15640" y="1628280"/>
            <a:ext cx="75596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)-. LABOR DEL JUEZ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ebe indagar sobra la situación que ha motivado el inicio del proceso, la forma en que afecta al menor y sobre la identidad de las personas que se encuentran involucradas en dicha afectación de los derechos del meno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demás, debe informar a las partes respecto de las etapas del procedimiento, sus derechos y debere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AUDIENCIA PREPARATORIA:</a:t>
            </a: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15640" y="1628280"/>
            <a:ext cx="75596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b)-. RESOLUCION AL TERMINO DE LA AUDIENCI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uego de expuestos los antecedentes, cumplida su función y escuchadas las partes, el Juez debe dictar una resolución que individualice a las partes, determine el objeto del procedimiento, indique las pruebas que deban rendirse y fije la audiencia del juicio para dentro de los diez días siguient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AUDIENCIA PREPARATORIA:</a:t>
            </a: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15640" y="1628280"/>
            <a:ext cx="75596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) RECEPCION DE PRUEBA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n esta audiencia es posible recibirse la prueba que pueda rendirse en dicho moment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s-ES" sz="32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eaeaea"/>
                </a:solidFill>
                <a:latin typeface="Tahoma"/>
              </a:rPr>
              <a:t>AUDIENCIA DE JUICIO. </a:t>
            </a: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El objeto de esta audiencia será recibir las pruebas y decidir el asunto sometido a la decisión del juez. Podrán objetarse los informes periciales que se hayan evacuado, pudiendo el juez hacerse asesorar por el Consejo Técnico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s-ES" sz="36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s-ES" sz="3600" spc="-1" strike="noStrike">
                <a:solidFill>
                  <a:srgbClr val="eaeaea"/>
                </a:solidFill>
                <a:latin typeface="Tahoma"/>
              </a:rPr>
              <a:t>AUDIENCIA DE JUICIO. </a:t>
            </a: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ONCILIAC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i bien es cierto que la ley no establece un trámite de conciliación de manera formal como en el procedimiento ordinario, la ley indica que antes del pronunciamiento de la sentencia, </a:t>
            </a:r>
            <a:r>
              <a:rPr b="1" lang="es-ES" sz="2800" spc="-1" strike="noStrike">
                <a:solidFill>
                  <a:srgbClr val="ffffcc"/>
                </a:solidFill>
                <a:latin typeface="Tahoma"/>
              </a:rPr>
              <a:t>el juez procurará que las partes acuerden una forma de resolución de la situación que afecte al menor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. En caso que ello no ocurra, deberá dictar sentencia en el asun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s-ES" sz="36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s-ES" sz="3600" spc="-1" strike="noStrike">
                <a:solidFill>
                  <a:srgbClr val="eaeaea"/>
                </a:solidFill>
                <a:latin typeface="Tahoma"/>
              </a:rPr>
              <a:t>AUDIENCIA DE JUICIO. </a:t>
            </a: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-. SENTENCI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sta se pronuncia oralmente una vez terminada la audiencia que corresponda según sea el caso. Esta sentencia deberá fundamentar la necesidad y conveniencia de la medida adoptada, indicará los objetivos que se persiguen y determinará el tiempo de duración.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DEBER DEL JUEZ.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dicar a las partes la naturaleza y objetivos de la medida adoptada, sus fundamentos y dur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eaeaea"/>
                </a:solidFill>
                <a:latin typeface="Tahoma"/>
              </a:rPr>
              <a:t>MEDIDAS DE PROTECCION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8204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04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500" spc="-1" strike="noStrike">
                <a:solidFill>
                  <a:srgbClr val="ffffff"/>
                </a:solidFill>
                <a:latin typeface="Tahoma"/>
              </a:rPr>
              <a:t>A-. El artículo 71 de la ley establece las “medidas cautelares especiales”. Estas medidas pueden decretarse </a:t>
            </a:r>
            <a:r>
              <a:rPr b="1" i="1" lang="es-ES" sz="2500" spc="-1" strike="noStrike">
                <a:solidFill>
                  <a:srgbClr val="ffffff"/>
                </a:solidFill>
                <a:latin typeface="Tahoma"/>
              </a:rPr>
              <a:t>en cualquier momento del procedimiento y aún antes de su inicio.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804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5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s-ES" sz="2500" spc="-1" strike="noStrike">
                <a:solidFill>
                  <a:srgbClr val="ffffff"/>
                </a:solidFill>
                <a:latin typeface="Tahoma"/>
              </a:rPr>
              <a:t>Pueden ser decretadas de oficio o a petición de  autoridad pública o de cualquier persona, cuando sea necesario para proteger los derechos del niño, niña o adolescente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804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500" spc="-1" strike="noStrike">
                <a:solidFill>
                  <a:srgbClr val="ffffff"/>
                </a:solidFill>
                <a:latin typeface="Tahoma"/>
              </a:rPr>
              <a:t>En términos amplios estas medidas consisten en: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s-ES" sz="3600" spc="-1" strike="noStrike">
                <a:solidFill>
                  <a:srgbClr val="eaeaea"/>
                </a:solidFill>
                <a:latin typeface="Tahoma"/>
              </a:rPr>
              <a:t>Las medidas son las siguientes :</a:t>
            </a:r>
            <a:br>
              <a:rPr sz="60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320" y="914400"/>
            <a:ext cx="76820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ntrega inmediata a los padres o a los que tengan legalmente su cuid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nfiarlo al cuidado de una persona o familia en caso de 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Tahoma"/>
              </a:rPr>
              <a:t>urgencia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(sus consanguíneos o los que tengan el cuidado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Ingreso a 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un programa de familias de acogida o centro residencial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por el tiempo que sea estrictamente indispensab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Disponer la concurrencia de niños, niñas o adolescentes, sus padres, o las personas que los tengan bajo su cuidado, a 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programas o acciones de apoyo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reparación u orientación, para enfrentar y superar las situaciones de crisis en que pudieren encontrarse, e impartir las instrucciones pertinente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uspender el derecho de una o más personas determinad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hibir o limitar la presencia del  ofensor  al hogar comú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hibir o limitar la concurrencia del ofensor al lugar de estudio o trabajo de los niñ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ternación del niño a un establecimiento hospitalario que sea una amenaza de vida de su salu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hibición de salir del país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unca puede ingresar el niño o niña a un establecimiento carcelario de adult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eaeaea"/>
                </a:solidFill>
                <a:latin typeface="Tahoma"/>
              </a:rPr>
              <a:t>Medida específica: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42560" y="1557000"/>
            <a:ext cx="76820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artículo 74 permite la separación de niño, niña o adolescente de sus padres o de las personas que lo tengan a su cuidado,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sólo cuando sea estrictamente necesario para salvaguardar sus derechos, y no exista otra más  adecuad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juez deberá tomar tal decisión mediante una resolución fundada y deberá preferir a sus parientes consanguíneos o a otras personas con las que el menor tenga una relación de confianza y, en su defecto, preferirá un establecimiento de protec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914400" y="1522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Estadísticas página web SENAME 200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5800" y="928800"/>
          <a:ext cx="3533760" cy="22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28800"/>
                    <a:ext cx="3533760" cy="22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685800" y="3962520"/>
          <a:ext cx="3429000" cy="2209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3962520"/>
                    <a:ext cx="342900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4952880" y="3962520"/>
          <a:ext cx="3457800" cy="23572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52880" y="3962520"/>
                    <a:ext cx="3457800" cy="23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4952880" y="966960"/>
          <a:ext cx="3429000" cy="24620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52880" y="966960"/>
                    <a:ext cx="3429000" cy="24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3657600" y="2057400"/>
            <a:ext cx="0" cy="17524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05320" y="4648320"/>
            <a:ext cx="251460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400800" y="3429000"/>
            <a:ext cx="0" cy="1295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106668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99"/>
                </a:solidFill>
                <a:latin typeface="Tahoma"/>
              </a:rPr>
              <a:t>Universo = 66.575 niñ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43000" y="411480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99"/>
                </a:solidFill>
                <a:latin typeface="Tahoma"/>
              </a:rPr>
              <a:t>15%  = 4.15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81480" y="41148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99"/>
                </a:solidFill>
                <a:latin typeface="Tahoma"/>
              </a:rPr>
              <a:t>82% = 4.4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Tahoma"/>
              </a:rPr>
              <a:t>ARTTICULO 8º DE LA LTF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42560" y="1916280"/>
            <a:ext cx="7682040" cy="30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Otorga competencia a los Tribunales de Familia para conocer de las medidas de protección establecidas en los artículos 29 y 30 de la Ley de Menores, como asimismo tratándose de las autorizaciones para la salida de niños, niñas o adolescentes del país, en los casos que corresponda de acuerdo a la le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Tahoma"/>
              </a:rPr>
              <a:t>ARTICULO 29 DE LA LEY DE MENORES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42920" y="1915920"/>
            <a:ext cx="78501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</a:rPr>
              <a:t>i) Este artículo se refiere a las medidas que pueden ser adoptadas en aquellos casos en que el menor ha sido declarado sin discernimiento en relación a un hecho punible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500" spc="-1" strike="noStrike">
                <a:solidFill>
                  <a:srgbClr val="ffffff"/>
                </a:solidFill>
                <a:latin typeface="Arial"/>
              </a:rPr>
              <a:t>Tales medidas son: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</a:rPr>
              <a:t>Devolver al menor a sus padres, guardadores o personas a cuyo cargo se encontrare, previa amonestación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</a:rPr>
              <a:t>Someterlo al régimen de libertad vigilada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</a:rPr>
              <a:t>Confiarlo a establecimientos especiales de tránsito o rehabilitación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</a:rPr>
              <a:t>Confiarlo al cuidado de alguna persona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42920" y="404640"/>
            <a:ext cx="785016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i) A su vez el artículo 30 de  la Ley de Menores establece, de un modo genérico, las siguientes medid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ncurrencia  a programas o acciones de apoyo, reparación u orientación, tanto para los menores como para sus padres o personas que los tengan bajo su cuid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isponer el ingreso del menor en un Centro de Tránsito o, hogar substituto o un establecimiento residencial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ii) Autorizaciones para la salida del paí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v) Causas relativas al maltrato de niños, niñas o adolescentes de acuerdo al artículo 62  de la Ley 16.61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Tahoma"/>
              </a:rPr>
              <a:t>IV-. DISPOSICIONES VARIAS RELATIVAS A ADOPCION DE MEDIDAS DE PROTECCION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) FUNDAMENTO DE LAS MEDIDAS DE PROTECCIÓ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egún lo dispone la ley, TODA medida cautelar deberá fundamentar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upone en consecuencia que el Juez debe actuar con conocimiento de causa al momento de decidir sobre una de estas medid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ffffff"/>
                </a:solidFill>
                <a:uFillTx/>
                <a:latin typeface="Tahoma"/>
              </a:rPr>
              <a:t>PLAZO DE DURACION DE LAS MEDIDAS CAUTELAR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4400" spc="-1" strike="noStrike">
                <a:solidFill>
                  <a:srgbClr val="ffffff"/>
                </a:solidFill>
                <a:latin typeface="Tahoma"/>
              </a:rPr>
              <a:t>En ningún caso podrán ser superiores a los 90 días. No cabría renovación de la misma de acuerdo a los términos de la ley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s-ES" sz="4400" spc="-1" strike="noStrike" u="sng">
                <a:solidFill>
                  <a:srgbClr val="eaeaea"/>
                </a:solidFill>
                <a:uFillTx/>
                <a:latin typeface="Tahoma"/>
              </a:rPr>
              <a:t>AUXILIO DE LA FUERZA.</a:t>
            </a: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6560" y="2492280"/>
            <a:ext cx="75438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La ley permite el uso del auxilio de Carabineros para el cumplimiento de las medidas decretadas</a:t>
            </a: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s-ES" sz="3200" spc="-1" strike="noStrike" u="sng">
                <a:solidFill>
                  <a:srgbClr val="eaeaea"/>
                </a:solidFill>
                <a:uFillTx/>
                <a:latin typeface="Tahoma"/>
              </a:rPr>
              <a:t>OBLIGACION DE INFORMAR ACERCA DE LAS MEDIDAS DECRETADAS.</a:t>
            </a:r>
            <a:r>
              <a:rPr b="1" lang="es-ES" sz="32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26920" y="2491920"/>
            <a:ext cx="763272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s personas a cargo del establecimiento o programa en que se cumpla la medida adoptada, tendrá la obligación de informar acerca del desarrollo de la misma, y de la situación en que se encuentra el niño, niña o adolescente como asimismo de los avances alcanzados. Los informes deben evacuarse cada tres meses, pudiendo el Juez fijar un lapso mayor pero no superior a seis mes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s-ES" sz="4400" spc="-1" strike="noStrike" u="sng">
                <a:solidFill>
                  <a:srgbClr val="eaeaea"/>
                </a:solidFill>
                <a:uFillTx/>
                <a:latin typeface="Tahoma"/>
              </a:rPr>
              <a:t>SUSTITUCION DE MEDIDA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920" y="2852640"/>
            <a:ext cx="763272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Frente al incumplimiento de las medidas decretadas por impedirlas ciertas personas, puede decretarse la sustitución de las mismas a fin de alcanzar los objetivos fija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s-ES" sz="4400" spc="-1" strike="noStrike" u="sng">
                <a:solidFill>
                  <a:srgbClr val="eaeaea"/>
                </a:solidFill>
                <a:uFillTx/>
                <a:latin typeface="Tahoma"/>
              </a:rPr>
              <a:t>APREMIO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6560" y="2852280"/>
            <a:ext cx="77058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n caso que las medidas decretadas por el Tribunal no fuere posible cumplirlas por impedirlo determinadas personas, puede disponer la aplicación de apremios para su cumplimiento forzad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eaeaea"/>
                </a:solidFill>
                <a:latin typeface="Tahoma"/>
              </a:rPr>
              <a:t>OBLIGACIONES DE LOS JUEC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26920" y="1844640"/>
            <a:ext cx="76327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esa sobre los magistrados de familia, la obligación de visitar los establecimientos residenciales existentes en su territorio jurisdiccional en los que se cumplan las medidas de protec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stas visitas podrán verificarse en cualquier momento, dentro de periodos que no excedan de seis meses entre una y otr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berán darse todas las facilidades para que los menores presten al Juez libremente su opin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475920"/>
            <a:ext cx="7543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Generalidades del Procedimient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7280" y="1484280"/>
            <a:ext cx="74232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500" spc="-1" strike="noStrike">
                <a:solidFill>
                  <a:srgbClr val="ffffff"/>
                </a:solidFill>
                <a:latin typeface="Tahoma"/>
              </a:rPr>
              <a:t>Este procedimiento especial se rige por sus normas propias y, supletoriamente, por las normas del juicio ordinario ante los Juzgados de Familia, contenidas en el título III de la Ley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500" spc="-1" strike="noStrike">
                <a:solidFill>
                  <a:srgbClr val="ffffff"/>
                </a:solidFill>
                <a:latin typeface="Tahoma"/>
              </a:rPr>
              <a:t>La intervención judicial será siempre necesaria cuando se trate de la adopción de medidas que importe una separación del menor respecto de uno o ambos padres o de quienes lo tengan bajo su cuidado.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27432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eaeaea"/>
                </a:solidFill>
                <a:latin typeface="Tahoma"/>
              </a:rPr>
              <a:t>DERECHO DE AUDIENCIA CON EL JUEZ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6920" y="2491920"/>
            <a:ext cx="763272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os niños, niñas o adolescentes sujetos a una medida de protección judicial, tienen derecho a que el juez los reciba personalmente cuando así lo solicit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eaeaea"/>
                </a:solidFill>
                <a:latin typeface="Arial"/>
              </a:rPr>
              <a:t>SUSPENSION, MODIFICACION Y CESACION DE MEDIDAS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6920" y="2491920"/>
            <a:ext cx="763272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 juez podrá suspender, modificar o dejar sin efecto, la medida adoptada ya sea de oficia o a petición del niño, niña o adolescente o de las personas a cuyo cuidado se encuentre aqué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eaeaea"/>
                </a:solidFill>
                <a:latin typeface="Arial"/>
              </a:rPr>
              <a:t>POTESTAD CAUTELAR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26920" y="2491920"/>
            <a:ext cx="763272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De conformidad con el artículo 22 de la Ley,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que se encuentra en las Reglas Generale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, el Juez se encuentra investido de un poder cautelar amplio, puesto que en cualquier etapa del procedimiento o antes de su inicio, puede decretar las medidas cautelares conservativas o innovativas que estime proceden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475920"/>
            <a:ext cx="7543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Generalidades del Procedimient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03280" y="1341360"/>
            <a:ext cx="74167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os Juzgados de Familia deben intervenir en todos los asuntos en que aparezcan niños, niñas o adolescentes gravemente vulnerados o amenazados en sus derechos.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demás, deben intervenir en todos aquellos casos en que se impute un hecho punible a niños, niñas o adolescentes exentos de responsabilidad pen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 opinión del niño, niña o adolescente será siempre considerada por el Juez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s-ES" sz="3600" spc="-1" strike="noStrike">
                <a:solidFill>
                  <a:srgbClr val="eaeaea"/>
                </a:solidFill>
                <a:latin typeface="Tahoma"/>
              </a:rPr>
              <a:t>Las medidas son las siguientes :</a:t>
            </a:r>
            <a:br>
              <a:rPr sz="60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914400"/>
            <a:ext cx="76820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ntrega inmediata a los padres o a los que tengan legalmente su cuid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nfiarlo al cuidado de una persona o familia en caso de 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Tahoma"/>
              </a:rPr>
              <a:t>urgencia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(sus consanguíneos o los que tengan el cuidado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Ingreso a 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un programa de familias de acogida o centro residencial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por el tiempo que sea estrictamente indispensab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Disponer la concurrencia de niños, niñas o adolescentes, sus padres, o las personas que los tengan bajo su cuidado, a 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programas o acciones de apoyo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reparación u orientación, para enfrentar y superar las situaciones de crisis en que pudieren encontrarse, e impartir las instrucciones pertinente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uspender el derecho de una o más personas determinad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hibir o limitar la presencia del  ofensor  al hogar comú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hibir o limitar la concurrencia del ofensor al lugar de estudio o trabajo de los niñ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ternación del niño a un establecimiento hospitalario que sea una amenaza de vida de su salu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hibición de salir del país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unca puede ingresar el niño o niña a un establecimiento carcelario de adult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ahoma"/>
              </a:rPr>
              <a:t>DESARROLLO DEL PROCEDIMIENTO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A-. INICIO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I.- La normativa permite adoptar medidas incluso antes del inicio del procedimient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o anterior, sólo para fijar una audiencia preparatori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eaeaea"/>
                </a:solidFill>
                <a:latin typeface="Tahoma"/>
              </a:rPr>
              <a:t>II.- El procedimiento judicial propiamente tal puede iniciarse de las siguientes formas:</a:t>
            </a:r>
            <a:br>
              <a:rPr sz="2500"/>
            </a:br>
            <a:endParaRPr b="1" lang="en-US" sz="25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1413000"/>
            <a:ext cx="75376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De oficio por el Juez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A requerimiento del niño, niña o adolescente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A requerimiento de sus padres o de las personas que lo tengan bajo cuidado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A requerimiento de los profesores o del director del establecimiento educacional al que asista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A requerimiento de los profesionales de la salud del establecimiento en que se atienda el menor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A requerimiento del Servicio Nacional de Menor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A requerimiento de cualquier persona que tenga interés en ello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Arial"/>
              </a:rPr>
              <a:t>Acción popular: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320" y="1773000"/>
            <a:ext cx="75438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tendido el interés superior del niño, niña o adolescente, la ley establece una acción popular que puede ser ejercida por 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ualquier persona que tenga interés en ello, en orden a solicitar las medidas de protec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Tahoma"/>
              </a:rPr>
              <a:t>Principio de procedimiento: Desformalización.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267920"/>
            <a:ext cx="768204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e acuerdo al artículo 70°, inciso 2, basta la sola petición de protección para dar por iniciado el procedimiento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n consecuencia, no se requiere de cumplir con formalidades para dar inicio al procedimient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ala17</cp:lastModifiedBy>
  <dcterms:modified xsi:type="dcterms:W3CDTF">2005-12-02T20:13:52Z</dcterms:modified>
  <cp:revision>239</cp:revision>
  <dc:subject/>
  <dc:title>MECESUP PROJECT</dc:title>
</cp:coreProperties>
</file>