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799-8033-4918-9596-368EEA23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6DD-CE31-4CF9-88A3-FEAF5758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8D5-79C3-41D7-A918-60340626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035-3FBB-4EDD-AD0A-ECAB1DE9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EABE-34E6-42A9-89A6-A31FD433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608F-93B6-4945-8CD5-A372781D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FB05-D9BD-42C6-A961-4D55106D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67FC-6EB7-48F3-BD33-24BB6C0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9451-AF65-4896-BC3A-9673D9B3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A156-C1D1-4336-AA61-315BBA4B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4429-EB25-4E00-8640-8C5BCAF6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AA5-06B1-45DB-81D3-24491075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5CE6-BD58-4948-848D-757D99C6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CE85-EE32-457D-BF0B-090A3D1B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40A7-1ED2-49A5-A445-05E976CF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1B9D-3F09-4A03-8A52-B26DF30A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2A4E-A6D9-4D47-9718-C2726F8D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27C-30A6-4925-8B19-323E3F95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B8F-C211-4577-BB7D-F7EFAE8B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C2C-8B34-4FFE-8515-181D4919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B28-ED30-4C45-947F-2CF97380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EEB-1658-4CCF-86D1-1B6C5A3F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AF9-EE86-4F86-8B35-2656105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A3F-1F06-4DC5-8007-9901C84A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29FC-BB6F-44C9-8C78-A064D33BBEF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B10B-B610-44DD-9742-541D45032F6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648320"/>
            <a:ext cx="2514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María Nora Gonzál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uth Isra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Paulina Velo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Jorge Ug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7: Medidas de prote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682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niciado el procedimiento, el juez fijará una audiencia para dentro de los cinco días siguientes, a la que citará al niño, niña o adolescente, a sus padres, a las personas a cuyo cuidado esté y a todos quienes puedan aportar antecedentes para una acertada resolución del asun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)-. LABOR DEL J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be indagar sobra la situación que ha motivado el inicio del proceso, la forma en que afecta al menor y sobre la identidad de las personas que se encuentran involucradas en dicha afectación de los derechos del men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emás, debe informar a las partes respecto de las etapas del procedimiento, sus derechos y debe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)-. RESOLUCION AL TERMINO DE LA AUD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uego de expuestos los antecedentes, cumplida su función y escuchadas las partes, el Juez debe dictar una resolución que individualice a las partes, determine el objeto del procedimiento, indique las pruebas que deban rendirse y fije la audiencia del juicio para dentro de los diez días sigui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) RECEPCION DE PRUEB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a audiencia es posible recibirse la prueba que pueda rendirse en dicho mo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l objeto de esta audiencia será recibir las pruebas y decidir el asunto sometido a la decisión del juez. Podrán objetarse los informes periciales que se hayan evacuado, pudiendo el juez hacerse asesorar por el Consejo Técnic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CILIAC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bien es cierto que la ley no establece un trámite de conciliación de manera formal como en el procedimiento ordinario, la ley indica que antes del pronunciamiento de la sentencia, </a:t>
            </a: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el juez procurará que las partes acuerden una forma de resolución de la situación que afecte al meno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En caso que ello no ocurra, deberá dictar sentencia en el asu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-.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se pronuncia oralmente una vez terminada la audiencia que corresponda según sea el caso. Esta sentencia deberá fundamentar la necesidad y conveniencia de la medida adoptada, indicará los objetivos que se persiguen y determinará el tiempo de duració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BER DEL JUEZ.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dicar a las partes la naturaleza y objetivos de la medida adoptada, sus fundamentos y dur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eaeaea"/>
                </a:solidFill>
                <a:latin typeface="Tahoma"/>
              </a:rPr>
              <a:t>MEDIDAS DE PROTECCION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820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A-. El artículo 71 de la ley establece las “medidas cautelares especiales”. Estas medidas pueden decretarse </a:t>
            </a: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en cualquier momento del procedimiento y aún antes de su inici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Pueden ser decretadas de oficio o a petición de  autoridad pública o de cualquier persona, cuando sea necesario para proteger los derechos del niño, niña o adolescent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n términos amplios estas medidas consisten e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Medida específica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82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artículo 74 permite la separación de niño, niña o adolescente de sus padres o de las personas que lo tengan a su cuidado,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ólo cuando sea estrictamente necesario para salvaguardar sus derechos, y no exista otra más  adecu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juez deberá tomar tal decisión mediante una resolución fundada y deberá preferir a sus parientes consanguíneos o a otras personas con las que el menor tenga una relación de confianza y, en su defecto, preferirá un establecimiento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Estadísticas página web SENAM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928800"/>
          <a:ext cx="3533760" cy="22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28800"/>
                    <a:ext cx="35337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5800" y="3962520"/>
          <a:ext cx="3429000" cy="2209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962520"/>
                    <a:ext cx="3429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952880" y="3962520"/>
          <a:ext cx="3457800" cy="2357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962520"/>
                    <a:ext cx="34578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952880" y="966960"/>
          <a:ext cx="3429000" cy="2462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966960"/>
                    <a:ext cx="342900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657600" y="2057400"/>
            <a:ext cx="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25146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429000"/>
            <a:ext cx="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Universo = 66.575 niñ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15%  = 4.1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11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82% = 4.4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TICULO 8º DE LA LTF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6820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orga competencia a los Tribunales de Familia para conocer de las medidas de protección establecidas en los artículos 29 y 30 de la Ley de Menores, como asimismo tratándose de las autorizaciones para la salida de niños, niñas o adolescentes del país, en los casos que corresponda de acuerdo a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ICULO 29 DE LA LEY DE MENORE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) Este artículo se refiere a las medidas que pueden ser adoptadas en aquellos casos en que el menor ha sido declarado sin discernimiento en relación a un hecho punibl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Tales medidas so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Devolver al menor a sus padres, guardadores o personas a cuyo cargo se encontrare, previa amonest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Someterlo al régimen de libertad vigilad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 establecimientos especiales de tránsito o rehabilitació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l cuidado de alguna person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404640"/>
            <a:ext cx="78501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) A su vez el artículo 30 de  la Ley de Menores establece, de un modo genérico, las siguientes medid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currencia  a programas o acciones de apoyo, reparación u orientación, tanto para los menores como para sus padres o personas que los tengan bajo su cuid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poner el ingreso del menor en un Centro de Tránsito o, hogar substituto o un establecimiento residenci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i) Autorizaciones para la salida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v) Causas relativas al maltrato de niños, niñas o adolescentes de acuerdo al artículo 62  de la Ley 16.6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IV-. DISPOSICIONES VARIAS RELATIVAS A ADOPCION DE MEDIDAS DE PROTECC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FUNDAMENTO DE LAS MEDIDAS DE PROTEC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gún lo dispone la ley, TODA medida cautelar deberá fundamentar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pone en consecuencia que el Juez debe actuar con conocimiento de causa al momento de decidir sobre una de estas medi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ahoma"/>
              </a:rPr>
              <a:t>PLAZO DE DURACION DE LAS MEDIDAS CAUTELA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n ningún caso podrán ser superiores a los 90 días. No cabría renovación de la misma de acuerdo a los términos de la ley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UXILIO DE LA FUERZA.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La ley permite el uso del auxilio de Carabineros para el cumplimiento de las medidas decretadas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 u="sng">
                <a:solidFill>
                  <a:srgbClr val="eaeaea"/>
                </a:solidFill>
                <a:uFillTx/>
                <a:latin typeface="Tahoma"/>
              </a:rPr>
              <a:t>OBLIGACION DE INFORMAR ACERCA DE LAS MEDIDAS DECRETADAS.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personas a cargo del establecimiento o programa en que se cumpla la medida adoptada, tendrá la obligación de informar acerca del desarrollo de la misma, y de la situación en que se encuentra el niño, niña o adolescente como asimismo de los avances alcanzados. Los informes deben evacuarse cada tres meses, pudiendo el Juez fijar un lapso mayor pero no superior a seis me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SUSTITUCION DE MEDID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85264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rente al incumplimiento de las medidas decretadas por impedirlas ciertas personas, puede decretarse la sustitución de las mismas a fin de alcanzar los objetivos fij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PREM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852280"/>
            <a:ext cx="7705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aso que las medidas decretadas por el Tribunal no fuere posible cumplirlas por impedirlo determinadas personas, puede disponer la aplicación de apremios para su cumplimiento forz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OBLIGACIONES DE LOS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sa sobre los magistrados de familia, la obligación de visitar los establecimientos residenciales existentes en su territorio jurisdiccional en los que se cumplan las medidas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s visitas podrán verificarse en cualquier momento, dentro de periodos que no excedan de seis meses entre una y ot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rán darse todas las facilidades para que los menores presten al Juez libremente su opin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42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ste procedimiento especial se rige por sus normas propias y, supletoriamente, por las normas del juicio ordinario ante los Juzgados de Familia, contenidas en el título III de la Ley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La intervención judicial será siempre necesaria cuando se trate de la adopción de medidas que importe una separación del menor respecto de uno o ambos padres o de quienes lo tengan bajo su cuidad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DERECHO DE AUDIENCIA CON EL JUEZ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niños, niñas o adolescentes sujetos a una medida de protección judicial, tienen derecho a que el juez los reciba personalmente cuando así lo solici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SUSPENSION, MODIFICACION Y CESACION DE MEDIDA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juez podrá suspender, modificar o dejar sin efecto, la medida adoptada ya sea de oficia o a petición del niño, niña o adolescente o de las personas a cuyo cuidado se encuentre aqué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OTESTAD CAUTELA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 conformidad con el artículo 22 de la Ley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que se encuentra en las Reglas Gener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el Juez se encuentra investido de un poder cautelar amplio, puesto que en cualquier etapa del procedimiento o antes de su inicio, puede decretar las medidas cautelares conservativas o innovativas que estime proced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741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Juzgados de Familia deben intervenir en todos los asuntos en que aparezcan niños, niñas o adolescentes gravemente vulnerados o amenazados en sus derechos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emás, deben intervenir en todos aquellos casos en que se impute un hecho punible a niños, niñas o adolescentes exentos de responsabilidad pe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opinión del niño, niña o adolescente será siempre considerada por el Jue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DESARROLLO DEL PROCEDIMIENT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-. INIC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.- La normativa permite adoptar medidas incluso antes del inicio del procedimien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anterior, sólo para fijar una audiencia preparator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aeaea"/>
                </a:solidFill>
                <a:latin typeface="Tahoma"/>
              </a:rPr>
              <a:t>II.- El procedimiento judicial propiamente tal puede iniciarse de las siguientes formas:</a:t>
            </a:r>
            <a:br>
              <a:rPr sz="2500"/>
            </a:br>
            <a:endParaRPr b="1" lang="en-US" sz="2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5376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 oficio por el Jue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niño, niña o adolescen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sus padres o de las personas que lo tengan bajo cuidad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ores o del director del establecimiento educacional al que asis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ionales de la salud del establecimiento en que se atienda el meno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Servicio Nacional de Men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cualquier persona que tenga interés en ello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Acción popular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tendido el interés superior del niño, niña o adolescente, la ley establece una acción popular que puede ser ejercida por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ualquier persona que tenga interés en ello, en orden a solicitar las medidas de prot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Principio de procedimiento: Desformalización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267920"/>
            <a:ext cx="76820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acuerdo al artículo 70°, inciso 2, basta la sola petición de protección para dar por iniciado el procedimient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onsecuencia, no se requiere de cumplir con formalidades para dar inicio al proced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2T20:13:52Z</dcterms:modified>
  <cp:revision>239</cp:revision>
  <dc:subject/>
  <dc:title>MECESUP PROJECT</dc:title>
</cp:coreProperties>
</file>