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0E3-32AC-457B-B09B-18253F6E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86C-F454-4BE9-A005-7B2B9FBE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E5E-0C05-46D8-92D0-E5E8266C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537-DDB0-4998-9D00-2E3CAEB8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8CF5-E20C-420A-9010-7DA3A766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07A-342B-401E-8081-FF098798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2930-0B71-45C3-ABFE-3B4D29A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0C5-4310-4C17-BEF7-EEA894BA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438-B7FD-4AD0-93F6-BD1A4D5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C2F7-DBD5-4B97-9A7D-8041E30B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7E6E-7948-47AF-B55E-28F06CD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9B5-66C8-4922-8D94-A1C1EB3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6DC8-F8C9-4DB5-AA9B-460476E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3C9F-85B0-4F12-8C15-047EFDE3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27B1-ABE8-4FBA-87A9-4B071C17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4455-9EC3-4FBB-A5AE-2A1F61E8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B3A0-0A77-4894-9CA3-10C088A3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FC7-839B-49EB-B75A-C5D54C14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939-910D-4646-ADAD-14E19B11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33F-1B47-47B7-8F1D-E34386AD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74A-AEC8-4B43-A57B-CC7FB814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124-5544-48DB-BD2C-9C56C19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E3B-7D57-4EAF-A36C-6C50441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F99-E34C-4020-ABDA-00DB8C8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C79-9D27-4A20-B3A3-275AFB82C07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BDC-4D09-4AB7-9EFA-5E42DC13B04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María Nora Gonzál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uth Isra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Paulina Vel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Jorge Ug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7: Medidas de prot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6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niciado el procedimiento, el juez fijará una audiencia para dentro de los cinco días siguientes, a la que citará al niño, niña o adolescente, a sus padres, a las personas a cuyo cuidado esté y a todos quienes puedan aportar antecedentes para una acertada resolución del asun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)-. LABOR DEL J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e indagar sobra la situación que ha motivado el inicio del proceso, la forma en que afecta al menor y sobre la identidad de las personas que se encuentran involucradas en dicha afectación de los derechos del men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, debe informar a las partes respecto de las etapas del procedimiento, sus derechos y debe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-. RESOLUCION AL TERMINO DE LA AUD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uego de expuestos los antecedentes, cumplida su función y escuchadas las partes, el Juez debe dictar una resolución que individualice a las partes, determine el objeto del procedimiento, indique las pruebas que deban rendirse y fije la audiencia del juicio para dentro de los diez días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) RECEPCION DE PRUEB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audiencia es posible recibirse la prueba que pueda rendirse en dich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 objeto de esta audiencia será recibir las pruebas y decidir el asunto sometido a la decisión del juez. Podrán objetarse los informes periciales que se hayan evacuado, pudiendo el juez hacerse asesorar por el Consejo Técni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ILIAC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bien es cierto que la ley no establece un trámite de conciliación de manera formal como en el procedimiento ordinario, la ley indica que antes del pronunciamiento de la sentencia, </a:t>
            </a: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el juez procurará que las partes acuerden una forma de resolución de la situación que afecte al men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En caso que ello no ocurra, deberá dictar sentencia en el as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-.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se pronuncia oralmente una vez terminada la audiencia que corresponda según sea el caso. Esta sentencia deberá fundamentar la necesidad y conveniencia de la medida adoptada, indicará los objetivos que se persiguen y determinará el tiempo de duració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BER DEL JUEZ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r a las partes la naturaleza y objetivos de la medida adoptada, sus fundamentos y 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eaeaea"/>
                </a:solidFill>
                <a:latin typeface="Tahoma"/>
              </a:rPr>
              <a:t>MEDIDAS DE PROTECCIO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A-. El artículo 71 de la ley establece las “medidas cautelares especiales”. Estas medidas pueden decretarse </a:t>
            </a: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en cualquier momento del procedimiento y aún antes de su inic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Pueden ser decretadas de oficio o a petición de  autoridad pública o de cualquier persona, cuando sea necesario para proteger los derechos del niño, niña o adolescen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n términos amplios estas medidas consisten e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Medida específic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rtículo 74 permite la separación de niño, niña o adolescente de sus padres o de las personas que lo tengan a su cuidado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ólo cuando sea estrictamente necesario para salvaguardar sus derechos, y no exista otra más  adecu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juez deberá tomar tal decisión mediante una resolución fundada y deberá preferir a sus parientes consanguíneos o a otras personas con las que el menor tenga una relación de confianza y, en su defecto, preferirá un establecimiento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stadísticas página web SENAM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928800"/>
          <a:ext cx="353376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8800"/>
                    <a:ext cx="35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962520"/>
          <a:ext cx="3429000" cy="220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429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3962520"/>
          <a:ext cx="3457800" cy="23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578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966960"/>
          <a:ext cx="3429000" cy="2462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966960"/>
                    <a:ext cx="3429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657600" y="2057400"/>
            <a:ext cx="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4290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Universo = 66.575 ni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15%  = 4.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82% = 4.4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TICULO 8º DE LA LTF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6820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tencia a los Tribunales de Familia para conocer de las medidas de protección establecidas en los artículos 29 y 30 de la Ley de Menores, como asimismo tratándose de las autorizaciones para la salida de niños, niñas o adolescentes del país, en los casos que corresponda de acuerdo a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ICULO 29 DE LA LEY DE MENORE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) Este artículo se refiere a las medidas que pueden ser adoptadas en aquellos casos en que el menor ha sido declarado sin discernimiento en relación a un hecho punibl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Tales medidas so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Devolver al menor a sus padres, guardadores o personas a cuyo cargo se encontrare, previa amonest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Someterlo al régimen de libertad vigilad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 establecimientos especiales de tránsito o rehabilitació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l cuidado de alguna person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850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) A su vez el artículo 30 de  la Ley de Menores establece, de un modo genérico, las siguientes medid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urrencia  a programas o acciones de apoyo, reparación u orientación, tanto para los menores como para sus padres o personas que los tengan bajo su cuid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poner el ingreso del menor en un Centro de Tránsito o, hogar substituto o un establecimiento residenci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i) Autorizaciones para la salida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v) Causas relativas al maltrato de niños, niñas o adolescentes de acuerdo al artículo 62  de la Ley 16.6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IV-. DISPOSICIONES VARIAS RELATIVAS A ADOPCION DE MEDIDAS DE PROTECC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FUNDAMENTO DE LAS MEDIDAS DE PROTEC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gún lo dispone la ley, TODA medida cautelar deberá fundamenta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pone en consecuencia que el Juez debe actuar con conocimiento de causa al momento de decidir sobre una de estas medi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ahoma"/>
              </a:rPr>
              <a:t>PLAZO DE DURACION DE LAS MEDIDAS CAUTELA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n ningún caso podrán ser superiores a los 90 días. No cabría renovación de la misma de acuerdo a los términos de la l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UXILIO DE LA FUERZA.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La ley permite el uso del auxilio de Carabineros para el cumplimiento de las medidas decretada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eaeaea"/>
                </a:solidFill>
                <a:uFillTx/>
                <a:latin typeface="Tahoma"/>
              </a:rPr>
              <a:t>OBLIGACION DE INFORMAR ACERCA DE LAS MEDIDAS DECRETADAS.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ersonas a cargo del establecimiento o programa en que se cumpla la medida adoptada, tendrá la obligación de informar acerca del desarrollo de la misma, y de la situación en que se encuentra el niño, niña o adolescente como asimismo de los avances alcanzados. Los informes deben evacuarse cada tres meses, pudiendo el Juez fijar un lapso mayor pero no superior a seis m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SUSTITUCION DE MEDI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852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ente al incumplimiento de las medidas decretadas por impedirlas ciertas personas, puede decretarse la sustitución de las mismas a fin de alcanzar los objetivos fij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PREM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so que las medidas decretadas por el Tribunal no fuere posible cumplirlas por impedirlo determinadas personas, puede disponer la aplicación de apremios para su cumplimiento for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OBLIGACIONES DE LOS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sa sobre los magistrados de familia, la obligación de visitar los establecimientos residenciales existentes en su territorio jurisdiccional en los que se cumplan las medidas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isitas podrán verificarse en cualquier momento, dentro de periodos que no excedan de seis meses entre una y ot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rán darse todas las facilidades para que los menores presten al Juez libremente su opin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42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ste procedimiento especial se rige por sus normas propias y, supletoriamente, por las normas del juicio ordinario ante los Juzgados de Familia, contenidas en el título III de la Ley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La intervención judicial será siempre necesaria cuando se trate de la adopción de medidas que importe una separación del menor respecto de uno o ambos padres o de quienes lo tengan bajo su cuidad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DERECHO DE AUDIENCIA CON EL JUEZ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niños, niñas o adolescentes sujetos a una medida de protección judicial, tienen derecho a que el juez los reciba personalmente cuando así lo solici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SUSPENSION, MODIFICACION Y CESACION DE MEDIDA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juez podrá suspender, modificar o dejar sin efecto, la medida adoptada ya sea de oficia o a petición del niño, niña o adolescente o de las personas a cuyo cuidado se encuentre aqué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OTESTAD CAUTELA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onformidad con el artículo 22 de la Ley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e se encuentra en las Reglas Gene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l Juez se encuentra investido de un poder cautelar amplio, puesto que en cualquier etapa del procedimiento o antes de su inicio, puede decretar las medidas cautelares conservativas o innovativas que estime proce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41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Juzgados de Familia deben intervenir en todos los asuntos en que aparezcan niños, niñas o adolescentes gravemente vulnerados o amenazados en sus derech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más, deben intervenir en todos aquellos casos en que se impute un hecho punible a niños, niñas o adolescentes exentos de responsabilidad pe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opinión del niño, niña o adolescente será siempre considerada por el Ju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DESARROLLO DEL PROCED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-. INI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.- La normativa permite adoptar medidas incluso antes del inicio del procedimi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anterior, sólo para fijar una audiencia preparator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aeaea"/>
                </a:solidFill>
                <a:latin typeface="Tahoma"/>
              </a:rPr>
              <a:t>II.- El procedimiento judicial propiamente tal puede iniciarse de las siguientes formas:</a:t>
            </a:r>
            <a:br>
              <a:rPr sz="2500"/>
            </a:b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537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oficio por el Jue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niño, niña o adolescen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sus padres o de las personas que lo tengan bajo cuidad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ores o del director del establecimiento educacional al que as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ionales de la salud del establecimiento en que se atienda el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Servicio Nacional de Men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cualquier persona que tenga interés en ell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cción popula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endido el interés superior del niño, niña o adolescente, la ley establece una acción popular que puede ser ejercida por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alquier persona que tenga interés en ello, en orden a solicitar las medidas de prot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incipio de procedimiento: Desformalización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7682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acuerdo al artículo 70°, inciso 2, basta la sola petición de protección para dar por iniciado el procedimien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secuencia, no se requiere de cumplir con formalidades para dar inicio al proce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2T20:13:52Z</dcterms:modified>
  <cp:revision>239</cp:revision>
  <dc:subject/>
  <dc:title>MECESUP PROJECT</dc:title>
</cp:coreProperties>
</file>