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AC0FE-4CF9-4BBF-BCFC-D78F940B5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D9F6C-B03B-45CB-9806-5D51DE819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A4241-33A6-4319-AE92-955F32B3A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2A4CB-DFD8-4989-B948-CF1B3E1E5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48500-8FEF-460C-8197-C01879E41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E262C-96D1-4514-B2A2-03A7B4D8D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7E8EC-12F0-4D8D-A2A5-C46F1ABD7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8055B-637F-49A5-99A6-E54358CA4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234EE-49BF-4EF6-B359-88B1F4E94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C9DD0-D399-454A-B7A4-A7FC1F91A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4CFDF-0167-4C85-A759-26610804C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B414F-84A6-455E-9307-9102C8CF7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8E24-0334-45C4-8F1F-2D0574B19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6FDA4-E130-4A2F-A781-E6FB20258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AAA2D-2563-4309-915C-E471D286A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2DB86-F4B3-41D4-89BA-553DD148C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EDDD7-BF8A-483D-8481-9E405E49F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56626-47C7-41A6-84AC-4286275F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21B0-2BEA-437A-A25F-9B9083445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BBE7D-4641-48CC-95B8-5CF88F5DD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5DEE6-E587-4D25-A6CD-769098104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6BE3-8DDA-43A8-9475-13ACD6D79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B93FB-9F70-48C9-9CE5-41E620841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699F0-69C9-478A-A42D-32D0AF1FE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C6FE-DC85-403E-A186-A2C1D56D296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D345-5C8E-45B9-8123-6CFD5269CA2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Rol y Funciones de los Jueces de Familia</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María Nora Gonzál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Paulina Velo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Jorge Ugar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eces de familia conocerán conjuntamente, en un solo proceso, los distintos asuntos que una o ambas partes sometan a su consideración. La sentencia deberá pronunciarse sobre todas las cuestiones debatidas en el proceso.</a:t>
            </a:r>
            <a:endParaRPr b="0" lang="en-US" sz="20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5-11-29T18:56:47Z</dcterms:modified>
  <cp:revision>232</cp:revision>
  <dc:subject/>
  <dc:title>MECESUP PROJECT</dc:title>
</cp:coreProperties>
</file>