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8001-70D4-4F17-ABBF-68B14A644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2373-CBD7-49AB-90DF-C743E5A0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85FEF-350A-4BDD-8D64-02194604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B1CE1-9FAD-4C0C-A433-5AD09DBC5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B591E-D373-4770-8051-6D298B3B3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501F-2A9F-40D7-B4FB-D890F5262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47318-AC5F-4B8E-A58B-AB1574040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1CAC-F36B-420E-A9DF-49089FFB6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FC767-228E-464D-AAA7-D15C71178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B1032-4D1C-4E45-9DA4-715520B14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1701E-501A-4822-B2B6-28C8D6F48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C9C8-3928-47E4-82AD-6E433F50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0DD16-FBCF-4875-97AD-3B0F5CC82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261CD-B3A3-4158-8970-A982C510A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4A8EC-2F95-4C3B-AA03-83064404E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D7DFF-3F4D-4A53-B56F-EDBD7482F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889F9-4239-46CE-9081-4806B353F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2462-3591-45FC-8F2B-637D702B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6B07-2F58-47EA-BDC1-8EDB3781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90BA3-DEF0-4045-87A9-03096E38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BDFE-343F-4F2E-8BFB-3A579C64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49B4-B770-459B-AEE4-9BB2FE35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CF78-7B45-4370-B587-426848CF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6A62-689E-463E-9ADD-EBAED50BD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5A49-08DD-43A6-99E7-6D2D5A04358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157C-1355-4019-95BA-001AD9FF48D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Rol y Funciones de los Jueces de Familia</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eces de familia conocerán conjuntamente, en un solo proceso, los distintos asuntos que una o ambas partes sometan a su consideración. La sentencia deberá pronunciarse sobre todas las cuestiones debatidas en el proceso.</a:t>
            </a:r>
            <a:endParaRPr b="0" lang="en-US" sz="20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11-29T18:56:47Z</dcterms:modified>
  <cp:revision>232</cp:revision>
  <dc:subject/>
  <dc:title>MECESUP PROJECT</dc:title>
</cp:coreProperties>
</file>