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BFDCE-8D30-44A8-9938-22DB188AD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A1EE6-E2BB-4EDE-B412-666BC981C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CC759-44C5-49C7-9F1A-49F24A333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D5614-46A9-41FD-93BE-536B85631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18CFB-A283-4343-A4FB-39C305706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A43E-733A-4F5D-8D55-382D3DCB2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5E541-9B1D-4F24-AD9D-58B7CB731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9A5E3-112F-4A7A-9CC6-AA650ABE2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D90FC-723C-4B0F-A72F-BF3DFEDA9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E1A2D-A421-4075-BE42-2F4456023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D4212-F003-421E-ABA7-1339CC424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EBB9-BB7E-4201-908B-9E8AA880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DAC71-CA68-4E06-93B4-064D755DF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0D0FD-7B3D-421F-A045-4A6D7D001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1454A-8E10-4A2F-9825-8020571EE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F72DD-C4A5-41B0-8FF1-9D2CAA745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A71CF-5EB5-4AE5-B3D9-DCE4B416F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38F3-23DE-47CA-A3EF-8BA3E17A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89455-015A-4A74-B2A6-F95AEB0BD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D735-B5D9-43C0-B1BF-FE6FABFEC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D13DC-25A7-478F-804C-D95EB1E4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E5C8-BF85-42E1-B342-E89AD91D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6228-FA62-4422-8B54-0275106D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962A-A068-454F-AE2F-580C1313D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36DC-0CEE-46B0-BDEE-00BD3BFC7074}"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15C6-596E-4C50-982E-85A536CC4628}"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04560"/>
            <a:ext cx="64771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RECHO DEL MAR</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7"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l trazado de las líneas de base recta no debe apartarse de una manera apreciable de la dirección general de la costa, y las zonas de mar situadas del lado de la tierra de esas líneas han de estar suficientemente vinculadas al dominio terrestre para estar sometidas al régimen de las aguas interiores.</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 .</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uando el método de líneas de base rectas sea aplicable según el párrafo 1, al trazar determinadas líneas de base podrán tenerse en cuenta los intereses económicos propios de la región de que se trate cuya realidad e importancia estén claramente demostradas por un uso prolongad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676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Si bien el Estado ribereño ejerce soberanía territorial en el mar territorial, esta soberanía reconoce dos restricciones:</a:t>
            </a:r>
            <a:endParaRPr b="0" lang="en-US" sz="3200" spc="-1" strike="noStrike">
              <a:solidFill>
                <a:srgbClr val="061c62"/>
              </a:solidFill>
              <a:latin typeface="Times New Roman"/>
            </a:endParaRPr>
          </a:p>
        </p:txBody>
      </p:sp>
      <p:sp>
        <p:nvSpPr>
          <p:cNvPr id="109" name="PlaceHolder 2"/>
          <p:cNvSpPr>
            <a:spLocks noGrp="1"/>
          </p:cNvSpPr>
          <p:nvPr>
            <p:ph/>
          </p:nvPr>
        </p:nvSpPr>
        <p:spPr>
          <a:xfrm>
            <a:off x="228600" y="2285640"/>
            <a:ext cx="7391520" cy="38098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609480">
              <a:spcBef>
                <a:spcPts val="799"/>
              </a:spcBef>
              <a:buClr>
                <a:srgbClr val="5c6d9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Derecho de paso inocente.</a:t>
            </a: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2)  Restricciones al ejercicio de la jurisdicción sobre los buqu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Zona contigua</a:t>
            </a:r>
            <a:br>
              <a:rPr sz="3600"/>
            </a:br>
            <a:r>
              <a:rPr b="0" lang="en-US" sz="3600" spc="-1" strike="noStrike">
                <a:solidFill>
                  <a:srgbClr val="061c62"/>
                </a:solidFill>
                <a:latin typeface="Times New Roman"/>
              </a:rPr>
              <a:t>Artículo 33</a:t>
            </a:r>
            <a:endParaRPr b="0" lang="en-US" sz="3600" spc="-1" strike="noStrike">
              <a:solidFill>
                <a:srgbClr val="061c62"/>
              </a:solidFill>
              <a:latin typeface="Times New Roman"/>
            </a:endParaRPr>
          </a:p>
        </p:txBody>
      </p:sp>
      <p:sp>
        <p:nvSpPr>
          <p:cNvPr id="1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spcBef>
                <a:spcPts val="4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En una zona contigua a su mar territorial, designada con el nombre de zona contigua, el Estado ribereño podrá tomar las medidas de fiscalización necesarias para:</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a) Prevenir las infracciones de sus leyes y reglamentos aduaneros, fiscales, de inmigración o sanitarios que se cometan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b) Sancionar las infracciones de esas leyes y reglamentos cometidas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2.      La zona contigua no podrá extenderse más allá de 24 millas marinas contadas desde las líneas de base a partir de las cuales se mide la anchura del mar territorial.</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Mar territorial y zona contigua en el Código Civil chileno</a:t>
            </a:r>
            <a:endParaRPr b="0" lang="en-US" sz="28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Artículo 593</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El mar adyacente, hasta la distancia de doce millas marinas medidas desde las respectivas líneas de base, es mar territorial y de dominio nacional. Pero para objetos concernientes a la prevención y sanción de las infracciones de sus leyes y reglamentos aduaneros, fiscales, de inmigración o sanitarios, el Estado ejerce jurisdicción sobre un espacio marítimo denominado zona contigua, que se extiende hasta la distancia de veinticuatro millas marinas, medidas de la misma manera.</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Las aguas situadas en el interior de las líneas de base del mar territorial, forman parte de las aguas interiores del Estado.</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4" name="zonas" descr=""/>
          <p:cNvPicPr/>
          <p:nvPr/>
        </p:nvPicPr>
        <p:blipFill>
          <a:blip r:embed="rId1"/>
          <a:stretch/>
        </p:blipFill>
        <p:spPr>
          <a:xfrm>
            <a:off x="457200" y="457200"/>
            <a:ext cx="6858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rtículo 55</a:t>
            </a:r>
            <a:endParaRPr b="0" lang="en-US" sz="4400" spc="-1" strike="noStrike">
              <a:solidFill>
                <a:srgbClr val="061c62"/>
              </a:solidFill>
              <a:latin typeface="Times New Roman"/>
            </a:endParaRPr>
          </a:p>
        </p:txBody>
      </p:sp>
      <p:sp>
        <p:nvSpPr>
          <p:cNvPr id="1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La zona económica exclusiva es un área situada más allá del mar territorial y adyacente a éste, sujeta al régimen jurídico específico establecido en esta Parte, de acuerdo con el cual los derechos y la jurisdicción del Estado ribereño y los derechos y libertades de los demás Estados se rigen por las disposiciones pertinentes de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2o. El Gobierno de Chile confirma y proclama la soberanía nacional sobre los mares adyacentes a sus costas, cualquiera que sea su profundidad, en toda la extensión necesaria para reservar, proteger, conservar y aprovechar los recursos y riquezas naturales de cualquier naturaleza que sobre dichos mares y en ellos y bajo ellos se encuentren . . .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I) Los factores geológicos y biológicos que condicionan la existencia, conservación y desarrollo de la fauna y flora marítimas en las aguas que bañan las costas de los países declarantes, hacen que la antigua extensión del mar territorial y de la zona contigua sean insuficientes para la conservación, desarrollo y aprovechamiento de esas riquezas a que tienen derecho los países costero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II) Como consecuencia de estos hechos, los Gobiernos de Chile, Ecuador y Perú proclaman como norma de su política internacional marítima, la soberanía y jurisdicción exclusivas que a cada uno de ellos corresponde sobre el mar que baña las costas de sus respectivos países, hasta una distancia mínima de 200 millas marinas desde las referidas costa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621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4"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rtículo 56</a:t>
            </a:r>
            <a:endParaRPr b="0" i="1" lang="en-US" sz="28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En la zona económica exclusiva, el Estado ribereño tiene:</a:t>
            </a:r>
            <a:endParaRPr b="0" i="1" lang="en-US" sz="2400" spc="-1" strike="noStrike">
              <a:solidFill>
                <a:srgbClr val="2d2525"/>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a) Derechos de soberanía para los fines de la exploración y explotación, conservación y administración de los recursos naturales, tanto vivos como no vivos, de las aguas suprayacentes al lecho y del lecho y el subsuelo del mar, y con respecto a otras actividades con miras a la exploración y explotación económicas de la zona, tal como la producción de energía derivada del agua, de las corrientes y de los vientos</a:t>
            </a:r>
            <a:r>
              <a:rPr b="0" lang="es-ES" sz="2800" spc="-1" strike="noStrike">
                <a:solidFill>
                  <a:srgbClr val="2d2525"/>
                </a:solidFill>
                <a:latin typeface="Times New Roman"/>
              </a:rPr>
              <a: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Artículo 309</a:t>
            </a:r>
            <a:endParaRPr b="0" lang="en-US" sz="2800" spc="-1" strike="noStrike">
              <a:solidFill>
                <a:srgbClr val="061c62"/>
              </a:solidFill>
              <a:latin typeface="Times New Roman"/>
            </a:endParaRPr>
          </a:p>
        </p:txBody>
      </p:sp>
      <p:sp>
        <p:nvSpPr>
          <p:cNvPr id="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ervas y excepciones</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No se podrán formular reservas ni excepciones a esta Convención, salvo las expresamente autorizadas por otros artículos de l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b) Jurisdicción con arreglo a las disposiciones pertinentes de esta Convención, con respecto 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 El establecimiento y la utilización de islas artificiales, instalaciones y estructuras;</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 La investigación científica marin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i) La protección y preservación del medio marino;</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 Otros derechos y deberes previstos e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De acuerdo al artículo 58 de la Convemar, los terceros Estados gozan de los siguientes derech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1. Libertad de navegación y sobrevuelo.</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2. Libertad de tendido de cables y tubería submarin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3. Otros usos del mar legítimos relacionados con estas dos libertades, tales como la operación de buques, aeronaves y cables y tubería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   </a:t>
            </a:r>
            <a:r>
              <a:rPr b="0" lang="es-ES" sz="3200" spc="-1" strike="noStrike">
                <a:solidFill>
                  <a:srgbClr val="2d2525"/>
                </a:solidFill>
                <a:latin typeface="Times New Roman"/>
              </a:rPr>
              <a:t>De acuerdo al artículo 58 de la Convemar, los terceros Estados tendrán debidamente en cuenta los derechos y deberes del Estado ribereño y cumplirán las leyes y reglamentos dictados por el Estado ribereño de conformidad con las disposiciones de la Convemar y otras normas del derecho internacional compatibl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finición de Plataforma Continental (Artículo 76)</a:t>
            </a:r>
            <a:endParaRPr b="0" lang="en-US" sz="32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La plataforma continental de un Estado ribereño comprende el lecho y el subsuelo de las áreas submarinas que se extienden más allá de su mar territorial y a todo lo largo de la prolongación natural de su territorio hasta el borde exterior del margen continental, o bien hasta una distancia de 200 millas marinas contadas desde las líneas de base a partir de las cuales se mide la anchura del mar territorial, en los casos en que el borde exterior del margen continental no llegue a esa distanci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El Gobierno de Chile confirma y proclama la soberanía nacional sobre todo el zócalo continental adyacente a las costas continentales e insulares del territorio nacional, cualquiera que sea la profundidad en que se encuentre, reivindicando, por consiguiente, todas las riquezas naturales que existen sobre dicho zócalo, en él y bajo él, conocidas o por descubrirs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a Plataforma Continental en la Convención de Ginebra de 1958</a:t>
            </a:r>
            <a:endParaRPr b="0" lang="en-US" sz="2800" spc="-1" strike="noStrike">
              <a:solidFill>
                <a:srgbClr val="061c62"/>
              </a:solidFill>
              <a:latin typeface="Times New Roman"/>
            </a:endParaRPr>
          </a:p>
        </p:txBody>
      </p:sp>
      <p:sp>
        <p:nvSpPr>
          <p:cNvPr id="1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Artículo I</a:t>
            </a:r>
            <a:endParaRPr b="0" i="1" lang="en-US" sz="2800" spc="-1" strike="noStrike">
              <a:solidFill>
                <a:srgbClr val="2d2525"/>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Para los efectos de estos Artículos, el término ‘plataforma continental’ se refiere (a) al lecho y subsuelo de las áreas submarinas adyacentes a la costa pero fuera del área del mar territorial, hasta una profundidad de 200 metros o, más allá de ese límite, donde la profundidad de las aguas suprayacentes permita la explotación de los recursos naturales de dicha zona; (b) al lecho y subsuelo de similares áreas submarinas adyacentes a las costas de las isla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Las libertades de la alta mar</a:t>
            </a:r>
            <a:endParaRPr b="0" lang="en-US" sz="3200" spc="-1" strike="noStrike">
              <a:solidFill>
                <a:srgbClr val="061c62"/>
              </a:solidFill>
              <a:latin typeface="Times New Roman"/>
            </a:endParaRPr>
          </a:p>
        </p:txBody>
      </p:sp>
      <p:sp>
        <p:nvSpPr>
          <p:cNvPr id="138"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fontScale="99000"/>
          </a:bodyPr>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navegación</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sobrevuelo</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tender cables y tuberías submarina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construir islas artificiales y otras instalacione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pesca</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investigación científic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La jurisdicción sobre los buques en alta mar</a:t>
            </a:r>
            <a:endParaRPr b="0" lang="en-US" sz="3200" spc="-1" strike="noStrike">
              <a:solidFill>
                <a:srgbClr val="061c62"/>
              </a:solidFill>
              <a:latin typeface="Times New Roman"/>
            </a:endParaRPr>
          </a:p>
        </p:txBody>
      </p:sp>
      <p:sp>
        <p:nvSpPr>
          <p:cNvPr id="140"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ordinaria</a:t>
            </a:r>
            <a:r>
              <a:rPr b="0" i="1" lang="en-US" sz="2400" spc="-1" strike="noStrike">
                <a:solidFill>
                  <a:srgbClr val="2d2525"/>
                </a:solidFill>
                <a:latin typeface="Times New Roman"/>
              </a:rPr>
              <a:t>: corresponde al Estado del pabellón.</a:t>
            </a:r>
            <a:endParaRPr b="0" i="1" lang="en-US" sz="2400" spc="-1" strike="noStrike">
              <a:solidFill>
                <a:srgbClr val="2d2525"/>
              </a:solidFill>
              <a:latin typeface="Times New Roman"/>
            </a:endParaRPr>
          </a:p>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extraordinaria</a:t>
            </a:r>
            <a:r>
              <a:rPr b="0" i="1" lang="en-US" sz="2400" spc="-1" strike="noStrike">
                <a:solidFill>
                  <a:srgbClr val="2d2525"/>
                </a:solidFill>
                <a:latin typeface="Times New Roman"/>
              </a:rPr>
              <a:t>:</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i. derecho de persecución</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 piratería</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i. transporte de esclav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v. tráfico ilícito de estupefacientes (sólo el deber de cooperar)</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v. transmisiones no autorizadas de radio y tele</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vi. derecho de visita sobre buques extranjer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vii. abordaj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Requisitos del derecho de persecución</a:t>
            </a:r>
            <a:endParaRPr b="0" lang="en-US" sz="2800" spc="-1" strike="noStrike">
              <a:solidFill>
                <a:srgbClr val="061c62"/>
              </a:solidFill>
              <a:latin typeface="Times New Roman"/>
            </a:endParaRPr>
          </a:p>
        </p:txBody>
      </p:sp>
      <p:sp>
        <p:nvSpPr>
          <p:cNvPr id="142" name="PlaceHolder 2"/>
          <p:cNvSpPr>
            <a:spLocks noGrp="1"/>
          </p:cNvSpPr>
          <p:nvPr>
            <p:ph/>
          </p:nvPr>
        </p:nvSpPr>
        <p:spPr>
          <a:xfrm>
            <a:off x="228600" y="1523880"/>
            <a:ext cx="7391520" cy="45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Deben existir motivos fundados para creer que el buque ha cometido una infracción de las leyes y reglamentos del Estado ribereñ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empezar mientras el buque extranjero o una de sus lanchas se encuentra en: aguas interiores, mar territorial, zona contigua, aguas archipelágicas, zee o plataforma continental.</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ser continua e ininterrumpida.</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comenzar cuando se ha dado una señal de detención al buque extranjer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realizarse por barcos de guerra o por barcos al servicio del gobiern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Definición de piratería (artículo 101)</a:t>
            </a:r>
            <a:endParaRPr b="0" lang="en-US" sz="3600" spc="-1" strike="noStrike">
              <a:solidFill>
                <a:srgbClr val="061c62"/>
              </a:solidFill>
              <a:latin typeface="Times New Roman"/>
            </a:endParaRPr>
          </a:p>
        </p:txBody>
      </p:sp>
      <p:sp>
        <p:nvSpPr>
          <p:cNvPr id="144" name="PlaceHolder 2"/>
          <p:cNvSpPr>
            <a:spLocks noGrp="1"/>
          </p:cNvSpPr>
          <p:nvPr>
            <p:ph/>
          </p:nvPr>
        </p:nvSpPr>
        <p:spPr>
          <a:xfrm>
            <a:off x="228600" y="1294920"/>
            <a:ext cx="7391520" cy="48006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000" spc="-1" strike="noStrike">
                <a:solidFill>
                  <a:srgbClr val="2d2525"/>
                </a:solidFill>
                <a:latin typeface="Times New Roman"/>
              </a:rPr>
              <a:t>Constituye piratería cualquiera de los actos siguientes:</a:t>
            </a:r>
            <a:endParaRPr b="0" i="1" lang="en-US" sz="2000" spc="-1" strike="noStrike">
              <a:solidFill>
                <a:srgbClr val="2d2525"/>
              </a:solidFill>
              <a:latin typeface="Times New Roman"/>
            </a:endParaRPr>
          </a:p>
          <a:p>
            <a:pPr marL="591120" indent="-591120">
              <a:lnSpc>
                <a:spcPct val="90000"/>
              </a:lnSpc>
              <a:spcBef>
                <a:spcPts val="4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odo acto ilegal de violencia o detención o todo acto de depredación cometidos con un propósito personal por la tripulación o los pasajeros de un buque privado o de una aeronave privada, dirigid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 Contra un buque o una aeronave en alta mar o contra personas o bienes a bordo de ell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i) Contra un buque o una aeronave, personas o bienes que se encuentren en un lugar no sometido a la jurisdicción de ningún Estado;</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b)     Todo acto de participación voluntaria en la utilización de un buque o de una aeronave, cuando el que lo realice tenga conocimiento de hechos que den a dicho buque o aeronave el carácter de buque o aeronave pirata;</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c)     Todo  acto que tenga por objeto incitar a los actos definidos en al apartado a) o en el apartado b) o facilitarlos intencionalmente.</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rtículo 317</a:t>
            </a:r>
            <a:endParaRPr b="0" lang="en-US" sz="2400" spc="-1" strike="noStrike">
              <a:solidFill>
                <a:srgbClr val="061c62"/>
              </a:solidFill>
              <a:latin typeface="Times New Roman"/>
            </a:endParaRPr>
          </a:p>
        </p:txBody>
      </p:sp>
      <p:sp>
        <p:nvSpPr>
          <p:cNvPr id="9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enuncia</a:t>
            </a:r>
            <a:endParaRPr b="0" i="1" lang="en-US" sz="2800" spc="-1" strike="noStrike">
              <a:solidFill>
                <a:srgbClr val="2d2525"/>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Todo Estado Parte podrá denunciar esta Convención, mediante notificación escrita al Secretario General de las Naciones Unidas, e indicar las razones en que se funde la denuncia. La denuncia surtirá efecto un año después de la fecha en que haya sido recibida la notificación, a menos que en ésta se señale una fecha ulterior.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1c62"/>
                </a:solidFill>
                <a:uFillTx/>
                <a:latin typeface="Times New Roman"/>
              </a:rPr>
              <a:t>Tráfico ilícito de estupefacientes (artículo 108)</a:t>
            </a:r>
            <a:endParaRPr b="0" lang="en-US" sz="2800" spc="-1" strike="noStrike">
              <a:solidFill>
                <a:srgbClr val="061c62"/>
              </a:solidFill>
              <a:latin typeface="Times New Roman"/>
            </a:endParaRPr>
          </a:p>
        </p:txBody>
      </p:sp>
      <p:sp>
        <p:nvSpPr>
          <p:cNvPr id="146"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s los Estados cooperarán para reprimir el tráfico ilícito de estupefacientes y sustancias sicotrópicas realizado por buques en alta mar en violación de las convenciones internacionales.</a:t>
            </a:r>
            <a:endParaRPr b="0" i="1" lang="en-US" sz="2800" spc="-1" strike="noStrike">
              <a:solidFill>
                <a:srgbClr val="2d2525"/>
              </a:solidFill>
              <a:latin typeface="Times New Roman"/>
            </a:endParaRPr>
          </a:p>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 Estado que tenga motivos razonables para creer que un buque que enarbola su pabellón se dedica al tráfico ilícito de estupefacientes o sustancias sicotrópicas podrá solicitar la cooperación de otros Estados para poner fin a tal tráfic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4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1c62"/>
                </a:solidFill>
                <a:latin typeface="Times New Roman"/>
              </a:rPr>
              <a:t>La pesca en alta mar</a:t>
            </a:r>
            <a:endParaRPr b="0" lang="en-US" sz="3200" spc="-1" strike="noStrike">
              <a:solidFill>
                <a:srgbClr val="061c62"/>
              </a:solidFill>
              <a:latin typeface="Times New Roman"/>
            </a:endParaRPr>
          </a:p>
        </p:txBody>
      </p:sp>
      <p:sp>
        <p:nvSpPr>
          <p:cNvPr id="148" name="PlaceHolder 2"/>
          <p:cNvSpPr>
            <a:spLocks noGrp="1"/>
          </p:cNvSpPr>
          <p:nvPr>
            <p:ph/>
          </p:nvPr>
        </p:nvSpPr>
        <p:spPr>
          <a:xfrm>
            <a:off x="228600" y="1371240"/>
            <a:ext cx="7391520" cy="472428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d2525"/>
                </a:solidFill>
                <a:uFillTx/>
                <a:latin typeface="Times New Roman"/>
              </a:rPr>
              <a:t>Artículo 116</a:t>
            </a:r>
            <a:endParaRPr b="0" i="1" lang="en-US" sz="24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Todos los Estados tienen derecho a que sus nacionales se dediquen a la pesca en la alta mar con sujeción a:</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a) Sus obligaciones convencionale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b) Los derechos y deberes así como los intereses de los Estados ribereños que se estipulan, entre otras disposiciones, en el párrafo 2 del artículo 63 y en los artículos 64 a 67; y </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c) Las disposiciones de esta sec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Artículo 117</a:t>
            </a:r>
            <a:endParaRPr b="0" lang="en-US" sz="3200" spc="-1" strike="noStrike">
              <a:solidFill>
                <a:srgbClr val="061c62"/>
              </a:solidFill>
              <a:latin typeface="Times New Roman"/>
            </a:endParaRPr>
          </a:p>
        </p:txBody>
      </p:sp>
      <p:sp>
        <p:nvSpPr>
          <p:cNvPr id="150"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s los Estados tienen el deber de adoptar las medidas que, en relación con sus respectivos nacionales, puedan ser necesarias para la conservación de los recursos vivos de la alta mar, o de cooperar con otros Estados en su adop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331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18</a:t>
            </a:r>
            <a:endParaRPr b="0" lang="en-US" sz="3200" spc="-1" strike="noStrike">
              <a:solidFill>
                <a:srgbClr val="061c62"/>
              </a:solidFill>
              <a:latin typeface="Times New Roman"/>
            </a:endParaRPr>
          </a:p>
        </p:txBody>
      </p:sp>
      <p:sp>
        <p:nvSpPr>
          <p:cNvPr id="152" name="PlaceHolder 2"/>
          <p:cNvSpPr>
            <a:spLocks noGrp="1"/>
          </p:cNvSpPr>
          <p:nvPr>
            <p:ph/>
          </p:nvPr>
        </p:nvSpPr>
        <p:spPr>
          <a:xfrm>
            <a:off x="228600" y="1219320"/>
            <a:ext cx="739152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Los Estados cooperarán entre sí en la conservación y administración de los recursos vivos en las zonas de la alta mar. Los Estados cuyos nacionales exploten idénticos recursos vivos, o diferentes recursos vivos situados en la misma zona, celebrarán negociaciones con miras a tomar las medidas necesarias para la conservación de tales recursos vivos. Con esta finalidad cooperarán, según proceda, para establecer organizaciones subregionales o regionales de pesc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l mar presencial</a:t>
            </a:r>
            <a:endParaRPr b="0" lang="en-US" sz="4400" spc="-1" strike="noStrike">
              <a:solidFill>
                <a:srgbClr val="061c62"/>
              </a:solidFill>
              <a:latin typeface="Times New Roman"/>
            </a:endParaRPr>
          </a:p>
        </p:txBody>
      </p:sp>
      <p:sp>
        <p:nvSpPr>
          <p:cNvPr id="1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El mar presencial es un área geopolítica en la que el Estado ribereño tiene un interés esencial que pueden entrar en conflicto con las actividades que efectúan otros Estados en esa área. En esta área del mar presencial el Estado ribereño puede manifestar su interés especial y los otros Estados deben tomar en cuenta sus interes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Chile considera los siguientes intereses en el mar presencial:</a:t>
            </a:r>
            <a:endParaRPr b="0" lang="en-US" sz="3200" spc="-1" strike="noStrike">
              <a:solidFill>
                <a:srgbClr val="061c62"/>
              </a:solidFill>
              <a:latin typeface="Times New Roman"/>
            </a:endParaRPr>
          </a:p>
        </p:txBody>
      </p:sp>
      <p:sp>
        <p:nvSpPr>
          <p:cNvPr id="15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Intereses geopolítico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eses de seguridad nacional</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ervación de los recursos vivos del áre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 de la ley de pesca de 1991</a:t>
            </a:r>
            <a:endParaRPr b="0" lang="en-US" sz="3200" spc="-1" strike="noStrike">
              <a:solidFill>
                <a:srgbClr val="061c62"/>
              </a:solidFill>
              <a:latin typeface="Times New Roman"/>
            </a:endParaRPr>
          </a:p>
        </p:txBody>
      </p:sp>
      <p:sp>
        <p:nvSpPr>
          <p:cNvPr id="15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Mar presencial: es aquella parte de la alta mar, existente para la comunidad internacional entre el límite de nuestra zona económica exclusiva continental y el meridiano que, pasando por el borde occidental de la plataforma continental de la Isla de Pascua, se prolonga desde el paralelo del hito No. 1 de la línea fronteriza internacional que separa Chile y el Perú, hasta el Polo Su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1" name="mar%20presencial%202" descr=""/>
          <p:cNvPicPr/>
          <p:nvPr/>
        </p:nvPicPr>
        <p:blipFill>
          <a:blip r:embed="rId1"/>
          <a:stretch/>
        </p:blipFill>
        <p:spPr>
          <a:xfrm>
            <a:off x="1905120" y="1066680"/>
            <a:ext cx="457200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4" name="mar%20presencial" descr=""/>
          <p:cNvPicPr/>
          <p:nvPr/>
        </p:nvPicPr>
        <p:blipFill>
          <a:blip r:embed="rId1"/>
          <a:stretch/>
        </p:blipFill>
        <p:spPr>
          <a:xfrm>
            <a:off x="1714680" y="0"/>
            <a:ext cx="571500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61c62"/>
                </a:solidFill>
                <a:latin typeface="Times New Roman"/>
              </a:rPr>
              <a:t>Zonas marítimas en la Convemar:</a:t>
            </a:r>
            <a:endParaRPr b="0" lang="en-US" sz="3200" spc="-1" strike="noStrike">
              <a:solidFill>
                <a:srgbClr val="061c62"/>
              </a:solidFill>
              <a:latin typeface="Times New Roman"/>
            </a:endParaRPr>
          </a:p>
        </p:txBody>
      </p:sp>
      <p:sp>
        <p:nvSpPr>
          <p:cNvPr id="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interiore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mar territori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contigu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económica exclusiv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s exclusivas de pesca (no expresamente)</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plataforma continent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archipelágica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fondos marinos y oceánicos (el Area o Zon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Mar Territorial.</a:t>
            </a:r>
            <a:br>
              <a:rPr sz="2400"/>
            </a:br>
            <a:r>
              <a:rPr b="0" lang="en-US" sz="2400" spc="-1" strike="noStrike">
                <a:solidFill>
                  <a:srgbClr val="061c62"/>
                </a:solidFill>
                <a:latin typeface="Times New Roman"/>
              </a:rPr>
              <a:t>Artículo 2</a:t>
            </a:r>
            <a:endParaRPr b="0" lang="en-US" sz="2400" spc="-1" strike="noStrike">
              <a:solidFill>
                <a:srgbClr val="061c62"/>
              </a:solidFill>
              <a:latin typeface="Times New Roman"/>
            </a:endParaRPr>
          </a:p>
        </p:txBody>
      </p:sp>
      <p:sp>
        <p:nvSpPr>
          <p:cNvPr id="97"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del Estado ribereño se extiende más allá de su territorio y de sus aguas interiores y, en el caso del Estado archipelágico, de sus aguas archipelágicas, a la franja de mar adyacente designada con el nombre de mar territorial.</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Esta soberanía se extiende al espacio aéreo sobre el mar territorial, así como al lecho y al subsuelo de ese mar.</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sobre el mar territorial se ejerce con arreglo a esta Convención y otras normas de derecho internacional.</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nchura del Mar Territorial. Artículo 3</a:t>
            </a:r>
            <a:endParaRPr b="0" lang="en-US" sz="2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 Estado tiene derecho a establecer la anchura de su mar territorial hasta un límite que no exceda de 12 millas marinas medidas a partir de las líneas de base determinadas de conformidad con est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 de base normal. Artículo 5</a:t>
            </a:r>
            <a:endParaRPr b="0" lang="en-US" sz="2800" spc="-1" strike="noStrike">
              <a:solidFill>
                <a:srgbClr val="061c62"/>
              </a:solidFill>
              <a:latin typeface="Times New Roman"/>
            </a:endParaRPr>
          </a:p>
        </p:txBody>
      </p:sp>
      <p:sp>
        <p:nvSpPr>
          <p:cNvPr id="10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Salvo disposición en contrario de esta Convención, la línea de base normal para medir la anchura del mar territorial es la línea de bajamar a lo largo de la costa, tal como aparece marcada mediante el signo apropiado en cartas a gran escala reconocidas oficialmente por el Estado ribereñ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68544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Líneas de base recta. Artículo 7</a:t>
            </a:r>
            <a:endParaRPr b="0" lang="en-US" sz="2400" spc="-1" strike="noStrike">
              <a:solidFill>
                <a:srgbClr val="061c62"/>
              </a:solidFill>
              <a:latin typeface="Times New Roman"/>
            </a:endParaRPr>
          </a:p>
        </p:txBody>
      </p:sp>
      <p:sp>
        <p:nvSpPr>
          <p:cNvPr id="103"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spcBef>
                <a:spcPts val="7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En los lugares en que la costa tenga profundas aberturas y escotaduras o en los que haya una franja de islas a lo largo de la costa situada en su proximidad inmediata, puede adoptarse, como método para trazar la línea de base desde la que ha de medirse el mar territorial, el de líneas de base recta que unan los puntos apropiado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5c6d9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En los casos en que, por la existencia de un delta y de otros accidentes naturales, la línea de la costa sea muy inestable, los puntos apropiados pueden elegirse a lo largo de la línea de bajamar más alejada mar afuera y, aunque la línea de bajamar retroceda ulteriormente, las líneas de base rectas seguirán en vigor hasta que las modifique el Estado ribereño de conformidad co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32:20Z</dcterms:created>
  <dc:creator>Centro de Informática</dc:creator>
  <dc:description/>
  <dc:language>en-US</dc:language>
  <cp:lastModifiedBy>Centro de Informática</cp:lastModifiedBy>
  <dcterms:modified xsi:type="dcterms:W3CDTF">2003-08-25T20:47:36Z</dcterms:modified>
  <cp:revision>7</cp:revision>
  <dc:subject/>
  <dc:title>DERECHO DEL MAR</dc:title>
</cp:coreProperties>
</file>