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22A-4F7D-4D42-825B-E94FE2B8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8EFE-0726-4294-B2F4-579909DC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B9D-D16C-4583-A685-BD4FB8D4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2190-7ED7-4468-BC2B-177C1D4F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CAB-5CF2-41B8-87CC-5FFE2C4B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368-A018-4F54-B6A5-BBBDCA86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4C0-C3B0-4439-97B5-09E50FA6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E3F-9F23-42A0-A3AC-0CB8F343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051-709E-4DCD-954E-1207C097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B58-258C-47B3-9BD8-44959D4F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36BF-873E-403B-8435-A3138643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485-2BAA-4497-B191-CE2D5CDE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CCA2-916C-4CA4-84FC-4675B8A65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0160" y="306864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erritorio de los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9120" y="1144440"/>
            <a:ext cx="8013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a m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rtículo 89 Convem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ngún Estado podrá pretender legítimamente someter cualquier parte de la alta mar a su sober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9120" y="711360"/>
            <a:ext cx="80852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ón sobre los Principios de Derecho Internacional relativos a las relaciones de Amistad y Cooperación entre los Estados (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territorio de una colonia o de cualquier otro territorio no autónomo tiene de acuerdo a la Carta un status separado y distinto de aquel del territorio de Estado que lo administra y que tal status existiría hasta que los pueblos de esos territorios ejercieran su derecho de auto determinació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19:12:18Z</dcterms:created>
  <dc:creator>Centro de Informatica</dc:creator>
  <dc:description/>
  <dc:language>en-US</dc:language>
  <cp:lastModifiedBy>Centro de Informatica</cp:lastModifiedBy>
  <dcterms:modified xsi:type="dcterms:W3CDTF">2005-04-22T19:32:39Z</dcterms:modified>
  <cp:revision>2</cp:revision>
  <dc:subject/>
  <dc:title>Diapositiva 1</dc:title>
</cp:coreProperties>
</file>