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3BA-1BB7-4407-B746-2711A788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161-B529-4F0C-81FC-2ACF4F5D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2A5-F883-4B59-89A6-0BAA9828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4DF-8686-4B5E-8B79-A395E011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BF0-94C8-479D-981D-913082DF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F2F-BC8C-4AC3-BF61-278E956C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D9A-C805-44EF-ABEB-D0A44A2E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D4E-AF98-407F-A4E4-04C339ED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F8A-D27B-413D-B772-BD33ED7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2E6-62AD-4800-AEC5-801476A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A85-EBD0-4CB3-9EB6-21FADF7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E54-AF36-402C-A00E-C7C12F5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63AC-C7A1-430E-9095-31F8BAD1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0160" y="306864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erritorio de l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1144440"/>
            <a:ext cx="801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tículo 89 Convem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ngún Estado podrá pretender legítimamente someter cualquier parte de la alta mar a su sober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9120" y="711360"/>
            <a:ext cx="80852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ón sobre los Principios de Derecho Internacional relativos a las relaciones de Amistad y Cooperación entre los Estados (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erritorio de una colonia o de cualquier otro territorio no autónomo tiene de acuerdo a la Carta un status separado y distinto de aquel del territorio de Estado que lo administra y que tal status existiría hasta que los pueblos de esos territorios ejercieran su derecho de auto determinació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9:12:18Z</dcterms:created>
  <dc:creator>Centro de Informatica</dc:creator>
  <dc:description/>
  <dc:language>en-US</dc:language>
  <cp:lastModifiedBy>Centro de Informatica</cp:lastModifiedBy>
  <dcterms:modified xsi:type="dcterms:W3CDTF">2005-04-22T19:32:39Z</dcterms:modified>
  <cp:revision>2</cp:revision>
  <dc:subject/>
  <dc:title>Diapositiva 1</dc:title>
</cp:coreProperties>
</file>