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FB9-D531-4D8E-BF30-10584228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447-89FA-41FF-ADEB-8A8F0D5C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920-46B7-4CF5-B2B4-D07148FA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E5D-04C7-4D89-B36F-534A78E2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4B9-37E8-4988-8AB9-8230052A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622-E782-4B0C-A9D9-759B11B0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74B-D648-4DDC-8021-C75259EE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A85-DAA0-48F5-920E-30371833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B25-6EBE-40D9-BD2E-B907D915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868-12AB-4FFE-90A9-4C71ED81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325-37A3-45FA-8D3B-67446A6B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2DA-83F1-4D03-BB1E-BA2540B6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1D03-BAF7-4A55-B012-CB074A914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0160" y="306864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erritorio de los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1144440"/>
            <a:ext cx="801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m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tículo 89 Convem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ngún Estado podrá pretender legítimamente someter cualquier parte de la alta mar a su sober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9120" y="711360"/>
            <a:ext cx="80852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ón sobre los Principios de Derecho Internacional relativos a las relaciones de Amistad y Cooperación entre los Estados (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erritorio de una colonia o de cualquier otro territorio no autónomo tiene de acuerdo a la Carta un status separado y distinto de aquel del territorio de Estado que lo administra y que tal status existiría hasta que los pueblos de esos territorios ejercieran su derecho de auto determinació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9:12:18Z</dcterms:created>
  <dc:creator>Centro de Informatica</dc:creator>
  <dc:description/>
  <dc:language>en-US</dc:language>
  <cp:lastModifiedBy>Centro de Informatica</cp:lastModifiedBy>
  <dcterms:modified xsi:type="dcterms:W3CDTF">2005-04-22T19:32:39Z</dcterms:modified>
  <cp:revision>2</cp:revision>
  <dc:subject/>
  <dc:title>Diapositiva 1</dc:title>
</cp:coreProperties>
</file>