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F016D-5741-4940-AD5B-DE6F15A2FC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D86AF-3621-4FB3-B537-B12AD25CE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AEF63-BD2C-4732-8449-7DBD47655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0063A-A025-44AC-83A8-AA74D0096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D2A70-AFFC-4C4D-9075-684B19C03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200FC-EBE9-4CA0-B67D-4D2C88BEB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DD54A-4F7F-46EA-9C92-3AF8753FE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9EAB-3BFB-49F0-BCA6-D6315FC5B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ABEFB0-5913-4995-AFAB-05C2B71BF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469B2-1ADF-4E19-ACE5-CAE0A1640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16052-438C-451A-9B63-AFF2CC57A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39745-9B3E-490B-91FB-131BDC8E53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5C03-ED51-4F5F-9D60-D902BB8099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78200" y="2924280"/>
            <a:ext cx="5940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evolución de los sujetos de derecho internacio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447840" y="476280"/>
            <a:ext cx="8227800" cy="5854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u="sng">
                <a:solidFill>
                  <a:srgbClr val="000000"/>
                </a:solidFill>
                <a:uFillTx/>
                <a:latin typeface="Arial"/>
              </a:rPr>
              <a:t>Protocolo de Montreal relativo a las Sustancias Agotadoras de la Capa de Ozono, 1987</a:t>
            </a:r>
            <a:r>
              <a:rPr b="1" lang="es-ES_tradnl"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u="sng">
                <a:solidFill>
                  <a:srgbClr val="000000"/>
                </a:solidFill>
                <a:uFillTx/>
                <a:latin typeface="Arial"/>
              </a:rPr>
              <a:t>Artículo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000000"/>
                </a:solidFill>
                <a:latin typeface="Arial"/>
              </a:rPr>
              <a:t>Medidas de contr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9(a) A base de las evaluaciones efectuadas de conformidad con lo dispuesto en el artículo 6, las Partes podrán decidir l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 si habrá ajustar o no los potenciales de agotamiento del ozono previstos en el Anexo A y, de ser el caso, qué ajustes corresponda ha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i) si debe procederse a nuevos ajustes y reducciones de producción o de consumo de las sustancias controladas respecto a los niveles de 1986 y, también, de ser el caso, el alcance, montante y oportunidad de dichos ajustes y reducc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La Secretaría notificará a las Partes las propuestas de ajuste por lo menos seis meses antes de la reunión de las Partes en la cual se propongan para adop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Al adoptar esas decisiones, las Partes harán cuanto esté a su alcance para llegar a un acuerdo por consenso. </a:t>
            </a:r>
            <a:r>
              <a:rPr b="1" lang="es-CL" sz="1800" spc="-1" strike="noStrike" u="sng">
                <a:solidFill>
                  <a:srgbClr val="ff0000"/>
                </a:solidFill>
                <a:uFillTx/>
                <a:latin typeface="Arial"/>
              </a:rPr>
              <a:t>Si no ha sido posible llegar a él, la decisión se adoptará en última instancia por mayoría de dos tercios de las Partes presentes y votantes que representen al menos el 50% del consumo total de las sustancias controladas de las Par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303120" y="423720"/>
            <a:ext cx="830124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rta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Artículo 7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onsejo Económico y Social podrá hacer arreglos adecuados para celebrar consultas con organizaciones  no gubernamentales que se ocupen de asuntos de la competencia del Consejo. Podrán hacerse dichos arreglos con organizaciones internacionales y, si a ello hubiere lugar, con organizaciones nacionales, previa consulta con el respectivo Miembro de las Naciones Unid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31840" y="65160"/>
            <a:ext cx="8372520" cy="557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nvención sobre los Derechos de Niño (20.11.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Arial"/>
              </a:rPr>
              <a:t>Artículo 4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 objeto de fomentar la aplicación efectiva de la Convención y de estimular la cooperación internacional en la esfera regulada por la Conv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a) Los organismos especializados, el Fondo de las Naciones Unidas para la infancia y demás órganos de las Naciones Unidas tendrán derecho a estar representados en el examen de la aplicación de aquellas disposiciones de la presente Convención comprendidas en el ámbito de su mandato. El Comité podrá invitar a los organismos especializados, al Fondo de las Naciones Unidas para la Infancia </a:t>
            </a:r>
            <a:r>
              <a:rPr b="0" lang="es-CL" sz="1200" spc="-1" strike="noStrike" u="sng">
                <a:solidFill>
                  <a:srgbClr val="ff0000"/>
                </a:solidFill>
                <a:uFillTx/>
                <a:latin typeface="Arial"/>
              </a:rPr>
              <a:t>y a otros órganos competentes</a:t>
            </a:r>
            <a:r>
              <a:rPr b="0" lang="es-CL" sz="1200" spc="-1" strike="noStrike">
                <a:solidFill>
                  <a:srgbClr val="000000"/>
                </a:solidFill>
                <a:latin typeface="Arial"/>
              </a:rPr>
              <a:t> que considere apropiados a que proporcionen asesoramiento especializado sobre la aplicación de la Convención de los sectores que son de incumbencia de sus respectivos mandatos. El Comité podrá invitar a los órganos de las Naciones Unidas a que presenten informes sobre la aplicación de aquellas disposiciones de la presente Convención comprendidas en el ámbito de sus activida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b) El Comité transmitirá, según estime conveniente, a los organismos especializados, al Fondo de Naciones Unidas para la Infancia y a otros órganos competentes, los informes de los Estados Partes que contengan una solicitud de asesoramiento o de asistencia técnica, o en los que se indique esa necesidad, junto con las observaciones y sugerencias del Comité, si las hubiere, acerca de esas solicitudes o indicacion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c) </a:t>
            </a:r>
            <a:r>
              <a:rPr b="0" lang="es-CL" sz="1200" spc="-1" strike="noStrike">
                <a:solidFill>
                  <a:srgbClr val="000000"/>
                </a:solidFill>
                <a:latin typeface="Arial"/>
              </a:rPr>
              <a:t>El Comité podrá recomendar a la Asamblea General que pida al Secretario General que efectúe, en su nombre, estudios sobre cuestiones concretas relativas a los derechos del niñ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	</a:t>
            </a:r>
            <a:r>
              <a:rPr b="0" lang="es-CL" sz="1200" spc="-1" strike="noStrike">
                <a:solidFill>
                  <a:srgbClr val="000000"/>
                </a:solidFill>
                <a:latin typeface="Arial"/>
              </a:rPr>
              <a:t>d) El Comité podrá formular sugerencias y recomendaciones generales basadas en la información recibida en virtud de los Artículos 44 y 45 de la presente Convención. Dichas sugerencias y recomendaciones generales deberán transmitirse a los Estados Partes interesados y notificarse a la Asamblea General, junto con los comentarios, si los hubiere, de los Estados Par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58760" y="65160"/>
            <a:ext cx="8373960" cy="62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he Nobel Peace Prize for 1997</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Norwegian Nobel Committee has decided to award the Nobel Peace Prize for 1997, in two equal parts, to the International Campaign to Ban Landmines (ICBL) and to the campaign's coordinator Jody Williams for their work for the banning and clearing of anti-personnel mi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t present probably over one hundred million anti-personnel mines scattered over large areas on several continents. Such mines maim and kill indiscriminately and are a major threat to the civilian populations and to the social and economic development of the many countries affec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ICBL and Jody Williams started a process which in the space of a few years changed a ban on anti-personnel mines from a vision to a feasible real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he Convention which will be signed in Ottawa in December this year is to a considerable extent a result of their important wor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re are already over 1,000 organizations, large and small, affiliated to the ICBL, making up a network through which it has been possible to express and mediate a broad wave of popular commitment in an unprecedented way. With the governments of several small and medium-sized countries taking the issue up and taking steps to deal with it, this work has grown into a convincing example of an effective policy for pe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 </a:t>
            </a:r>
            <a:r>
              <a:rPr b="0" lang="es-CL" sz="1600" spc="-1" strike="noStrike">
                <a:solidFill>
                  <a:srgbClr val="000000"/>
                </a:solidFill>
                <a:latin typeface="Arial"/>
              </a:rPr>
              <a:t>The Norwegian Nobel Committee wishes to express the hope that the Ottawa process will win even wider support. As a model for similar processes in the future, it could prove of decisive importance to the international effort for disarmament and pea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31840" y="136440"/>
            <a:ext cx="76532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a:t>
            </a:r>
            <a:r>
              <a:rPr b="0" lang="es-ES_tradnl"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a:t>
            </a:r>
            <a:r>
              <a:rPr b="0" lang="es-ES_tradnl" sz="1800" spc="-1" strike="noStrike" u="sng">
                <a:solidFill>
                  <a:srgbClr val="000000"/>
                </a:solidFill>
                <a:uFillTx/>
                <a:latin typeface="Arial"/>
              </a:rPr>
              <a:t>Caso Shrimps/Turtles (OM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ecisión del Cuerpo de Apel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8. En el presente contexto, la facultad de </a:t>
            </a:r>
            <a:r>
              <a:rPr b="0" i="1" lang="es-ES_tradnl" sz="1800" spc="-1" strike="noStrike">
                <a:solidFill>
                  <a:srgbClr val="000000"/>
                </a:solidFill>
                <a:latin typeface="Arial"/>
              </a:rPr>
              <a:t>buscar</a:t>
            </a:r>
            <a:r>
              <a:rPr b="0" lang="es-ES_tradnl" sz="1800" spc="-1" strike="noStrike">
                <a:solidFill>
                  <a:srgbClr val="000000"/>
                </a:solidFill>
                <a:latin typeface="Arial"/>
              </a:rPr>
              <a:t> información no es propiamente equiparable con una prohibición a aceptar información que ha sido presentada sin haber sido requerida por un panel. Un panel tiene el poder discrecional de aceptar  y considerar o rechazar la información y consejo que le ha sido presentado, haya o no sido solicitado por el pan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09. … Así visto, concluimos que la actual disposición de estos documentos por el Panel no constituye un error jurídico ni un abuso de su poder discrecional en esta materia.  El Panel estaba, consecuentemente, facultado para tratar y tomar en consideración la sección de los</a:t>
            </a:r>
            <a:r>
              <a:rPr b="0" i="1" lang="es-ES_tradnl" sz="1800" spc="-1" strike="noStrike">
                <a:solidFill>
                  <a:srgbClr val="000000"/>
                </a:solidFill>
                <a:latin typeface="Arial"/>
              </a:rPr>
              <a:t> briefs </a:t>
            </a:r>
            <a:r>
              <a:rPr b="0" lang="es-ES_tradnl" sz="1800" spc="-1" strike="noStrike">
                <a:solidFill>
                  <a:srgbClr val="000000"/>
                </a:solidFill>
                <a:latin typeface="Arial"/>
              </a:rPr>
              <a:t>que los Estados Unidos adjuntó a su segunda presentación ante el Panel, del mismo modo que cualquier otro alegato de los Estados Un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10. Encontramos, y así decidimos, que el Panel erró en su interpretación jurídico que el aceptar información no solicitada otorgada por fuentes no gubernamentales es incompatible con las disposiciones del DSU.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03120" y="568440"/>
            <a:ext cx="81565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admisión de ONG ante tribunales internacionales (continu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Opinión consultiva sobre la Legalidad del Uso o Amenaza de Uso de Armas Nucleares (ICJ 199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ODA: Señala que la solicitud de una opinión consultiva en estas materias no corresponde por cuanto es una pregunta políticamente motivada. Para demostrar su argumento se refiere al papel desempeñado por la ONG al realizar una campaña para que se prohibieran estar armas y menciona que, como parte de esa campaña, las ONG presionaron a los Estados para que la Asamblea General finalmente requiriera esta opinión de la Cor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Juez Weeramantry: Esta opinión contrasta con la del juez ODA en destacar que la Corte debe tomar en cuenta la opinión de la opinión pública mundial y sus protestas en contra de las armas nucle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00480" y="568440"/>
            <a:ext cx="908244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Déficit Democrático en la Participación de O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1) Muchas ONG no tienen procesos democráticos de elecciones intern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2) Muchas determinan sus agendas en forma eliti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3) Falta transparencia en el proceso de toma de decisiones al interi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 No se sabe a quién ni a cuántas personas represent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5) Algunas ONG realizan la práctica de transplantar sistemas jurídicos sin consulta lo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6) No existe mecanismos de “accounta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7) Son susceptibles de ser absorbidas por las entidades que las financi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8) La brecha Norte/S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0T19:33:32Z</dcterms:created>
  <dc:creator>Centro de Informatica</dc:creator>
  <dc:description/>
  <dc:language>en-US</dc:language>
  <cp:lastModifiedBy>Centro de Informatica</cp:lastModifiedBy>
  <dcterms:modified xsi:type="dcterms:W3CDTF">2005-04-20T19:54:27Z</dcterms:modified>
  <cp:revision>2</cp:revision>
  <dc:subject/>
  <dc:title>Diapositiva 1</dc:title>
</cp:coreProperties>
</file>