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04D9A-C8DC-4EA8-9720-134328045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3E4D-AEC8-4A58-91CD-63887267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714DA-3D4B-4FE7-9003-88BAC6F91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DB027-9C17-491A-BE13-85CE9592A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628E-9E0D-43CB-9EA8-FC5C25092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F810-38D4-4C5B-A9E7-A04B5C03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7061-3C3B-4B79-BCCA-677A220A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019B-F69D-404E-B378-7C09517B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845D-CEA2-4017-90DF-09B6832CB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D63D-B845-4F97-9688-5D63358C0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3E1D-AA74-4856-81FC-787AA8A8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6608-BD51-4903-9D3F-24ACC2829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5924-3151-4930-8CE1-68CF0F081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78200" y="292428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volución de los sujetos de derecho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47840" y="476280"/>
            <a:ext cx="82278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Protocolo de Montreal relativo a las Sustancias Agotadoras de la Capa de Ozono, 1987</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0000"/>
                </a:solidFill>
                <a:uFillTx/>
                <a:latin typeface="Arial"/>
              </a:rPr>
              <a:t>Artícul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Medida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9(a) A base de las evaluaciones efectuadas de conformidad con lo dispuesto en el artículo 6, las Partes podrán decidir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 si habrá ajustar o no los potenciales de agotamiento del ozono previstos en el Anexo A y, de ser el caso, qué ajustes corresponda ha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i) si debe procederse a nuevos ajustes y reducciones de producción o de consumo de las sustancias controladas respecto a los niveles de 1986 y, también, de ser el caso, el alcance, montante y oportunidad de dichos ajustes y redu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La Secretaría notificará a las Partes las propuestas de ajuste por lo menos seis meses antes de la reunión de las Partes en la cual se propongan para ado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Al adoptar esas decisiones, las Partes harán cuanto esté a su alcance para llegar a un acuerdo por consenso. </a:t>
            </a:r>
            <a:r>
              <a:rPr b="1" lang="es-CL" sz="1800" spc="-1" strike="noStrike" u="sng">
                <a:solidFill>
                  <a:srgbClr val="ff0000"/>
                </a:solidFill>
                <a:uFillTx/>
                <a:latin typeface="Arial"/>
              </a:rPr>
              <a:t>Si no ha sido posible llegar a él, la decisión se adoptará en última instancia por mayoría de dos tercios de las Partes presentes y votantes que representen al menos el 50% del consumo total de las sustancias controladas de la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3120" y="423720"/>
            <a:ext cx="8301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Económico y Social podrá hacer arreglos adecuados para celebrar consultas con organizaciones  no gubernamentales que se ocupen de asuntos de la competencia del Consejo. Podrán hacerse dichos arreglos con organizaciones internacionales y, si a ello hubiere lugar, con organizaciones nacionales, previa consulta con el respectivo Miembro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31840" y="65160"/>
            <a:ext cx="8372520" cy="55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vención sobre los Derechos de Niño (20.11.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Artículo 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bjeto de fomentar la aplicación efectiva de la Convención y de estimular la cooperación internacional en la esfera regulada por la Conv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a) Los organismos especializados, el Fondo de las Naciones Unidas para la infancia y demás órganos de las Naciones Unidas tendrán derecho a estar representados en el examen de la aplicación de aquellas disposiciones de la presente Convención comprendidas en el ámbito de su mandato. El Comité podrá invitar a los organismos especializados, al Fondo de las Naciones Unidas para la Infancia </a:t>
            </a:r>
            <a:r>
              <a:rPr b="0" lang="es-CL" sz="1200" spc="-1" strike="noStrike" u="sng">
                <a:solidFill>
                  <a:srgbClr val="ff0000"/>
                </a:solidFill>
                <a:uFillTx/>
                <a:latin typeface="Arial"/>
              </a:rPr>
              <a:t>y a otros órganos competentes</a:t>
            </a:r>
            <a:r>
              <a:rPr b="0" lang="es-CL" sz="1200" spc="-1" strike="noStrike">
                <a:solidFill>
                  <a:srgbClr val="000000"/>
                </a:solidFill>
                <a:latin typeface="Arial"/>
              </a:rPr>
              <a:t> que considere apropiados a que proporcionen asesoramiento especializado sobre la aplicación de la Convención de los sectores que son de incumbencia de sus respectivos mandatos. El Comité podrá invitar a los órganos de las Naciones Unidas a que presenten informes sobre la aplicación de aquellas disposiciones de la presente Convención comprendidas en el ámbito de sus activid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b) El Comité transmitirá, según estime conveniente, a los organismos especializados, al Fondo de Naciones Unidas para la Infancia y a otros órganos competentes, los informes de los Estados Partes que contengan una solicitud de asesoramiento o de asistencia técnica, o en los que se indique esa necesidad, junto con las observaciones y sugerencias del Comité, si las hubiere, acerca de esas solicitudes o indicac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 </a:t>
            </a:r>
            <a:r>
              <a:rPr b="0" lang="es-CL" sz="1200" spc="-1" strike="noStrike">
                <a:solidFill>
                  <a:srgbClr val="000000"/>
                </a:solidFill>
                <a:latin typeface="Arial"/>
              </a:rPr>
              <a:t>El Comité podrá recomendar a la Asamblea General que pida al Secretario General que efectúe, en su nombre, estudios sobre cuestiones concretas relativas a los derechos del niñ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 El Comité podrá formular sugerencias y recomendaciones generales basadas en la información recibida en virtud de los Artículos 44 y 45 de la presente Convención. Dichas sugerencias y recomendaciones generales deberán transmitirse a los Estados Partes interesados y notificarse a la Asamblea General, junto con los comentarios, si los hubiere, de los Estados Par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760" y="65160"/>
            <a:ext cx="8373960" cy="62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he Nobel Peace Prize for 1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Norwegian Nobel Committee has decided to award the Nobel Peace Prize for 1997, in two equal parts, to the International Campaign to Ban Landmines (ICBL) and to the campaign's coordinator Jody Williams for their work for the banning and clearing of anti-personnel m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t present probably over one hundred million anti-personnel mines scattered over large areas on several continents. Such mines maim and kill indiscriminately and are a major threat to the civilian populations and to the social and economic development of the many countries 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ICBL and Jody Williams started a process which in the space of a few years changed a ban on anti-personnel mines from a vision to a feasible re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Convention which will be signed in Ottawa in December this year is to a considerable extent a result of their important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lready over 1,000 organizations, large and small, affiliated to the ICBL, making up a network through which it has been possible to express and mediate a broad wave of popular commitment in an unprecedented way. With the governments of several small and medium-sized countries taking the issue up and taking steps to deal with it, this work has grown into a convincing example of an effective policy for pe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Norwegian Nobel Committee wishes to express the hope that the Ottawa process will win even wider support. As a model for similar processes in the future, it could prove of decisive importance to the international effort for disarmament and pe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1840" y="136440"/>
            <a:ext cx="7653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t>
            </a:r>
            <a:r>
              <a:rPr b="0" lang="es-ES_tradnl" sz="1800" spc="-1" strike="noStrike" u="sng">
                <a:solidFill>
                  <a:srgbClr val="000000"/>
                </a:solidFill>
                <a:uFillTx/>
                <a:latin typeface="Arial"/>
              </a:rPr>
              <a:t>Caso Shrimps/Turtles (OM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isión del Cuerpo de Ape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8. En el presente contexto, la facultad de </a:t>
            </a:r>
            <a:r>
              <a:rPr b="0" i="1" lang="es-ES_tradnl" sz="1800" spc="-1" strike="noStrike">
                <a:solidFill>
                  <a:srgbClr val="000000"/>
                </a:solidFill>
                <a:latin typeface="Arial"/>
              </a:rPr>
              <a:t>buscar</a:t>
            </a:r>
            <a:r>
              <a:rPr b="0" lang="es-ES_tradnl" sz="1800" spc="-1" strike="noStrike">
                <a:solidFill>
                  <a:srgbClr val="000000"/>
                </a:solidFill>
                <a:latin typeface="Arial"/>
              </a:rPr>
              <a:t> información no es propiamente equiparable con una prohibición a aceptar información que ha sido presentada sin haber sido requerida por un panel. Un panel tiene el poder discrecional de aceptar  y considerar o rechazar la información y consejo que le ha sido presentado, haya o no sido solicitado por 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9. … Así visto, concluimos que la actual disposición de estos documentos por el Panel no constituye un error jurídico ni un abuso de su poder discrecional en esta materia.  El Panel estaba, consecuentemente, facultado para tratar y tomar en consideración la sección de los</a:t>
            </a:r>
            <a:r>
              <a:rPr b="0" i="1" lang="es-ES_tradnl" sz="1800" spc="-1" strike="noStrike">
                <a:solidFill>
                  <a:srgbClr val="000000"/>
                </a:solidFill>
                <a:latin typeface="Arial"/>
              </a:rPr>
              <a:t> briefs </a:t>
            </a:r>
            <a:r>
              <a:rPr b="0" lang="es-ES_tradnl" sz="1800" spc="-1" strike="noStrike">
                <a:solidFill>
                  <a:srgbClr val="000000"/>
                </a:solidFill>
                <a:latin typeface="Arial"/>
              </a:rPr>
              <a:t>que los Estados Unidos adjuntó a su segunda presentación ante el Panel, del mismo modo que cualquier otro alegato de los Estados U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0. Encontramos, y así decidimos, que el Panel erró en su interpretación jurídico que el aceptar información no solicitada otorgada por fuentes no gubernamentales es incompatible con las disposiciones del D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3120" y="568440"/>
            <a:ext cx="8156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Opinión consultiva sobre la Legalidad del Uso o Amenaza de Uso de Armas Nucleares (ICJ 19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ODA: Señala que la solicitud de una opinión consultiva en estas materias no corresponde por cuanto es una pregunta políticamente motivada. Para demostrar su argumento se refiere al papel desempeñado por la ONG al realizar una campaña para que se prohibieran estar armas y menciona que, como parte de esa campaña, las ONG presionaron a los Estados para que la Asamblea General finalmente requiriera esta opinión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Weeramantry: Esta opinión contrasta con la del juez ODA en destacar que la Corte debe tomar en cuenta la opinión de la opinión pública mundial y sus protestas en contra de las armas nucle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0480" y="568440"/>
            <a:ext cx="9082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éficit Democrático en la Participación de O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Muchas ONG no tienen procesos democráticos de eleccione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Muchas determinan sus agendas en forma elit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Falta transparencia en el proceso de toma de decisiones al i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sabe a quién ni a cuántas personas represen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lgunas ONG realizan la práctica de transplantar sistemas jurídicos sin consulta 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No existe mecanismos de “accoun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Son susceptibles de ser absorbidas por las entidades que las finan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La brecha Norte/S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33:32Z</dcterms:created>
  <dc:creator>Centro de Informatica</dc:creator>
  <dc:description/>
  <dc:language>en-US</dc:language>
  <cp:lastModifiedBy>Centro de Informatica</cp:lastModifiedBy>
  <dcterms:modified xsi:type="dcterms:W3CDTF">2005-04-20T19:54:27Z</dcterms:modified>
  <cp:revision>2</cp:revision>
  <dc:subject/>
  <dc:title>Diapositiva 1</dc:title>
</cp:coreProperties>
</file>