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E073-DE1C-4BD9-A679-85358E74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0A2-E154-41C2-9B95-C8B4680E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9A7-4A4D-435C-B88B-36613173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B3D-FB69-4168-A6B3-495FFB3A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97CE-C33B-45D6-987F-15A33095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160D-CC68-4D88-BE90-35B5D6CD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31DD-FB12-4948-B204-328501FC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3787-9675-4A35-A93C-19A3A441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6725-FF15-421A-B49C-95F6632E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B7A9-7958-450F-98D0-60C9D279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6505-BDEE-4A9A-8D47-F9D398F1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506D-A9BA-4E71-8591-B0D5A435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1AE3-EAD8-43A3-8A2B-7AF6BFC1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FE20-F8B9-43D7-A378-B9450F48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E26E-0EEB-4244-B9A9-B758746F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2F1E-A9C9-4AC4-B9C2-A7CF7BE3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D567-E2EB-46F4-8E36-FE04A81D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35D-8FBA-4BED-B88C-2FBCF467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C238-7D77-4449-B484-DFC5BAE5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042-3A5D-44B7-9B21-8FD9214D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1FCF-487E-45FE-88FB-96C4713D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ECF-058A-4C19-8833-836094E4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E01-7CE6-413F-BE96-A9EE5F9A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3DC-C0AA-4FE6-B36F-69F95CF0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D8B0-02E3-4BDB-91C1-5F46ACC1C0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AE50-146E-4CDE-933A-AF3DC7A3EC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Times New Roman"/>
              </a:rPr>
              <a:t>Universidad de Chile   4º año    200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..desde la conflictividad a la complementariedad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Héctor Humeres Nogu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2C1-A220-4F6B-A8D3-D4C15BFA0503}" type="slidenum">
              <a:t>1</a:t>
            </a:fld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524880" cy="5943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cc66"/>
                </a:solidFill>
                <a:latin typeface="Comic Sans MS"/>
              </a:rPr>
              <a:t>...</a:t>
            </a:r>
            <a:r>
              <a:rPr b="0" lang="es-MX" sz="4000" spc="-1" strike="noStrike">
                <a:solidFill>
                  <a:srgbClr val="ffcc66"/>
                </a:solidFill>
                <a:latin typeface="Comic Sans MS"/>
              </a:rPr>
              <a:t>  cuántos trabajadores se involucran...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F514-2DF4-49C2-9DFE-EB377ED8B163}" type="slidenum">
              <a:t>10</a:t>
            </a:fld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325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Comic Sans MS"/>
              </a:rPr>
              <a:t>  </a:t>
            </a:r>
            <a:r>
              <a:rPr b="1" lang="es-ES_tradnl" sz="4000" spc="-1" strike="noStrike">
                <a:solidFill>
                  <a:srgbClr val="ffcc66"/>
                </a:solidFill>
                <a:latin typeface="Comic Sans MS"/>
              </a:rPr>
              <a:t>que costo tienen......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6B72-1A2D-4261-9BA3-DD72B1114C4F}" type="slidenum">
              <a:t>11</a:t>
            </a:fld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26F-96CD-44D0-B4BA-F4F75378EE5D}" type="slidenum">
              <a:t>12</a:t>
            </a:fld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8080" y="60948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4000" spc="-1" strike="noStrike">
                <a:solidFill>
                  <a:srgbClr val="ffcc66"/>
                </a:solidFill>
                <a:latin typeface="Comic Sans MS"/>
              </a:rPr>
              <a:t>.......   sus resultados..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804-5DA7-4290-AF75-D291C967F70F}" type="slidenum">
              <a:t>13</a:t>
            </a:fld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1344600"/>
            <a:ext cx="8686800" cy="5361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38080" y="609480"/>
            <a:ext cx="7239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cc66"/>
                </a:solidFill>
                <a:latin typeface="Comic Sans MS"/>
              </a:rPr>
              <a:t>.....algo más.......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C10-57FC-4878-93C4-FF2DA3C28DE5}" type="slidenum">
              <a:t>14</a:t>
            </a:fld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533520" y="228600"/>
            <a:ext cx="967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Times New Roman"/>
              </a:rPr>
              <a:t>evolución sindicalismo nacional en últimas 4 décadas......</a:t>
            </a:r>
            <a:r>
              <a:rPr b="1" lang="es-ES_tradnl" sz="4400" spc="-1" strike="noStrike">
                <a:solidFill>
                  <a:srgbClr val="ff9900"/>
                </a:solidFill>
                <a:latin typeface="Comic Sans MS"/>
              </a:rPr>
              <a:t>  </a:t>
            </a: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-228600" y="1219320"/>
          <a:ext cx="96012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219320"/>
                    <a:ext cx="96012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A5E-96B8-4F60-8243-56DD8FBAD375}" type="slidenum">
              <a:t>2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Comic Sans MS"/>
              </a:rPr>
              <a:t>evolución sindicalismo nacional última década</a:t>
            </a:r>
            <a:r>
              <a:rPr b="1" lang="es-ES_tradnl" sz="2800" spc="-1" strike="noStrike">
                <a:solidFill>
                  <a:srgbClr val="ff9900"/>
                </a:solidFill>
                <a:latin typeface="Comic Sans MS"/>
              </a:rPr>
              <a:t>...</a:t>
            </a: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-838080" y="1447920"/>
          <a:ext cx="1447776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1447920"/>
                    <a:ext cx="144777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3D48-A0A7-490E-A8B0-7550EACD7D04}" type="slidenum">
              <a:t>3</a:t>
            </a:fld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ffcc66"/>
                </a:solidFill>
                <a:latin typeface="Times New Roman"/>
              </a:rPr>
              <a:t>...  </a:t>
            </a:r>
            <a:r>
              <a:rPr b="0" lang="es-ES_tradnl" sz="4000" spc="-1" strike="noStrike">
                <a:solidFill>
                  <a:srgbClr val="ffcc66"/>
                </a:solidFill>
                <a:latin typeface="Comic Sans MS"/>
              </a:rPr>
              <a:t>trabajadores negociando por año, como % de la F. T. ocupada..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91: </a:t>
            </a:r>
            <a:r>
              <a:rPr b="1" lang="es-ES_tradnl" sz="3200" spc="-1" strike="noStrike">
                <a:solidFill>
                  <a:srgbClr val="00cc00"/>
                </a:solidFill>
                <a:latin typeface="Times New Roman"/>
              </a:rPr>
              <a:t>257.000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5,6%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7: 193.000 (5,1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2: 226.000 (4,6%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8: 206.000 (5,5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3:256.000 (5,0%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9: 161.000 (4,3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4:236.000 (4,6%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0: 182.000 (4,9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5:214.000 (4,1%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1: 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160.000 (2,9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6:221.000 </a:t>
            </a:r>
            <a:r>
              <a:rPr b="1" lang="es-ES_tradnl" sz="3200" spc="-1" strike="noStrike">
                <a:solidFill>
                  <a:srgbClr val="00cc00"/>
                </a:solidFill>
                <a:latin typeface="Times New Roman"/>
              </a:rPr>
              <a:t>(6,0%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2: 175.000 (3,2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DEBF-719B-4D35-9DE1-BD2F1D6BCA12}" type="slidenum">
              <a:t>4</a:t>
            </a:fld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596-3106-464D-A4AD-455AAD5FBC9B}" type="slidenum">
              <a:t>5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1143000"/>
          <a:ext cx="914400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A5F-1D83-4E5C-90DE-6A892C3CB7C1}" type="slidenum">
              <a:t>6</a:t>
            </a:fld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12600"/>
          <a:ext cx="11963520" cy="681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00"/>
                    <a:ext cx="11963520" cy="68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18D-515A-43BD-9120-0D0B45A775CC}" type="slidenum">
              <a:t>7</a:t>
            </a:fld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263600"/>
            <a:ext cx="9144000" cy="5594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Comic Sans MS"/>
              </a:rPr>
              <a:t>    </a:t>
            </a:r>
            <a:r>
              <a:rPr b="0" lang="es-MX" sz="4000" spc="-1" strike="noStrike">
                <a:solidFill>
                  <a:srgbClr val="ffcc66"/>
                </a:solidFill>
                <a:latin typeface="Comic Sans MS"/>
              </a:rPr>
              <a:t>como se aprecia  el índice  de conflictividad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F9B-612D-4EC8-AA52-97024870FA15}" type="slidenum">
              <a:t>8</a:t>
            </a:fld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05920" cy="5537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-228600" y="228600"/>
            <a:ext cx="93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s-MX" sz="4000" spc="-1" strike="noStrike">
                <a:solidFill>
                  <a:srgbClr val="ffcc66"/>
                </a:solidFill>
                <a:latin typeface="Comic Sans MS"/>
              </a:rPr>
              <a:t>y las huelgas, cuánto duran..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847-A627-462F-B79C-1A979712E341}" type="slidenum">
              <a:t>9</a:t>
            </a:fld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22:17:55Z</dcterms:created>
  <dc:creator>Computador Personal</dc:creator>
  <dc:description/>
  <dc:language>en-US</dc:language>
  <cp:lastModifiedBy>Héctor Humeres</cp:lastModifiedBy>
  <dcterms:modified xsi:type="dcterms:W3CDTF">2005-05-26T21:08:10Z</dcterms:modified>
  <cp:revision>93</cp:revision>
  <dc:subject/>
  <dc:title>La negociación colectiva</dc:title>
</cp:coreProperties>
</file>