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EF9-DDD2-4356-AA76-C708FEC8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520-C8A3-4AA4-87A7-C65758FE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252-53EE-4F7C-B02F-7CBA7C3E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A35-1451-4A82-AD30-B70EF6C3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53C5-B264-4DBA-81CA-C4E974F3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3787-BEE1-4A1C-8171-74707C33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A583-07C8-4E34-85E7-8E96550D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B001-08DA-4E9F-86B6-5462E120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E4A0-EE15-42DF-BBD8-E61ADBC9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8363-6D10-4621-8326-FDA16FCA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8E43-3102-4C96-B4F0-FFE12D9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BA64-A077-412B-B70A-D94FFCC1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40CC-6A74-4835-B6FE-F2FC5C85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D64-4BFA-48E4-99A1-D31E5BE1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56EE-576C-4A8A-AE63-EC421B4D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F08-C1AF-4173-9864-1E79F9ED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6947-5C81-4539-AF1A-99BF833A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7259-0BED-42D2-8C0E-D07E241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BF6C-6275-4ED5-BD63-43C83128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B86-0F7B-41D5-A0D0-76C8BEB5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A1C-5E8F-407D-A5BD-3D5460F9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68E-B4E2-4B5C-AD35-ACE5E32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9AFD-2C11-4576-8CE4-7EF315DD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61F5-5557-449B-8DCA-63D1D3F9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46DD-E73A-483D-9D77-9B8F053D5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3991-F45C-4674-85A9-2C861339E6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Universidad de Chile   4º año    200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omic Sans MS"/>
              </a:rPr>
              <a:t>..desde la conflictividad a la complementariedad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Héctor Humeres Nogu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4E1-F11C-47D6-A692-2270CEAA9E41}" type="slidenum">
              <a:t>1</a:t>
            </a:fld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524880" cy="5943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</a:t>
            </a: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  cuántos trabajadores se involucran.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8DF-3D89-4686-A635-58C102E756A7}" type="slidenum">
              <a:t>10</a:t>
            </a:fld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25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cc66"/>
                </a:solidFill>
                <a:latin typeface="Comic Sans MS"/>
              </a:rPr>
              <a:t>  </a:t>
            </a:r>
            <a:r>
              <a:rPr b="1" lang="es-ES_tradnl" sz="4000" spc="-1" strike="noStrike">
                <a:solidFill>
                  <a:srgbClr val="ffcc66"/>
                </a:solidFill>
                <a:latin typeface="Comic Sans MS"/>
              </a:rPr>
              <a:t>que costo tienen......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D531-D1DE-4B21-8F13-9513400ACA22}" type="slidenum">
              <a:t>11</a:t>
            </a:fld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277-364E-4991-A2B3-39A71DA38C69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60948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....   sus resultados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DA4-22D3-4C44-8A4A-FD582E00C451}" type="slidenum">
              <a:t>13</a:t>
            </a:fld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1344600"/>
            <a:ext cx="8686800" cy="5361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38080" y="609480"/>
            <a:ext cx="72392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.....algo más.......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955-E439-4988-96CB-66E09CB0DC74}" type="slidenum">
              <a:t>14</a:t>
            </a:fld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533520" y="228600"/>
            <a:ext cx="9677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evolución sindicalismo nacional en últimas 4 décadas......</a:t>
            </a:r>
            <a:r>
              <a:rPr b="1" lang="es-ES_tradnl" sz="44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-228600" y="1219320"/>
          <a:ext cx="96012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19320"/>
                    <a:ext cx="96012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667E-AD8E-4CB2-A8BA-BE3E2E6F5BE1}" type="slidenum">
              <a:t>2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Comic Sans MS"/>
              </a:rPr>
              <a:t>evolución sindicalismo nacional última década</a:t>
            </a:r>
            <a:r>
              <a:rPr b="1" lang="es-ES_tradnl" sz="2800" spc="-1" strike="noStrike">
                <a:solidFill>
                  <a:srgbClr val="ff9900"/>
                </a:solidFill>
                <a:latin typeface="Comic Sans MS"/>
              </a:rPr>
              <a:t>...</a:t>
            </a:r>
            <a:r>
              <a:rPr b="0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838080" y="1447920"/>
          <a:ext cx="1447776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38080" y="1447920"/>
                    <a:ext cx="1447776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718-F352-4003-96C5-EA625774D4F2}" type="slidenum">
              <a:t>3</a:t>
            </a:fld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cc66"/>
                </a:solidFill>
                <a:latin typeface="Times New Roman"/>
              </a:rPr>
              <a:t>...  </a:t>
            </a:r>
            <a:r>
              <a:rPr b="0" lang="es-ES_tradnl" sz="4000" spc="-1" strike="noStrike">
                <a:solidFill>
                  <a:srgbClr val="ffcc66"/>
                </a:solidFill>
                <a:latin typeface="Comic Sans MS"/>
              </a:rPr>
              <a:t>trabajadores negociando por año, como % de la F. T. ocupada..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91: </a:t>
            </a:r>
            <a:r>
              <a:rPr b="1" lang="es-ES_tradnl" sz="3200" spc="-1" strike="noStrike">
                <a:solidFill>
                  <a:srgbClr val="00cc00"/>
                </a:solidFill>
                <a:latin typeface="Times New Roman"/>
              </a:rPr>
              <a:t>257.000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5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7: 193.000 (5,1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2: 226.000 (4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8: 206.000 (5,5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3:256.000 (5,0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9: 161.000 (4,3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4:236.000 (4,6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0: 182.000 (4,9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5:214.000 (4,1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1: 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160.000 (2,9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96:221.000 </a:t>
            </a:r>
            <a:r>
              <a:rPr b="1" lang="es-ES_tradnl" sz="3200" spc="-1" strike="noStrike">
                <a:solidFill>
                  <a:srgbClr val="00cc00"/>
                </a:solidFill>
                <a:latin typeface="Times New Roman"/>
              </a:rPr>
              <a:t>(6,0%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02: 175.000 (3,2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05D-D6DA-4A00-A815-D30D84CFAF91}" type="slidenum">
              <a:t>4</a:t>
            </a:fld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45A-B48F-4B74-A416-295834EC5931}" type="slidenum">
              <a:t>5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1143000"/>
          <a:ext cx="9144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FC67-B7B9-419A-B806-DD7ED2939C23}" type="slidenum">
              <a:t>6</a:t>
            </a:fld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12600"/>
          <a:ext cx="11963520" cy="681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00"/>
                    <a:ext cx="11963520" cy="68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D9F-61AB-417C-9F95-8D772865DBC3}" type="slidenum">
              <a:t>7</a:t>
            </a:fld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263600"/>
            <a:ext cx="9144000" cy="55944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Comic Sans MS"/>
              </a:rPr>
              <a:t>como se aprecia  el índice  de conflictividad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23C-22A3-41B7-8692-6A7EA8B51440}" type="slidenum">
              <a:t>8</a:t>
            </a:fld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s-MX" sz="4000" spc="-1" strike="noStrike">
                <a:solidFill>
                  <a:srgbClr val="ffcc66"/>
                </a:solidFill>
                <a:latin typeface="Comic Sans MS"/>
              </a:rPr>
              <a:t>y las huelgas, cuánto duran..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3C5-C9E5-492B-9F28-16194E723D3B}" type="slidenum">
              <a:t>9</a:t>
            </a:fld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4T22:17:55Z</dcterms:created>
  <dc:creator>Computador Personal</dc:creator>
  <dc:description/>
  <dc:language>en-US</dc:language>
  <cp:lastModifiedBy>Héctor Humeres</cp:lastModifiedBy>
  <dcterms:modified xsi:type="dcterms:W3CDTF">2005-05-26T21:08:10Z</dcterms:modified>
  <cp:revision>93</cp:revision>
  <dc:subject/>
  <dc:title>La negociación colectiva</dc:title>
</cp:coreProperties>
</file>