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033-8427-48EC-BC49-AEB39DBD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DA8-7418-44A6-BC6D-50D7CCE7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809-F5C4-4872-85C0-008C21E5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DFE-3D81-4B96-954E-1DD4DD0E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6DB-51D4-45A6-87D1-ECAFFD81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6A2-1793-44B3-99E1-57CB910C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ECF-0727-4592-910F-963BBB4A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FEE-77A2-4588-937E-260D3031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EEF-0B30-4EE6-8DCF-29478D14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042-A470-4887-90C3-CC987271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391-182F-4E1C-87AF-8EA73E01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A01-DA17-4126-B579-8FBB355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0400-5C56-4EF5-A34E-EAE1FEE17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10698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La empresa y las relaciones del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Héctor Humeres Nog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23:28:08Z</dcterms:created>
  <dc:creator>Computador Personal</dc:creator>
  <dc:description/>
  <dc:language>en-US</dc:language>
  <cp:lastModifiedBy>Héctor Humeres</cp:lastModifiedBy>
  <dcterms:modified xsi:type="dcterms:W3CDTF">2005-04-18T13:53:20Z</dcterms:modified>
  <cp:revision>6</cp:revision>
  <dc:subject/>
  <dc:title>Sin título de diapositiva</dc:title>
</cp:coreProperties>
</file>