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CFC-EBEF-42FF-92C8-2249108C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4E8-8D6B-436F-9FF1-1CF52A01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660-7527-471D-A0B1-3829EE77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E98-816A-4D6A-AF64-3E9493DC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48D-986A-41BD-946D-31C865D1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FE2-65FC-4538-907E-3D00235D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29E-A62A-41B6-8E77-A5F1F768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422-5215-49F7-99A9-E7DACCCB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CB1-3440-4D13-9812-AE90F87E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BE4-AFF5-46B6-B6CE-973A0DAD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00F-EC88-4D37-9E89-2AEF488F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62A-08CF-4E50-8FDC-4E4DBC4F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0027-A64A-4520-A062-C02F14354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95280"/>
            <a:ext cx="10698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La empresa y las relaciones del 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Héctor Humeres Nog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23:28:08Z</dcterms:created>
  <dc:creator>Computador Personal</dc:creator>
  <dc:description/>
  <dc:language>en-US</dc:language>
  <cp:lastModifiedBy>Héctor Humeres</cp:lastModifiedBy>
  <dcterms:modified xsi:type="dcterms:W3CDTF">2005-04-18T13:53:20Z</dcterms:modified>
  <cp:revision>6</cp:revision>
  <dc:subject/>
  <dc:title>Sin título de diapositiva</dc:title>
</cp:coreProperties>
</file>