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9748-E525-4E35-9BEB-2AC973FF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3938-DB23-4856-853D-35A6BD70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7638-2E19-4078-A2E3-D015EB61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AB0-5EC1-4B30-87EE-FD5AC1D56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7A33-6666-48F5-9F9E-4953E549E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6153-0443-47E4-A423-C521F71B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E093-E535-4286-A4F2-09195E63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2E75-0B41-4B4C-AB97-55530ACD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B16B-E099-4B89-8ECA-A5CBA9B1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5879-9F33-40F8-8573-972A62C1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E81-62C3-477A-AE2A-2D03E9D8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A873-974A-4511-818C-BCF7E8DE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64B6-605C-4739-A909-5D216C60E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295280"/>
            <a:ext cx="1069812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La empresa y las relaciones del 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s-ES_tradnl" sz="4400" spc="-1" strike="noStrike">
                <a:solidFill>
                  <a:srgbClr val="ffff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Héctor Humeres Nogu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238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0T23:28:08Z</dcterms:created>
  <dc:creator>Computador Personal</dc:creator>
  <dc:description/>
  <dc:language>en-US</dc:language>
  <cp:lastModifiedBy>Héctor Humeres</cp:lastModifiedBy>
  <dcterms:modified xsi:type="dcterms:W3CDTF">2005-04-18T13:53:20Z</dcterms:modified>
  <cp:revision>6</cp:revision>
  <dc:subject/>
  <dc:title>Sin título de diapositiva</dc:title>
</cp:coreProperties>
</file>