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CAD-C9A9-4CAC-9A7C-D1D9EB19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810-C7A5-4C86-960C-4C42FF0C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AF9-D1A1-49D9-BE29-02654E8D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EEC-5A74-4298-8189-3968BF13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25B-F240-430C-BF6E-72DFEF58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167-185D-4B11-A92F-393AAB86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59F-D896-41B2-8642-C6EE5257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C5E-60F7-496E-8B56-65D36D6A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D24-BA31-4467-8F5E-30C2E4EA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CAB-6CD6-40FD-89E3-FB1CAFFD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017-F03F-4B65-A0DC-D1CD812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C0E-C15E-4BBE-8048-6F258144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FAB7-8C6E-49DF-BFD2-CC43BF77A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10698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La empresa y las relaciones del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Héctor Humeres Nog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23:28:08Z</dcterms:created>
  <dc:creator>Computador Personal</dc:creator>
  <dc:description/>
  <dc:language>en-US</dc:language>
  <cp:lastModifiedBy>Héctor Humeres</cp:lastModifiedBy>
  <dcterms:modified xsi:type="dcterms:W3CDTF">2005-04-18T13:53:20Z</dcterms:modified>
  <cp:revision>6</cp:revision>
  <dc:subject/>
  <dc:title>Sin título de diapositiva</dc:title>
</cp:coreProperties>
</file>