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57D-9DD5-4726-9E9B-DC93D02C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185-8888-4EC7-9BC6-1FBAD27F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8C9-AB9D-4C82-A345-AFB9BD78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624-2A81-4496-9DC4-C21B9838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573-D224-4222-81B4-A34759B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079-1DA3-4515-8060-F4C1A444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B98-F603-4821-AC5A-231865B6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853-9BE4-4A14-9408-F0C469CF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CBB-F262-45CC-AD1D-DAEC1203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640-1661-4DCD-BC41-02F5A54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D24-29EE-4A57-903C-1E44181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BD8-FFB1-4357-BFA4-DD65B925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C517-A71E-4026-91B3-29B54537C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315" name="_s75804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75803"/>
            <p:cNvCxnSpPr>
              <a:stCxn id="319" idx="0"/>
              <a:endCxn id="317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75802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7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sólo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2:19:41Z</dcterms:modified>
  <cp:revision>12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