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9228B-468C-4980-8456-1EECA32A0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D93E-34DB-4B4E-A0ED-6E7C37BD5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02F1-BE5C-49CD-95D3-036320BED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D76D-C491-4418-9E57-3EC49E80B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3C82-E995-4609-8438-A35ECA19E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9923E-7135-498F-92AD-94DC74D51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9D6E-71C7-457B-93E0-44BE3C76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67DC-8680-411F-9212-E010687E8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58758-0676-4B1F-BC6A-F6B005104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37520-046A-41E6-BF4C-3083FAFE2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DEF3-1E93-407B-BB28-C9DC4BA28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D422-29DE-4F0C-90D7-5A0C5A21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991AA-C841-4FB9-9779-6548AF0BBD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197000"/>
            <a:ext cx="727416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finición: art. 17 Le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s aplicables a todo endoso (arts. 17 y 19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 de forma: firma del portador legítimo estampada al dorso del documento o en una hoja de prolong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de fond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) debe ser puro y simp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) debe ser total: debe por tanto ser de un solo tipo y no puede referirse a partes alícuotas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26920" y="1773360"/>
            <a:ext cx="7274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onas que intervienen:  endosante (acto jurídico unilateral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tener calidad de portador legítimo o dueño, salvo caso de endoso en cob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757080" y="13413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ocumentos a la orden, a favor de, a disposición de, equivalen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ítulos de crédito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plican normas de endoso y extravío, pérdida o deteri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jempl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rivados de Operaciones bancarias (Depósitos, Boletas Bancarias, Cartas de Crédi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utuos hipotecarios endosables DFL 251 y Ley Bancos 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641160" y="1338120"/>
            <a:ext cx="5303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y 18.552: Tratamiento Títulos de Crédit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826920" y="1413000"/>
            <a:ext cx="727416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 será cada vez que no se indique la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nsfiere derechos del benefi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arantiza aceptación y pago de la letra, o sea, convierte al endosante en codeudor solidario, salvo estipulación contraria (1907 Código Civil, garantía de hecho y de derech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hibición de nuevos endosos: limita responsabilidad frente a nuevos endosatar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ortador legítimo: (i) serie no interrumpida de endosos, (ii) buena fe y desconocimiento de origen irregul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ones personales no se transmiten (Ref. Cesión de nominativ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go al endosatario: sólo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debe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cerciorarse de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identidad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de cobrador y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continuidad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de endos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664920" y="1336680"/>
            <a:ext cx="2821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raslaticio de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o pignoraticio: ¿situación fiducia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f. especialidad de la prenda: aplicación a letras, pagarés y títulos de créditos de din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sigue siendo el beneficiari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acreedor prendario del créd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el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cepciones personales: respecto de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ndosa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usencia de pacto comisorio en la prenda (DL776/25)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n garantía cobra judicial o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xtrajudicial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Y aplica a su crédito y rinde cuenta al endos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no responde de falta de aceptación o pago, salvo mención contrari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ón de conserv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n garantía sólo puede endosar en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677160" y="1338120"/>
            <a:ext cx="276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prenda o garantí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1773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723600" y="1338120"/>
            <a:ext cx="1307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cobr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611280" y="2144880"/>
            <a:ext cx="806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iputado para el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sigue siendo el benefici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s mandatar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es el portador: excepciones personales a su respec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nte no responde de falta de aceptación o pa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dosatario ejerce derechos, tiene facultades del mandato judicial, inclusive art. 7 inciso 2° CPC (alternativa al mandato judicial del art. 6 Código de Procedimiento Civil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o debe comparecer según ley de comparecencia en juic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puede endosar en dominio o garantía, sí en cob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ón de conserva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6920" y="1773360"/>
            <a:ext cx="727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Endo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721800" y="1338120"/>
            <a:ext cx="141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 blanco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11280" y="2144880"/>
            <a:ext cx="8064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fecto de transferir el domin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mite por ende endosar en dominio, en blanco, en cobro, en garantí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sponsabilidad solidaria endosante en blanc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puede transferir como documento al port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0:32Z</dcterms:created>
  <dc:creator>Fernanda Zelada </dc:creator>
  <dc:description/>
  <dc:language>en-US</dc:language>
  <cp:lastModifiedBy>Octavio Bofill G.</cp:lastModifiedBy>
  <dcterms:modified xsi:type="dcterms:W3CDTF">2005-05-31T22:53:23Z</dcterms:modified>
  <cp:revision>30</cp:revision>
  <dc:subject/>
  <dc:title>Diapositiva 1</dc:title>
</cp:coreProperties>
</file>