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928D-DBB9-4DED-AF3E-6EB2556E2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94B62-1EC1-430F-8C57-60C78AA46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E6C7-1F0B-4F49-BFA1-51BC309FF3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28DE8-F46A-41EB-B1C5-80994D7BD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1CE6-BF02-44A1-A2B5-ABB67A5C9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319F9-1BDF-4944-BE8F-D96F07D24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EBDF8-677D-4211-A4B8-F9D13AF86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6E0A-E68D-45AC-B0DF-E394996BE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2678-C12F-450C-B6D9-DD1F98813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5D7D-0252-4F0C-B99F-2E7B92131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9D27-9C19-4314-8D29-212A7D5AF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2DED-ADBE-4F07-8BDF-7C6BA6910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E8DFA-7DB5-44BB-8271-956FC8E541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197000"/>
            <a:ext cx="727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: art. 17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s aplicables a todo endoso (arts. 17 y 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 de forma: firma del portador legítimo estampada al dorso del documento o en una hoja de prolon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de fo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debe ser puro y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debe ser total: debe por tanto ser de un solo tipo y no puede referirse a partes alícuotas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773360"/>
            <a:ext cx="727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s que intervienen:  endosante (acto jurídico unilate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tener calidad de portador legítimo o dueño, salvo caso de endoso en co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7080" y="1341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ocumentos a la orden, a favor de, a disposición de, equi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lican normas de endoso y extravío, pérdida o deteri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ivados de Operaciones bancarias (Depósitos, Boletas Bancarias, Cartas de Créd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utuos hipotecarios endosables DFL 251 y Ley Bancos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41160" y="1338120"/>
            <a:ext cx="53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y 18.552: Tratamiento Títulos de Créd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1413000"/>
            <a:ext cx="727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será cada vez que no se indique l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iere derechos del benefi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arantiza aceptación y pago de la letra, o sea, convierte al endosante en codeudor solidario, salvo estipulación contraria (1907 Código Civil, garantía de hecho y de derec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hibición de nuevos endosos: limita responsabilidad frente a nuevos endosa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tador legítimo: (i) serie no interrumpida de endosos, (ii) buena fe y desconocimiento de origen 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 personales no se transmiten (Ref. Cesión de nomin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o al endosatario: sólo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deb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cerciorarse 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identidad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cobrador y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continuidad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end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4920" y="133668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slaticio de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o pignoraticio: ¿situación fiducia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f. especialidad de la prenda: aplicación a letras, pagarés y títulos de créditos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sigue siendo el beneficiar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acreedor prendario del créd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el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 personales: respecto d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ndosa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usencia de pacto comisorio en la prenda (DL776/25)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n garantía cobra judicial o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xtrajudic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plica a su crédito y rinde cuenta al endo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no responde de falta de aceptación o pago, salvo mención contra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ón de conserv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n garantía sólo puede endosar en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7160" y="133812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renda o garant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773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3600" y="1338120"/>
            <a:ext cx="13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14488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putado para el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sigue siendo el benefi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manda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es el portador: excepciones personales a su resp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no responde de falta de aceptación 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jerce derechos, tiene facultades del mandato judicial, inclusive art. 7 inciso 2° CPC (alternativa al mandato judicial del art. 6 Código de Procedimiento Civ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o debe comparecer según ley de comparecencia en ju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uede endosar en dominio o garantía, sí en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ón de conserv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1773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21800" y="13381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blan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14488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o de transferir el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mite por ende endosar en dominio, en blanco, en cobro, e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sponsabilidad solidaria endosante en blan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uede transferir como documento al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Octavio Bofill G.</cp:lastModifiedBy>
  <dcterms:modified xsi:type="dcterms:W3CDTF">2005-05-31T22:53:23Z</dcterms:modified>
  <cp:revision>30</cp:revision>
  <dc:subject/>
  <dc:title>Diapositiva 1</dc:title>
</cp:coreProperties>
</file>