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9FC-8755-4D79-96B6-763AB36E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0CC-82FB-40D2-99A4-46BC53AA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843-0AFE-4FA9-B2DD-5E966154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E7E-9082-42B9-991D-CDAF9795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E1D-F236-4626-B00D-4EECAA4F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000-49D2-4828-BA70-04A87CFE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53B-4102-4B18-AAD2-17E603F7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1CA-C987-491C-A99E-AC7D58DF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1B1-C473-4815-8D88-D9ECE100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785-13D7-4A4B-A89C-0012A29F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193-DE68-471E-8FC8-F593AF9F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411-2603-49D1-83C3-47C5B36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5933-C7EA-4056-83E4-5F1F13144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197000"/>
            <a:ext cx="727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: art. 17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s aplicables a todo endoso (arts. 17 y 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 de forma: firma del portador legítimo estampada al dorso del documento o en una hoja de prolon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de fo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) debe ser puro y s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i) debe ser total: debe por tanto ser de un solo tipo y no puede referirse a partes alícuotas de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773360"/>
            <a:ext cx="727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sonas que intervienen:  endosante (acto jurídico unilater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be tener calidad de portador legítimo o dueño, salvo caso de endoso en co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7080" y="1341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ocumentos a la orden, a favor de, a disposición de, equi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ítulos de crédito de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lican normas de endoso y extravío, pérdida o deteri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rivados de Operaciones bancarias (Depósitos, Boletas Bancarias, Cartas de Crédi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utuos hipotecarios endosables DFL 251 y Ley Bancos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41160" y="1338120"/>
            <a:ext cx="53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y 18.552: Tratamiento Títulos de Crédi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1413000"/>
            <a:ext cx="727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será cada vez que no se indique l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nsfiere derechos del benefic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arantiza aceptación y pago de la letra, o sea, convierte al endosante en codeudor solidario, salvo estipulación contraria (1907 Código Civil, garantía de hecho y de derec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hibición de nuevos endosos: limita responsabilidad frente a nuevos endosa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tador legítimo: (i) serie no interrumpida de endosos, (ii) buena fe y desconocimiento de origen ir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ones personales no se transmiten (Ref. Cesión de nominat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go al endosatario: sólo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deb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cerciorarse d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identidad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de cobrador y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continuidad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de end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4920" y="133668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slaticio de 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773360"/>
            <a:ext cx="727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o pignoraticio: ¿situación fiducia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f. especialidad de la prenda: aplicación a letras, pagarés y títulos de créditos de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sigue siendo el beneficiar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s acreedor prendario del crédi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s el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ones personales: respecto d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ndosa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usencia de pacto comisorio en la prenda (DL776/25)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n garantía cobra judicial o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xtrajudici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Y aplica a su crédito y rinde cuenta al endo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no responde de falta de aceptación o pago, salvo mención contra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ción de conserv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n garantía sólo puede endosar en co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77160" y="133812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renda o garantí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77336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23600" y="1338120"/>
            <a:ext cx="13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cob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2144880"/>
            <a:ext cx="806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putado para el co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sigue siendo el benefic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s manda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es el portador: excepciones personales a su resp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no responde de falta de aceptación o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jerce derechos, tiene facultades del mandato judicial, inclusive art. 7 inciso 2° CPC (alternativa al mandato judicial del art. 6 Código de Procedimiento Civi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o debe comparecer según ley de comparecencia en ju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puede endosar en dominio o garantía, sí en co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ción de conserv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177336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21800" y="13381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blan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214488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fecto de transferir el 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mite por ende endosar en dominio, en blanco, en cobro, en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sponsabilidad solidaria endosante en blan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puede transferir como documento al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21:30:32Z</dcterms:created>
  <dc:creator>Fernanda Zelada </dc:creator>
  <dc:description/>
  <dc:language>en-US</dc:language>
  <cp:lastModifiedBy>Octavio Bofill G.</cp:lastModifiedBy>
  <dcterms:modified xsi:type="dcterms:W3CDTF">2005-05-31T22:53:23Z</dcterms:modified>
  <cp:revision>30</cp:revision>
  <dc:subject/>
  <dc:title>Diapositiva 1</dc:title>
</cp:coreProperties>
</file>