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E88-31C1-4F3A-B3C0-A07E888C2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0E59-77BC-41AD-9603-1C61BC28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F4E5-347C-4444-B40C-DC0089F4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981-99B8-40E5-97A2-7F4558F4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8997-9EFE-4730-A7B7-970C01D7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198-4E89-4E0A-851A-DCFF9ED1C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419-7C1A-4EDE-8FF1-7D3B4960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432-E26D-4C10-A634-70CCDE06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00C4-F052-48EF-BEFE-729AEAAD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F40A-6405-48C3-BD39-24777F21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3DF-528E-48E1-A752-883F70F2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EDA-882B-462F-A6A6-90B64DCA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B725-13FB-4C97-B778-213CAFF59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6920" y="1773360"/>
            <a:ext cx="7274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Indicación de ser pagaré en el mismo idioma empleado en el tít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Promesa, no sujeta a condición, de pagar una determinada o determinable cantidad de di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Lugar y época del pago. Si nada dice se entiende pagadero en el lugar de expedición y a la v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Pagar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6520" y="1338120"/>
            <a:ext cx="187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6920" y="1773360"/>
            <a:ext cx="7632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iene lugar cuando librador gira cheques por monto superior a sus depósitos en cuenta corriente, a la línea de crédito contratada y sin disponer de un crédito autorizado previamente. Es voluntario para banco aceptar o no sobregi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sobregiro es autorizado los próximos depósitos de cuenta correntista se destinará a pagar dicho sobregi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uenta corriente bancaria y che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703440" y="1338120"/>
            <a:ext cx="143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regi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6920" y="1773360"/>
            <a:ext cx="763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contrato puede terminar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Vencimiento del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Acuerdo de las par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Pérdida de la libre administración de los bienes por parte del cuenta corrent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Quiebra del cuenta corrent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Cualquier causal que estipulen las par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uenta corriente bancaria y che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70680" y="1338120"/>
            <a:ext cx="277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érmino del contr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920" y="1773360"/>
            <a:ext cx="76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10: defini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rden escrita y girada contra un banco para que éste pague, a su presentación, el todo o parte de los fondos que el librador pueda disponer en cuenta corr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cheque es siempre pagadero a la vista, no existe el cheque a fecha. No obstante se giran cheques en garant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uede ser girado a la orden, al portador o nomina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uenta corriente bancaria y che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18560" y="1338120"/>
            <a:ext cx="117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q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26920" y="1773360"/>
            <a:ext cx="7632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13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Nombre del lib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Lugar y fecha de la expedi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Cantidad girada en letras y núme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Firma del lib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Si se gira en comisión de cobranza debe indicar palabras “para mí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uenta corriente bancaria y che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656640" y="1338120"/>
            <a:ext cx="29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del cheq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1773360"/>
            <a:ext cx="7274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Nombre y apellido del beneficiario o de la persona a cuya orden debe hacerse el pago o la indicación de ser pagadero al port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Lugar y fecha de expedi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6. Firma del suscrip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anción a falta de formalidades, al igual que en la letra de cambio, es que no se considerará pagar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Pagar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6520" y="1338120"/>
            <a:ext cx="187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lida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773360"/>
            <a:ext cx="7632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Puede ser girado al portador (sin designar beneficiario y sin cláusula a la orde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Normas supletorias del lugar del pago, a falta de designación de domicilio especial será el lugar de emisión del pago, no el domicilio del suscrip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Consecuencia del punto anterior es que no se requiere como formalidad la indicación del domicilio del suscrip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Puede contener pago de capital e intereses adeudados, en cuotas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Pagar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39000" y="1338120"/>
            <a:ext cx="40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erencias con letra de camb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773360"/>
            <a:ext cx="763272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1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uede ser extendi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 la vi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 un plazo contado desde su fecha de emi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 un día fijo y determin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Pagar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56640" y="1338120"/>
            <a:ext cx="30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ncimiento del pagar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1773360"/>
            <a:ext cx="7632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1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pagaré puede contener vencimientos suces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de aceleración debe constar en el pagaré. No se presu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uede convenirse que opere ipso facto o dando el derecho al portador de exigir el total insol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Pagar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56640" y="1338120"/>
            <a:ext cx="30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ncimiento del pagar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26920" y="177336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 acuerdo al artículo 106 el suscriptor queda obligado de igual manera que el aceptante, por lo tanto responderá en los mismos térmi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Pagar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13800" y="1338120"/>
            <a:ext cx="39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abilidad del suscrip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6920" y="1773360"/>
            <a:ext cx="763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arco regulatorio              D.F.L. 7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1: Definición contrato de cuenta corriente banc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trato a virtud del cual un banco se obliga a cumplir las órdenes de pago de otra persona hasta concurrencia de las cantidades de dinero que se hubiere depositado en ella del crédito que se haya estipul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ay mandato de librador a librado (banco) para que a la sola presentación del cheque se pag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uenta corriente bancaria y che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04440" y="1338120"/>
            <a:ext cx="48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ato de cuenta corriente banca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227664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1773360"/>
            <a:ext cx="763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Consensual: no hay norma que lo sujete a formalidad alguna, pero en la práctica se otorga por escr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De adhe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Bilateral: aunque en principio el cuenta correntista no asume oblig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Para el banco siempre es mercantil, para cuenta correntista lo será dependiendo de la teoría de lo acces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uenta corriente bancaria y che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47640" y="1338120"/>
            <a:ext cx="35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acterísticas del contra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26920" y="1773360"/>
            <a:ext cx="7632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uenta corriente bancaria de depósito              la más común, librador deposita fondos en la cuenta para efectos de que se paguen los cheques gi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uenta corriente bancaria de crédito                   corresponde a la línea de crédito relacionada a una cuenta corriente bancaria de depós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uenta corriente bancaria y che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28200" y="1338120"/>
            <a:ext cx="43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pos de cuenta corriente banca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227640" y="2276640"/>
            <a:ext cx="86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51640" y="3500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00:54:28Z</dcterms:created>
  <dc:creator>Fernanda Zelada </dc:creator>
  <dc:description/>
  <dc:language>en-US</dc:language>
  <cp:lastModifiedBy>Fernanda Zelada </cp:lastModifiedBy>
  <dcterms:modified xsi:type="dcterms:W3CDTF">2005-06-02T17:26:34Z</dcterms:modified>
  <cp:revision>7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36389811</vt:r8>
  </property>
  <property fmtid="{D5CDD505-2E9C-101B-9397-08002B2CF9AE}" pid="3" name="_AuthorEmail">
    <vt:lpwstr>obofill@grasty.cl</vt:lpwstr>
  </property>
  <property fmtid="{D5CDD505-2E9C-101B-9397-08002B2CF9AE}" pid="4" name="_AuthorEmailDisplayName">
    <vt:lpwstr>Octavio Bofill</vt:lpwstr>
  </property>
  <property fmtid="{D5CDD505-2E9C-101B-9397-08002B2CF9AE}" pid="5" name="_EmailSubject">
    <vt:lpwstr>Taller TC 4.ppt</vt:lpwstr>
  </property>
  <property fmtid="{D5CDD505-2E9C-101B-9397-08002B2CF9AE}" pid="6" name="_PreviousAdHocReviewCycleID">
    <vt:r8>-1411212588</vt:r8>
  </property>
</Properties>
</file>