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19E7-6B52-47EF-A20A-1A0792E1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A69-BE1E-4543-B1EB-547D493A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00D-9A17-423C-BFE9-4C1619954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33A-E843-4BD1-95EE-2738FF32C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633E-530E-492A-9DEF-BB66D585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B7F-CEE3-4EC2-9665-D3ABAE54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37BB-9EF9-45B7-90FA-6FCFFCCE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19B5-D7C1-4DC2-A843-C3BDCF9B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5B8B-EC00-429A-813C-C8BF94D7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A1A2-1144-41B3-9241-26E7EC99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3B8-7EED-4998-8888-77574C0E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87E5-037C-4808-A004-F83B7955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C618-6246-4C17-9659-3D4480E7C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773360"/>
            <a:ext cx="727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den de pago, estampada en el documento, bajo la firma de quien la da, llamado librador, que se hace responsable de el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ueden ser librador una o más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70320" y="133812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bramiento o gi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1773360"/>
            <a:ext cx="72741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¿Quién debe requerir la aceptación?            Art.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lazo para requerir aceptación depende de la forma del vencimien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tra girada a día fijo: al término del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tra girada a un plazo contado desde la vista: 1 año a contar de fecha de emisión. En este caso siempre debe fecharse la aceptación, sea por aceptante o mediante el protesto por falta de fe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tra girada a la vista: máximo 1 año a contar de fecha de em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43680" y="1338120"/>
            <a:ext cx="41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eptación de la letra de camb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08720" y="2276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6920" y="1773360"/>
            <a:ext cx="727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ías y horas hábiles para requerir aceptación         art. 3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 para requerir aceptación           art. 3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eptación de letra incompleta o protestada        arts. 39 y 4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Época en la cual librado debe declarar aceptación        art. 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tiro de la aceptación        art. 4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3680" y="1338120"/>
            <a:ext cx="41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eptación de la letra de camb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084720" y="227664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9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940360" y="3500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64000" y="47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1672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26920" y="1773360"/>
            <a:ext cx="76327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48: modalidades del g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la vista: es pagadera a su presentación al librado, debe ser presentada al pago esté aceptada o no, dentro del plazo de un año a contar del giro. Igual plazo para ser protest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un plazo de la vista: desde la fecha de la aceptación o del protesto por falta de aceptación o de fech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81120" y="1338120"/>
            <a:ext cx="261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ncimiento y pag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26920" y="1773360"/>
            <a:ext cx="763272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un plazo de la fecha del giro: art. 50 inc. 2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día fijo y determinado: art. 50 inc. 3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vale como letra de cambio la girada a otros vencimientos o a vencimientos suces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81120" y="1338120"/>
            <a:ext cx="25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ncimiento y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26920" y="1773360"/>
            <a:ext cx="7632720" cy="41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Época del pago            arts. 52 y 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portador sólo puede exigir el pago al librador o aceptante a su ven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alquier obligado al pago o un tercero aún contra la voluntad del portador, pueden pagar la letra en cualquier tiempo si cumplen con las disposiciones de Ley Nº 18.010 (art. 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 del pago              lugar que señale la letra o domicilio del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. Art. 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681120" y="1338120"/>
            <a:ext cx="25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ncimiento y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71640" y="2276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71640" y="501336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26920" y="1773360"/>
            <a:ext cx="763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go parcial           art. 54 inc. 2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go por consignación            Reglas de CC  y art. 70: sólo otorga garantía absoluta para evitar protesto cuando la letra designa la comuna del lugar del p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81120" y="1338120"/>
            <a:ext cx="25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ncimiento y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843280" y="227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995640" y="2924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773360"/>
            <a:ext cx="727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Regla general          letra sea girada a la orden de un tercero y/o con cargo a un terc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cepciones: (art. 3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Giro a la propia orden del librador: librador y beneficiario son la misma persona (situación más comú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Giro con cargo al librador: librador y librado-aceptante son la misma pers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53760" y="1338120"/>
            <a:ext cx="27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alidades de gi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48000" y="2276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773360"/>
            <a:ext cx="7274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Giro contra varias personas          pluralidad de libr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ipos (art. 4º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Librados alternativos: todos tiene la misma calidad, son coaceptantes, posibilidad de solida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Librados subsidiarios: orden de prelación para acep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53760" y="1338120"/>
            <a:ext cx="27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alidades de gi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2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1773360"/>
            <a:ext cx="727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Letra domiciliada         permite que el lugar del pago sea distinto al del domicilio del lib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5 y 1 Nº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53760" y="1338120"/>
            <a:ext cx="27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dalidades de gi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2276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773360"/>
            <a:ext cx="7274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: art. 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s aplicables a todo endoso (arts. 17 y 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 de forma: firma del portador legítimo estampada al dorso del documento o en una hoja de prolong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s de fo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) debe ser puro y si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i) debe ser total: debe por tanto ser de un solo tipo y no puede referirse a partes alícuotas de la le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20720" y="133812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o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26920" y="1773360"/>
            <a:ext cx="727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sonas que intervienen:  endosante (acto jurídico unilater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be tener calidad de portador legítimo o dueño, salvo caso de endoso en co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20720" y="133812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do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26920" y="1773360"/>
            <a:ext cx="727416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s. 17, 21, 23 y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slaticio de dominio: lo será cada vez que no se indique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prenda o garantía: requiere mención ex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cobro: importa mandato para su cobro, también requiere mención ex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blanco: no señala nombre del endosatario o señala “al portador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8680" y="13381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es de endo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6920" y="1773360"/>
            <a:ext cx="727416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 de otorgamiento: si se omite se entiende realizado en el domicilio del endos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echa de otorgamiento: si se omite se presume efectuado antes del ven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lidad o clase de endoso (art. 2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mbre del endosatario (art. 2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620640" y="1338120"/>
            <a:ext cx="40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ras enunciaciones del endo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773360"/>
            <a:ext cx="727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o escrito del librado, estampado con su firma en el anverso de la letra de cambio, en que manifiesta su voluntad de aceptar el giro o libramiento y en cuya virtud se transforma en el principal obligado al pago del docu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 aceptación debe ser pura y simple (art. 4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43 faculta a aceptante para señalar un lugar para el pago diverso al contenido en la letra, siempre que se encuentre en la misma provi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43680" y="1338120"/>
            <a:ext cx="41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eptación de la letra de camb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21:30:32Z</dcterms:created>
  <dc:creator>Fernanda Zelada </dc:creator>
  <dc:description/>
  <dc:language>en-US</dc:language>
  <cp:lastModifiedBy>Fernanda Zelada </cp:lastModifiedBy>
  <dcterms:modified xsi:type="dcterms:W3CDTF">2005-06-02T16:34:15Z</dcterms:modified>
  <cp:revision>22</cp:revision>
  <dc:subject/>
  <dc:title>Diapositiva 1</dc:title>
</cp:coreProperties>
</file>