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EF76-516A-46CD-8104-7DD95F15D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A12B-71B0-4B90-A347-B9E44E46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14873-E331-4FF1-9474-022A8770F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8EC48-4B0B-4666-963E-2E2F12078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347A1-59F6-4CA2-8847-2149E0346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709-2AF0-4C24-9F85-6142045D5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D349E-DA17-4C48-B6EE-98436212E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1382-00E6-4CBB-AC2F-04222B506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11D-1F1F-4F90-A283-E276E3967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6F9E-AA84-41C3-9E86-222AAFFDA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D90A-8471-473D-A543-6ABFBDEE2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AFC9-C28A-49F4-986F-E6E50782B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DC38-E436-4616-AE6C-A14628646B7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ntrato de cambio          Renacimiento, Ita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l objetivo era asegurar el transporte de dinero de una plaza a otra debido a las constantes guerras políticas intern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tra de cambio era el medio de ejecución del contrato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620 CCo señala 2 elementos que hoy no tienen importancia en la letra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Promisión de fon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Distancia lo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708360" y="2276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826920" y="1773360"/>
            <a:ext cx="7274160" cy="392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cación de ser letra de cambio (Nº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rden no sujeta a condición de pagar una cantidad determinada o determinable en dinero (Nº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 beneficiario (Nº 4 y art. 18) No es requisito que letra de cambio sea a la orde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dividualización del librado (Nº 5 inciso fi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26920" y="1773360"/>
            <a:ext cx="727416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l librador (Nº 7): giro de la letra, equivale a su perfeccionamiento, sin ella no existe legal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to por el cual el librador manifiesta su voluntad de crear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6.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echa de la emisión (Nº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706320" y="1338120"/>
            <a:ext cx="26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Formalidades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826920" y="1773360"/>
            <a:ext cx="7274160" cy="32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 la emisión (Nº 2)           ley la considera girada en 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ugar del pago (Nº 6)             domicilio del librado señalado en la letr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Vencimiento (Nº 6)                si no contiene fecha de vencimiento se considera pagadera a la vist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643680" y="1338120"/>
            <a:ext cx="344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4427640" y="234936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924360" y="3213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708360" y="414972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menciones que el librador puede insertar en la letra de cambio al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momento del giro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 que la ley autoriza expresamente (art. 13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omuna del lugar del pago (Nº 1): en realidad es mayor precisión del domicilio del libr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reajustabilidad (Nº 2): el sistema de reajustabilidad será el que señale el mismo documento. Si sólo se señala que la letra es reajustable, pero no se indica sistema se aplica Ley Nº 18.010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 intereses (Nº 3): correrán desde la fecha de la emisión de la letra hasta su pago efectivo y se calcularán en base al capital reajustado, salvo mención en contrar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80: intereses moratori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devuelta sin gastos o sin obligación de protesto (Nº 4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librador: no procede perjuicio de la letra (no caducan acciones cambiaria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estampa otro obligado: sólo produce respecto contra é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26920" y="1773360"/>
            <a:ext cx="74170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rotesto: medida conservativa de los derechos del portador de letra de cambio en contra de los obligados por garantía en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juicio: pérdida de los derechos del portador de letra de cambio por no efectuar protes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quellas que no alteren esencia de la letra (Nº 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garantía (art. 25): endosante estampa esta cláusula no haciéndose cargo de los efectos de la falta de aceptación y no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puede estamparla referida sólo acep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65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no endosable: estampada por librador importa que la letra sólo puede transferirse y constituirse en prenda de acuerdo a normas de cesión de créditos nominativos 1901 y ss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i la pacta endosante se produce efecto de cláusula sin garantía: no se hace responsable frente a futuros tenedores del pago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egún aviso: librado no acepta la letra sino hasta aviso del lib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sin aviso: se acepta a la present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86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26920" y="1773360"/>
            <a:ext cx="74170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láusula que altera texto: partes pueden pactar que se altere el texto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dos deben firmar en señal de aceptación de la modificación de la letr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xiste cláusula que otorga facultad a tenedor legítimo de pactar con deudor principal – aceptante la modificación de la letra, típicamente prórroga del plaz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648360" y="1338120"/>
            <a:ext cx="301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26920" y="1773360"/>
            <a:ext cx="74170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11          cualquier tenedor legítimo puede incorporar en la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letra las menciones del artículo 1 antes del cobro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observancia de instrucciones            exención de pag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rt. 39           letra de cambio puede ser aceptada antes del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giro. Consagra carácter práctico del derecho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      comerci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os obligados que no concurran a la modificación de la letra no resultan obliga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692280" y="1338120"/>
            <a:ext cx="238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lenado de la let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63640" y="22766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4932360" y="3213000"/>
            <a:ext cx="64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835280" y="414972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aracterísticas contrato de cambi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consensu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bilateral: consecuenc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) 1489, 1552, 1547 C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) contrato princip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ii) contrato oneroso, conmuta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(iv) contrato nomin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716760" y="1338120"/>
            <a:ext cx="1076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e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26920" y="1773360"/>
            <a:ext cx="72741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e define igual que título de crédito en general. El derecho contenido en ella es el cobro de una suma de diner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uncion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vita peligros y gastos que importa transportar dinero de un lugar a otro ya sea en la misma plaza o en otra distint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dio de pago (efecto de comerc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Instrumento de crédito (descuento bancari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Garantizar obligacio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Firma de uno de los obligados autorizada ante notario es título ejecutivo perfecto. Expedición en la gestión preparatoria de la vía ejecutiv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Solicitud de quiebra deudor califi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662760" y="1338120"/>
            <a:ext cx="260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ciones gener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eneficiario o tomador                 Librado - Acept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enedor o poseed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789360"/>
            <a:ext cx="432000" cy="863640"/>
          </a:xfrm>
          <a:prstGeom prst="downArrow">
            <a:avLst>
              <a:gd name="adj1" fmla="val 50000"/>
              <a:gd name="adj2" fmla="val 4997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651640" y="2492280"/>
            <a:ext cx="358560" cy="792360"/>
          </a:xfrm>
          <a:prstGeom prst="downArrow">
            <a:avLst>
              <a:gd name="adj1" fmla="val 50000"/>
              <a:gd name="adj2" fmla="val 552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635280" y="3357720"/>
            <a:ext cx="863640" cy="288720"/>
          </a:xfrm>
          <a:prstGeom prst="leftArrow">
            <a:avLst>
              <a:gd name="adj1" fmla="val 50000"/>
              <a:gd name="adj2" fmla="val 7478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26920" y="1773360"/>
            <a:ext cx="72741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o girador             persona que emite o gira la letra de cambio y que se obliga a que el librado acepte la letra y la pague a tomador o beneficiarios o a su cesionario leg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Obligaciones que contrae librador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. que librado aceptará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b. letra de cambio se pagará a su vencimi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r y librado pueden ser la mism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635280" y="2276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1773360"/>
            <a:ext cx="72741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ibrado            persona a quien librador le pide que pagu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ersona ajena a la letra de cambio y no tiene obligación cambiaria de ninguna naturalez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Aceptante          librado que ha aceptado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o hay obligación legal de aceptar, solo aquella eventual entre librado y librador que derive de la autonomía de la volunt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700360" y="378936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340000" y="227664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773360"/>
            <a:ext cx="727416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Tomador o beneficiario           primer dueño de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Parte en la relación originaria de la letra de camb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5. Tenedor o poseedor            persona que ha obtenido la letra de cambio conforme a las reglas cambiarias de la circulació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698040" y="1338120"/>
            <a:ext cx="190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ahoma"/>
              </a:rPr>
              <a:t>Intervinie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708360" y="350028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140360" y="234936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1773360"/>
            <a:ext cx="7274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quisitos generales inherentes a calidad de título de crédito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contenerse materialmente en un doc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debe utilizarse un mismo idioma (art.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Tahom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nunciaciones o menciones obligatoria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esenciales             formalida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de la naturale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Menciones accident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Letra de camb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672480" y="1338120"/>
            <a:ext cx="262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igencias formal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095480" y="4795920"/>
            <a:ext cx="1839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0"/>
            <a:ext cx="184320" cy="360"/>
          </a:xfrm>
          <a:prstGeom prst="rightArrow">
            <a:avLst>
              <a:gd name="adj1" fmla="val 0"/>
              <a:gd name="adj2" fmla="val 8694519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56360" y="0"/>
            <a:ext cx="703440" cy="398880"/>
          </a:xfrm>
          <a:prstGeom prst="rightArrow">
            <a:avLst>
              <a:gd name="adj1" fmla="val 0"/>
              <a:gd name="adj2" fmla="val 2994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924360" y="4437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01T21:30:32Z</dcterms:created>
  <dc:creator>Fernanda Zelada </dc:creator>
  <dc:description/>
  <dc:language>en-US</dc:language>
  <cp:lastModifiedBy>Fernanda Zelada </cp:lastModifiedBy>
  <dcterms:modified xsi:type="dcterms:W3CDTF">2005-05-10T00:05:25Z</dcterms:modified>
  <cp:revision>14</cp:revision>
  <dc:subject/>
  <dc:title>Diapositiva 1</dc:title>
</cp:coreProperties>
</file>