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4D7-C0ED-4E1B-ADDB-6810DACF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0C4-B24E-4C8D-AC37-40C41930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3AB-CAC6-4D60-BEC9-144C3667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605-D1BC-4E55-A440-37EA25CA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289-1C6A-481B-ABE4-2D3FE74F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EAE-9E7A-4557-BB7B-79E5FF31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FDE-9CF6-44C0-8F4C-DDE19018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7C0-412A-4373-A20B-EA7D6ED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F1F-354E-488A-BCE0-76507E05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473-84CE-4A4B-AB77-76E93C2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6B6-BE3C-46B7-BDDD-31CCF5B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501-855D-42C2-86E2-0A1AD1D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8958-FDDA-46D8-8074-BE52B587B1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rato de cambio          Renacimiento, It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objetivo era asegurar el transporte de dinero de una plaza a otra debido a las constantes guerras políticas inter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tra de cambio era el medio de ejecución del contrato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20 CCo señala 2 elementos que hoy no tienen importancia en la letra de camb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omisión de fo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istancia l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760" y="13381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22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1773360"/>
            <a:ext cx="727416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ción de ser letra de cambio (Nº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en no sujeta a condición de pagar una cantidad determinada o determinable en dinero (Nº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de beneficiario (Nº 4 y art. 18) No es requisito que letra de cambio sea a la 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del librado (Nº 5 inciso f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6320" y="133812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1773360"/>
            <a:ext cx="727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del librador (Nº 7): giro de la letra, equivale a su perfeccionamiento, sin ella no existe leg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por el cual el librador manifiesta su voluntad de crear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echa de la emisión (Nº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06320" y="133812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1773360"/>
            <a:ext cx="7274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 la emisión (Nº 2)           ley la considera girada en el domicilio del lib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l pago (Nº 6)             domicilio del librado señalado en la let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(Nº 6)                si no contiene fecha de vencimiento se considera pagadera a la v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43680" y="13381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de la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234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21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quellas menciones que el librador puede insertar en la letra de cambio a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momento del gir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accidentales que la ley autoriza expresamente (art. 1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a del lugar del pago (Nº 1): en realidad es mayor precisión del domicilio del lib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 reajustabilidad (Nº 2): el sistema de reajustabilidad será el que señale el mismo documento. Si sólo se señala que la letra es reajustable, pero no se indica sistema se aplica Ley Nº 18.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177336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 intereses (Nº 3): correrán desde la fecha de la emisión de la letra hasta su pago efectivo y se calcularán en base al capital reajustado, salvo mención en contr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80: intereses morato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vuelta sin gastos o sin obligación de protesto (Nº 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estampa librador: no procede perjuicio de la letra (no caducan acciones cambi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estampa otro obligado: sólo produce respecto contra é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177336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testo: medida conservativa de los derechos del portador de letra de cambio en contra de los obligados por garantía en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juicio: pérdida de los derechos del portador de letra de cambio por no efectuar protes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quellas que no alteren esencia de la letra (Nº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in garantía (art. 25): endosante estampa esta cláusula no haciéndose cargo de los efectos de la falta de aceptación y no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puede estamparla referida sólo acep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no endosable: estampada por librador importa que la letra sólo puede transferirse y constituirse en prenda de acuerdo a normas de cesión de créditos nominativos 1901 y ss 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pacta endosante se produce efecto de cláusula sin garantía: no se hace responsable frente a futuros tenedores del pago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egún aviso: librado no acepta la letra sino hasta aviso del lib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in aviso: se acepta a la pres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6920" y="1773360"/>
            <a:ext cx="741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que altera texto: partes pueden pactar que se altere el texto d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dos deben firmar en señal de aceptación de la modificación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iste cláusula que otorga facultad a tenedor legítimo de pactar con deudor principal – aceptante la modificación de la letra, típicamente prórroga d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1          cualquier tenedor legítimo puede incorporar en l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letra las menciones del artículo 1 antes del cob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observancia de instrucciones            exención de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39           letra de cambio puede ser aceptada antes del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giro. Consagra carácter práctico del 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comer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obligados que no concurran a la modificación de la letra no resultan oblig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92280" y="13381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lenado de la l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6364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32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83528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acterísticas contrato de camb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consen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bilateral: 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) 1489, 1552, 1547 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) con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i) contrato oneroso, conmut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v) contrato no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16760" y="13381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define igual que título de crédito en general. El derecho contenido en ella es el cobro de una suma de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ita peligros y gastos que importa transportar dinero de un lugar a otro ya sea en la misma plaza o en otra disti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o de pago (efecto de comerc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de crédito (descuento bancar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arantizar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de uno de los obligados autorizada ante notario es título ejecutivo perfecto. Expedición en la gestión preparatoria de la vía ejecu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quiebra deudor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o gi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eneficiario o tomador                 Librado - Acep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nedor o pos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789360"/>
            <a:ext cx="432000" cy="863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2492280"/>
            <a:ext cx="358560" cy="792360"/>
          </a:xfrm>
          <a:prstGeom prst="downArrow">
            <a:avLst>
              <a:gd name="adj1" fmla="val 50000"/>
              <a:gd name="adj2" fmla="val 552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3357720"/>
            <a:ext cx="863640" cy="288720"/>
          </a:xfrm>
          <a:prstGeom prst="leftArrow">
            <a:avLst>
              <a:gd name="adj1" fmla="val 50000"/>
              <a:gd name="adj2" fmla="val 74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o girador             persona que emite o gira la letra de cambio y que se obliga a que el librado acepte la letra y la pague a tomador o beneficiarios o a su cesionario leg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ones que contrae librad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que librado aceptará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etra de cambio se pagará a su ven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y librado pueden ser la mism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177336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            persona a quien librador le pide que pagu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ona ajena a la letra de cambio y no tiene obligación cambiaria de ninguna natura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eptante          librado que ha aceptado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hay obligación legal de aceptar, solo aquella eventual entre librado y librador que derive de la autonomía de la volunt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22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773360"/>
            <a:ext cx="727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omador o beneficiario           primer dueño de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te en la relación originaria d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Tenedor o poseedor            persona que ha obtenido la letra de cambio conforme a las reglas cambiarias de la circ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2349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generales inherentes a calidad de título de créd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contenerse materialmente en un doc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utilizarse un mismo idioma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unciaciones o menciones obligatori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esenciales             forma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de la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72480" y="1338120"/>
            <a:ext cx="26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gencias form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4437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0:32Z</dcterms:created>
  <dc:creator>Fernanda Zelada </dc:creator>
  <dc:description/>
  <dc:language>en-US</dc:language>
  <cp:lastModifiedBy>Fernanda Zelada </cp:lastModifiedBy>
  <dcterms:modified xsi:type="dcterms:W3CDTF">2005-05-10T00:05:25Z</dcterms:modified>
  <cp:revision>14</cp:revision>
  <dc:subject/>
  <dc:title>Diapositiva 1</dc:title>
</cp:coreProperties>
</file>