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F068-FB6E-424A-9197-6B245A62E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1109-210A-4D19-B8AB-380F2F4D3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F4FEA-06CE-4027-8764-6FC736142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1A39-CF2D-437D-B215-4D7C966B9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77E5B-EFE9-4B42-BF1D-222AF27FB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BC11-DA00-44F5-A0B4-C49DA398C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E2151-C253-4916-B30F-6EE3CD8FE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1EF4-6F41-48F0-AFF6-5B793B530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94DC1-56FA-4F75-A807-E63501E51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23875-0AC6-4F1D-B42D-ECA9DD591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838D-9187-4A23-B0EF-A6B47280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2789-5D47-4CD7-9DC3-ED3C02B72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1473F-0B36-4F9B-A91C-DCB8F4C372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90400" y="3502080"/>
            <a:ext cx="487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Sociedades Anóni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92200" y="5229360"/>
            <a:ext cx="27334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Curso Derecho Comercial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1er semestre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Profesor Octavio Bofill Genzs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E mail obofill@grasty.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16760" y="766800"/>
            <a:ext cx="469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Derecho Comercial 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141300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 rot="10800000">
            <a:off x="468000" y="1916280"/>
            <a:ext cx="417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14130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14130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924360" y="4221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03280" y="4724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26920" y="3716280"/>
            <a:ext cx="2521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318760" y="620640"/>
            <a:ext cx="48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Sociedades Anóni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3340080"/>
            <a:ext cx="1728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26920" y="1989000"/>
            <a:ext cx="741708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u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pósi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rám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ivi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pósi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rám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Quieb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11280" y="141300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 rot="10800000">
            <a:off x="468000" y="1916280"/>
            <a:ext cx="417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38080" y="14130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66680" y="14130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924360" y="4221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03280" y="4724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26920" y="3716280"/>
            <a:ext cx="2521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339560" y="620640"/>
            <a:ext cx="640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Fusión Sociedades Anóni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3340080"/>
            <a:ext cx="1728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800360" y="4171680"/>
            <a:ext cx="5471640" cy="2006640"/>
            <a:chOff x="1800360" y="4171680"/>
            <a:chExt cx="5471640" cy="2006640"/>
          </a:xfrm>
        </p:grpSpPr>
        <p:cxnSp>
          <p:nvCxnSpPr>
            <p:cNvPr id="101" name="_s88095"/>
            <p:cNvCxnSpPr>
              <a:stCxn id="102" idx="0"/>
              <a:endCxn id="103" idx="2"/>
            </p:cNvCxnSpPr>
            <p:nvPr/>
          </p:nvCxnSpPr>
          <p:spPr>
            <a:xfrm flipV="1" rot="16200000">
              <a:off x="5379480" y="3785400"/>
              <a:ext cx="229320" cy="1914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4" name="_s88094"/>
            <p:cNvCxnSpPr>
              <a:stCxn id="105" idx="0"/>
              <a:endCxn id="103" idx="2"/>
            </p:cNvCxnSpPr>
            <p:nvPr/>
          </p:nvCxnSpPr>
          <p:spPr>
            <a:xfrm flipV="1">
              <a:off x="4537440" y="4628160"/>
              <a:ext cx="2160" cy="22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6" name="_s88093"/>
            <p:cNvCxnSpPr>
              <a:stCxn id="107" idx="0"/>
              <a:endCxn id="103" idx="2"/>
            </p:cNvCxnSpPr>
            <p:nvPr/>
          </p:nvCxnSpPr>
          <p:spPr>
            <a:xfrm flipH="1" flipV="1" rot="5400000">
              <a:off x="3464280" y="3783960"/>
              <a:ext cx="229320" cy="19177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3" name="_s88089"/>
            <p:cNvSpPr/>
            <p:nvPr/>
          </p:nvSpPr>
          <p:spPr>
            <a:xfrm>
              <a:off x="3702960" y="4171680"/>
              <a:ext cx="166608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SA NUEV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_s88090"/>
            <p:cNvSpPr/>
            <p:nvPr/>
          </p:nvSpPr>
          <p:spPr>
            <a:xfrm>
              <a:off x="1800360" y="4857480"/>
              <a:ext cx="1640520" cy="13208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SA 1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EXIST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_s88091"/>
            <p:cNvSpPr/>
            <p:nvPr/>
          </p:nvSpPr>
          <p:spPr>
            <a:xfrm>
              <a:off x="3715560" y="4857480"/>
              <a:ext cx="1640880" cy="13208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SA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EXIST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_s88092"/>
            <p:cNvSpPr/>
            <p:nvPr/>
          </p:nvSpPr>
          <p:spPr>
            <a:xfrm>
              <a:off x="5631480" y="4857480"/>
              <a:ext cx="1640520" cy="13208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SA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EXIST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02920" y="5300280"/>
              <a:ext cx="3097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02920" y="5373360"/>
              <a:ext cx="3097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684360" y="2054160"/>
            <a:ext cx="756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USIÓN POR CRE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stitución de sociedad nueva por todos los accionistas de 1, 2 y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JA Ext. de SA fusionadas aprobando aportes de activos y pas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olución de SA 1, 2 y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usencia de liquidación de sociedades absorb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11280" y="141300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 rot="10800000">
            <a:off x="468000" y="1916280"/>
            <a:ext cx="417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14130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66680" y="14130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924360" y="4221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03280" y="4724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26920" y="3716280"/>
            <a:ext cx="2521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83920" y="620640"/>
            <a:ext cx="640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Fusión Sociedades Anóni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9640" y="3340080"/>
            <a:ext cx="1728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800360" y="4171680"/>
            <a:ext cx="5471640" cy="2006640"/>
            <a:chOff x="1800360" y="4171680"/>
            <a:chExt cx="5471640" cy="2006640"/>
          </a:xfrm>
        </p:grpSpPr>
        <p:cxnSp>
          <p:nvCxnSpPr>
            <p:cNvPr id="132" name="_s89112"/>
            <p:cNvCxnSpPr>
              <a:stCxn id="133" idx="0"/>
              <a:endCxn id="134" idx="2"/>
            </p:cNvCxnSpPr>
            <p:nvPr/>
          </p:nvCxnSpPr>
          <p:spPr>
            <a:xfrm flipV="1" rot="16200000">
              <a:off x="5379120" y="3784680"/>
              <a:ext cx="229320" cy="19162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5" name="_s89113"/>
            <p:cNvCxnSpPr>
              <a:stCxn id="136" idx="0"/>
              <a:endCxn id="134" idx="2"/>
            </p:cNvCxnSpPr>
            <p:nvPr/>
          </p:nvCxnSpPr>
          <p:spPr>
            <a:xfrm flipV="1">
              <a:off x="4536000" y="4628160"/>
              <a:ext cx="1080" cy="22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7" name="_s89114"/>
            <p:cNvCxnSpPr>
              <a:stCxn id="138" idx="0"/>
              <a:endCxn id="134" idx="2"/>
            </p:cNvCxnSpPr>
            <p:nvPr/>
          </p:nvCxnSpPr>
          <p:spPr>
            <a:xfrm flipH="1" flipV="1" rot="5400000">
              <a:off x="3463560" y="3784680"/>
              <a:ext cx="229320" cy="19162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4" name="_s89115"/>
            <p:cNvSpPr/>
            <p:nvPr/>
          </p:nvSpPr>
          <p:spPr>
            <a:xfrm>
              <a:off x="3601440" y="4171680"/>
              <a:ext cx="187092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SA EXIST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_s89116"/>
            <p:cNvSpPr/>
            <p:nvPr/>
          </p:nvSpPr>
          <p:spPr>
            <a:xfrm>
              <a:off x="1800360" y="4857480"/>
              <a:ext cx="1640520" cy="13208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SA 1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EXIST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_s89117"/>
            <p:cNvSpPr/>
            <p:nvPr/>
          </p:nvSpPr>
          <p:spPr>
            <a:xfrm>
              <a:off x="3715560" y="4857480"/>
              <a:ext cx="1640880" cy="13208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SA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EXIST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_s89118"/>
            <p:cNvSpPr/>
            <p:nvPr/>
          </p:nvSpPr>
          <p:spPr>
            <a:xfrm>
              <a:off x="5631480" y="4857480"/>
              <a:ext cx="1640520" cy="13208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SA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EXIST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02920" y="5300280"/>
              <a:ext cx="3099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202920" y="5373360"/>
              <a:ext cx="3099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684360" y="2054160"/>
            <a:ext cx="7561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USIÓN POR INCORPO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 existente absorbe a otra/s SA exist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JA Ext. de SA fusionante aprobando la incorporación, aumentando capital y renuncia a ejercicio suscripción prefer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JA Ext SA fusionadas aprobando aportes de activos y pas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olución de SA 1, 2 y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usencia de liquidación de sociedades absorb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11280" y="141300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 rot="10800000">
            <a:off x="468000" y="1916280"/>
            <a:ext cx="417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38080" y="14130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14130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924360" y="4221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03280" y="4724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26920" y="3716280"/>
            <a:ext cx="2521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11200" y="620640"/>
            <a:ext cx="640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Fusión Sociedades Anóni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9640" y="3340080"/>
            <a:ext cx="1728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4360" y="2054160"/>
            <a:ext cx="7561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US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cuerdos de materias de Q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torga derecho a reti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JA aprueban balance auditados, informes periciales, estatutos sociedad creada o absorb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Quorum 2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formes periciales se puede suplir por unanimidad de accionistas involucr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alor del canje del patrimonio de las sociedades involucr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tribución de acciones entre accionistas de acuerdo a la proporción del patrimonio de cada u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usionante puede no ser 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cuestión del Rut y del F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11280" y="141300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 rot="10800000">
            <a:off x="468000" y="1916280"/>
            <a:ext cx="417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8080" y="14130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14130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3924360" y="4221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403280" y="4724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26920" y="3716280"/>
            <a:ext cx="2521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54240" y="620640"/>
            <a:ext cx="668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División Sociedades Anóni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39640" y="3340080"/>
            <a:ext cx="1728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1800360" y="3500280"/>
            <a:ext cx="5471640" cy="2737080"/>
            <a:chOff x="1800360" y="3500280"/>
            <a:chExt cx="5471640" cy="2737080"/>
          </a:xfrm>
        </p:grpSpPr>
        <p:cxnSp>
          <p:nvCxnSpPr>
            <p:cNvPr id="184" name="_s91160"/>
            <p:cNvCxnSpPr>
              <a:stCxn id="185" idx="0"/>
              <a:endCxn id="186" idx="2"/>
            </p:cNvCxnSpPr>
            <p:nvPr/>
          </p:nvCxnSpPr>
          <p:spPr>
            <a:xfrm flipV="1" rot="16200000">
              <a:off x="5391000" y="4003920"/>
              <a:ext cx="205560" cy="1914480"/>
            </a:xfrm>
            <a:prstGeom prst="bentConnector3">
              <a:avLst>
                <a:gd name="adj1" fmla="val 4947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7" name="_s91161"/>
            <p:cNvCxnSpPr>
              <a:stCxn id="188" idx="0"/>
              <a:endCxn id="186" idx="2"/>
            </p:cNvCxnSpPr>
            <p:nvPr/>
          </p:nvCxnSpPr>
          <p:spPr>
            <a:xfrm flipV="1">
              <a:off x="4536720" y="4858560"/>
              <a:ext cx="1080" cy="205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9" name="_s91162"/>
            <p:cNvCxnSpPr>
              <a:stCxn id="190" idx="0"/>
              <a:endCxn id="186" idx="2"/>
            </p:cNvCxnSpPr>
            <p:nvPr/>
          </p:nvCxnSpPr>
          <p:spPr>
            <a:xfrm flipH="1" flipV="1" rot="5400000">
              <a:off x="3477240" y="4003920"/>
              <a:ext cx="205560" cy="1914840"/>
            </a:xfrm>
            <a:prstGeom prst="bentConnector3">
              <a:avLst>
                <a:gd name="adj1" fmla="val 4947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6" name="_s91163"/>
            <p:cNvSpPr/>
            <p:nvPr/>
          </p:nvSpPr>
          <p:spPr>
            <a:xfrm>
              <a:off x="3623400" y="3956040"/>
              <a:ext cx="1825200" cy="9032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040" bIns="41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Arial"/>
                </a:rPr>
                <a:t>SA EXISTENTE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Arial"/>
                </a:rPr>
                <a:t>SE DIVID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Arial"/>
                </a:rPr>
                <a:t>Y SUBSIS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_s91164"/>
            <p:cNvSpPr/>
            <p:nvPr/>
          </p:nvSpPr>
          <p:spPr>
            <a:xfrm>
              <a:off x="1800360" y="5064120"/>
              <a:ext cx="1641960" cy="11732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040" bIns="41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Arial"/>
                </a:rPr>
                <a:t>SA 1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Arial"/>
                </a:rPr>
                <a:t>NUEV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_s91165"/>
            <p:cNvSpPr/>
            <p:nvPr/>
          </p:nvSpPr>
          <p:spPr>
            <a:xfrm>
              <a:off x="3715920" y="5064120"/>
              <a:ext cx="1640520" cy="11732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040" bIns="41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Arial"/>
                </a:rPr>
                <a:t>SA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CL" sz="1600" spc="-1" strike="noStrike">
                  <a:solidFill>
                    <a:srgbClr val="000000"/>
                  </a:solidFill>
                  <a:latin typeface="Arial"/>
                </a:rPr>
                <a:t>NUEV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_s91166"/>
            <p:cNvSpPr/>
            <p:nvPr/>
          </p:nvSpPr>
          <p:spPr>
            <a:xfrm>
              <a:off x="5629680" y="5064120"/>
              <a:ext cx="1642320" cy="11732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040" bIns="41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Arial"/>
                </a:rPr>
                <a:t>SA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Arial"/>
                </a:rPr>
                <a:t>NUEV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202560" y="5084640"/>
              <a:ext cx="30974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202560" y="5159520"/>
              <a:ext cx="30974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647960" y="3500280"/>
              <a:ext cx="645120" cy="144720"/>
            </a:xfrm>
            <a:prstGeom prst="rightArrow">
              <a:avLst>
                <a:gd name="adj1" fmla="val 50000"/>
                <a:gd name="adj2" fmla="val 11144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684360" y="1700280"/>
            <a:ext cx="7561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VISIÓN 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 comparado reconoce diversas formas de división, según qué proporción del patrimonio se transfiere a las nuevas ent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uede originar duplicar la estructura accionaria en todas las entidades subsist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 puede originar una distribución de las sociedades subsistentes entre grupos heterogéneos de accionistas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quiere posterior canje de acciones y posibles alc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11280" y="141300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 rot="10800000">
            <a:off x="468000" y="1916280"/>
            <a:ext cx="417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38080" y="14130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066680" y="14130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3924360" y="4221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403280" y="4724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6920" y="3716280"/>
            <a:ext cx="2521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254240" y="620640"/>
            <a:ext cx="668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División Sociedades Anóni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9640" y="3340080"/>
            <a:ext cx="1728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4360" y="1940040"/>
            <a:ext cx="7561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VISIÓN 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 Chileno sólo parece reconocer la duplicidad de la estructura accionaria en todas las entidades subsisten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94: misma proporción 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JA Extraordinaria supone aprobar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minució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tribución patrimonio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tatutos nuevas sociedades (pueden diferir, al contrario de lo que ocurre con el patrimoni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corporación de pleno derecho en nuevas socie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Quorum califi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 de reti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rgen SA’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ut y F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11280" y="141300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 rot="10800000">
            <a:off x="468000" y="1916280"/>
            <a:ext cx="417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38080" y="14130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066680" y="14130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924360" y="4221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403280" y="4724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26920" y="3716280"/>
            <a:ext cx="2521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244160" y="620640"/>
            <a:ext cx="67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Quiebra Sociedades Anóni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39640" y="3340080"/>
            <a:ext cx="1728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4360" y="1940040"/>
            <a:ext cx="7561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tinción tipos de SA según leyes de insolvencia aplicables (Bancos, Cías de Seguros, AFP’s, Securitizador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 en genera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égimen Ley de Quiebras plenamente aplic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rectorio y la propia quie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 y la mercant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itación a JA por el Directo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 abierta: aviso a Superintendencia de Valores y Segu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02 Presunción de conocimiento de directores, liquid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réditos de disminución de capital son preferidos por los de los acree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videndos no sufren deterio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5T21:09:26Z</dcterms:created>
  <dc:creator>asm</dc:creator>
  <dc:description/>
  <dc:language>en-US</dc:language>
  <cp:lastModifiedBy>Octavio Bofill G.</cp:lastModifiedBy>
  <dcterms:modified xsi:type="dcterms:W3CDTF">2005-05-24T03:30:03Z</dcterms:modified>
  <cp:revision>138</cp:revision>
  <dc:subject/>
  <dc:title>Sin título de diapositiv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33904442</vt:r8>
  </property>
  <property fmtid="{D5CDD505-2E9C-101B-9397-08002B2CF9AE}" pid="3" name="_AuthorEmail">
    <vt:lpwstr>gvarela@grasty.cl</vt:lpwstr>
  </property>
  <property fmtid="{D5CDD505-2E9C-101B-9397-08002B2CF9AE}" pid="4" name="_AuthorEmailDisplayName">
    <vt:lpwstr>Carmen Gloria Varela</vt:lpwstr>
  </property>
  <property fmtid="{D5CDD505-2E9C-101B-9397-08002B2CF9AE}" pid="5" name="_EmailSubject">
    <vt:lpwstr>Presentación Power Point curso </vt:lpwstr>
  </property>
  <property fmtid="{D5CDD505-2E9C-101B-9397-08002B2CF9AE}" pid="6" name="_PreviousAdHocReviewCycleID">
    <vt:r8>143563303</vt:r8>
  </property>
  <property fmtid="{D5CDD505-2E9C-101B-9397-08002B2CF9AE}" pid="7" name="_ReviewingToolsShownOnce">
    <vt:lpwstr/>
  </property>
</Properties>
</file>