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AA9-4271-42FD-A8ED-BE1C29FD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7D9-7520-4449-8034-CDEDFC93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F82-C347-4990-BA75-2FA2AA5D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659-CB08-44B0-8A64-E6985C2B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D27-0334-48CB-B247-5792AC50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E20-31A3-475B-B265-9C8DAA33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387-FE73-4253-A4E2-FB1B7EAF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271-3DB8-4EC2-A288-0557A7CA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AFA-FB51-44A1-A063-2673B1E1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EA1-D09D-4701-AAC0-69AD4DCA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98F-27F9-4C5D-A344-55FDADA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534-151E-4AAB-B790-CEE552A6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1D7B-BA6D-49FC-95F4-072E66A82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989000"/>
            <a:ext cx="7417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956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01" name="_s88095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379480" y="3785400"/>
              <a:ext cx="229320" cy="191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88094"/>
            <p:cNvCxnSpPr>
              <a:stCxn id="105" idx="0"/>
              <a:endCxn id="103" idx="2"/>
            </p:cNvCxnSpPr>
            <p:nvPr/>
          </p:nvCxnSpPr>
          <p:spPr>
            <a:xfrm flipV="1">
              <a:off x="4537440" y="46281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88093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464280" y="3783960"/>
              <a:ext cx="229320" cy="191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88089"/>
            <p:cNvSpPr/>
            <p:nvPr/>
          </p:nvSpPr>
          <p:spPr>
            <a:xfrm>
              <a:off x="3702960" y="4171680"/>
              <a:ext cx="16660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NUE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88090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88091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88092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2920" y="530028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2920" y="537336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4360" y="20541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CRE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itución de sociedad nueva por todos los accionistas de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8392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32" name="_s8911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37912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89113"/>
            <p:cNvCxnSpPr>
              <a:stCxn id="136" idx="0"/>
              <a:endCxn id="134" idx="2"/>
            </p:cNvCxnSpPr>
            <p:nvPr/>
          </p:nvCxnSpPr>
          <p:spPr>
            <a:xfrm flipV="1">
              <a:off x="4536000" y="4628160"/>
              <a:ext cx="10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89114"/>
            <p:cNvCxnSpPr>
              <a:stCxn id="138" idx="0"/>
              <a:endCxn id="134" idx="2"/>
            </p:cNvCxnSpPr>
            <p:nvPr/>
          </p:nvCxnSpPr>
          <p:spPr>
            <a:xfrm flipH="1" flipV="1" rot="5400000">
              <a:off x="346356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89115"/>
            <p:cNvSpPr/>
            <p:nvPr/>
          </p:nvSpPr>
          <p:spPr>
            <a:xfrm>
              <a:off x="3601440" y="4171680"/>
              <a:ext cx="18709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89116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89117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89118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2920" y="530028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2920" y="537336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4360" y="205416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INCOR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xistente absorbe a otra/s SA ex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nte aprobando la incorporación, aumentando capital y renuncia a ejercicio suscripción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1120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05416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uerdos de materias de 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 derecho a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aprueban balance auditados, informes periciales, estatutos sociedad creada o ab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es periciales se puede suplir por unanimidad de accionistas involuc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del canje del patrimonio de las sociedades involuc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acciones entre accionistas de acuerdo a la proporción del patrimonio de cada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onante puede no ser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uestión del Rut y del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00360" y="3500280"/>
            <a:ext cx="5471640" cy="2737080"/>
            <a:chOff x="1800360" y="3500280"/>
            <a:chExt cx="5471640" cy="2737080"/>
          </a:xfrm>
        </p:grpSpPr>
        <p:cxnSp>
          <p:nvCxnSpPr>
            <p:cNvPr id="184" name="_s91160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391000" y="4003920"/>
              <a:ext cx="205560" cy="191448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91161"/>
            <p:cNvCxnSpPr>
              <a:stCxn id="188" idx="0"/>
              <a:endCxn id="186" idx="2"/>
            </p:cNvCxnSpPr>
            <p:nvPr/>
          </p:nvCxnSpPr>
          <p:spPr>
            <a:xfrm flipV="1">
              <a:off x="4536720" y="4858560"/>
              <a:ext cx="1080" cy="20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91162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477240" y="4003920"/>
              <a:ext cx="205560" cy="191484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91163"/>
            <p:cNvSpPr/>
            <p:nvPr/>
          </p:nvSpPr>
          <p:spPr>
            <a:xfrm>
              <a:off x="3623400" y="3956040"/>
              <a:ext cx="1825200" cy="90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EXISTENT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E DIVI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Y SUBSIS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_s91164"/>
            <p:cNvSpPr/>
            <p:nvPr/>
          </p:nvSpPr>
          <p:spPr>
            <a:xfrm>
              <a:off x="1800360" y="5064120"/>
              <a:ext cx="164196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_s91165"/>
            <p:cNvSpPr/>
            <p:nvPr/>
          </p:nvSpPr>
          <p:spPr>
            <a:xfrm>
              <a:off x="3715920" y="5064120"/>
              <a:ext cx="16405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91166"/>
            <p:cNvSpPr/>
            <p:nvPr/>
          </p:nvSpPr>
          <p:spPr>
            <a:xfrm>
              <a:off x="5629680" y="5064120"/>
              <a:ext cx="16423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02560" y="5084640"/>
              <a:ext cx="309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2560" y="5159520"/>
              <a:ext cx="3097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7960" y="3500280"/>
              <a:ext cx="645120" cy="144720"/>
            </a:xfrm>
            <a:prstGeom prst="rightArrow">
              <a:avLst>
                <a:gd name="adj1" fmla="val 50000"/>
                <a:gd name="adj2" fmla="val 1114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4360" y="170028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omparado reconoce diversas formas de división, según qué proporción del patrimonio se transfiere a las nuevas e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originar duplicar la estructura accionaria en todas las entidades subs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puede originar una distribución de las sociedades subsistentes entre grupos heterogéneos de accionis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quiere posterior canje de acciones y posibles 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1940040"/>
            <a:ext cx="756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hileno sólo parece reconocer la duplicidad de la estructura accionaria en todas las entidades subsist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94: misma proporció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raordinaria supone aprob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patrimoni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os nuevas sociedades (pueden diferir, al contrario de lo que ocurre con el patrimon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pleno derecho en nuevas soci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rgen SA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t y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4160" y="620640"/>
            <a:ext cx="67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Quiebra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940040"/>
            <a:ext cx="75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ción tipos de SA según leyes de insolvencia aplicables (Bancos, Cías de Seguros, AFP’s, Securitizado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n gene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égimen Ley de Quiebras plenamente apl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io y la propi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y la mercan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a JA por el 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: aviso 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2 Presunción de conocimiento de directores, liquid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s de disminución de capital son preferidos por los de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no sufren deteri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5-24T03:30:03Z</dcterms:modified>
  <cp:revision>13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