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2A6A-0F66-45F3-B1AD-3F1BEF9EAA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CACB0-373B-4922-A2DC-F9758FD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E3CC7-65EE-4C68-9BF6-59508DF5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07878-F6AE-4889-944D-D63B966E4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3F26-A1BF-4B10-BD60-5C48F8C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5F48-5658-4640-9489-E4BCA2B38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1BE90-4567-40A8-9205-3DEDF24B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BDDE-7DCA-4101-B7D0-959869A6C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390D-B3B4-4353-B0DE-8769BBAED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9A4E-58E9-4BA7-8946-F7D8991C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9DAFB-0512-44B0-BE3D-FB59FAA4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45CC-0B29-4860-8AD6-1F7FB0630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F0B8F-7C76-4F8B-BA5C-463915F5D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1989000"/>
            <a:ext cx="7417080" cy="36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as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vi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pósit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Trámi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Quieb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33956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01" name="_s8809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5379480" y="3785400"/>
              <a:ext cx="229320" cy="191484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88094"/>
            <p:cNvCxnSpPr>
              <a:stCxn id="105" idx="0"/>
              <a:endCxn id="103" idx="2"/>
            </p:cNvCxnSpPr>
            <p:nvPr/>
          </p:nvCxnSpPr>
          <p:spPr>
            <a:xfrm flipV="1">
              <a:off x="4537440" y="4628160"/>
              <a:ext cx="216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88093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464280" y="3783960"/>
              <a:ext cx="229320" cy="191772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88089"/>
            <p:cNvSpPr/>
            <p:nvPr/>
          </p:nvSpPr>
          <p:spPr>
            <a:xfrm>
              <a:off x="3702960" y="4171680"/>
              <a:ext cx="166608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NUEV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_s88090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_s88091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_s88092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02920" y="530028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202920" y="5373360"/>
              <a:ext cx="309780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684360" y="2054160"/>
            <a:ext cx="7561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CRE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stitución de sociedad nueva por todos los accionistas de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48392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800360" y="4171680"/>
            <a:ext cx="5471640" cy="2006640"/>
            <a:chOff x="1800360" y="4171680"/>
            <a:chExt cx="5471640" cy="2006640"/>
          </a:xfrm>
        </p:grpSpPr>
        <p:cxnSp>
          <p:nvCxnSpPr>
            <p:cNvPr id="132" name="_s89112"/>
            <p:cNvCxnSpPr>
              <a:stCxn id="133" idx="0"/>
              <a:endCxn id="134" idx="2"/>
            </p:cNvCxnSpPr>
            <p:nvPr/>
          </p:nvCxnSpPr>
          <p:spPr>
            <a:xfrm flipV="1" rot="16200000">
              <a:off x="537912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5" name="_s89113"/>
            <p:cNvCxnSpPr>
              <a:stCxn id="136" idx="0"/>
              <a:endCxn id="134" idx="2"/>
            </p:cNvCxnSpPr>
            <p:nvPr/>
          </p:nvCxnSpPr>
          <p:spPr>
            <a:xfrm flipV="1">
              <a:off x="4536000" y="4628160"/>
              <a:ext cx="1080" cy="22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37" name="_s89114"/>
            <p:cNvCxnSpPr>
              <a:stCxn id="138" idx="0"/>
              <a:endCxn id="134" idx="2"/>
            </p:cNvCxnSpPr>
            <p:nvPr/>
          </p:nvCxnSpPr>
          <p:spPr>
            <a:xfrm flipH="1" flipV="1" rot="5400000">
              <a:off x="3463560" y="3784680"/>
              <a:ext cx="229320" cy="1916280"/>
            </a:xfrm>
            <a:prstGeom prst="bentConnector3">
              <a:avLst>
                <a:gd name="adj1" fmla="val 5000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34" name="_s89115"/>
            <p:cNvSpPr/>
            <p:nvPr/>
          </p:nvSpPr>
          <p:spPr>
            <a:xfrm>
              <a:off x="3601440" y="4171680"/>
              <a:ext cx="1870920" cy="45720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_s89116"/>
            <p:cNvSpPr/>
            <p:nvPr/>
          </p:nvSpPr>
          <p:spPr>
            <a:xfrm>
              <a:off x="180036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_s89117"/>
            <p:cNvSpPr/>
            <p:nvPr/>
          </p:nvSpPr>
          <p:spPr>
            <a:xfrm>
              <a:off x="3715560" y="4857480"/>
              <a:ext cx="164088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_s89118"/>
            <p:cNvSpPr/>
            <p:nvPr/>
          </p:nvSpPr>
          <p:spPr>
            <a:xfrm>
              <a:off x="5631480" y="4857480"/>
              <a:ext cx="1640520" cy="13208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EXISTENT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202920" y="530028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202920" y="5373360"/>
              <a:ext cx="30992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684360" y="205416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POR INCORPO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xistente absorbe a otra/s SA ex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. de SA fusionante aprobando la incorporación, aumentando capital y renuncia a ejercicio suscripción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 SA fusionadas aprobando aportes de activos y pas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olución de SA 1, 2 y 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sencia de liquidación de sociedades absorb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411200" y="620640"/>
            <a:ext cx="640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Fu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84360" y="2054160"/>
            <a:ext cx="7561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Ó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uerdos de materias de Q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torga derecho a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aprueban balance auditados, informes periciales, estatutos sociedad creada o absorb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2/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es periciales se puede suplir por unanimidad de accionistas involucr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alor del canje del patrimonio de las sociedades involuc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acciones entre accionistas de acuerdo a la proporción del patrimonio de cada 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sionante puede no ser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uestión del Rut y del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1800360" y="3500280"/>
            <a:ext cx="5471640" cy="2737080"/>
            <a:chOff x="1800360" y="3500280"/>
            <a:chExt cx="5471640" cy="2737080"/>
          </a:xfrm>
        </p:grpSpPr>
        <p:cxnSp>
          <p:nvCxnSpPr>
            <p:cNvPr id="184" name="_s91160"/>
            <p:cNvCxnSpPr>
              <a:stCxn id="185" idx="0"/>
              <a:endCxn id="186" idx="2"/>
            </p:cNvCxnSpPr>
            <p:nvPr/>
          </p:nvCxnSpPr>
          <p:spPr>
            <a:xfrm flipV="1" rot="16200000">
              <a:off x="5391000" y="4003920"/>
              <a:ext cx="205560" cy="191448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7" name="_s91161"/>
            <p:cNvCxnSpPr>
              <a:stCxn id="188" idx="0"/>
              <a:endCxn id="186" idx="2"/>
            </p:cNvCxnSpPr>
            <p:nvPr/>
          </p:nvCxnSpPr>
          <p:spPr>
            <a:xfrm flipV="1">
              <a:off x="4536720" y="4858560"/>
              <a:ext cx="1080" cy="20556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89" name="_s91162"/>
            <p:cNvCxnSpPr>
              <a:stCxn id="190" idx="0"/>
              <a:endCxn id="186" idx="2"/>
            </p:cNvCxnSpPr>
            <p:nvPr/>
          </p:nvCxnSpPr>
          <p:spPr>
            <a:xfrm flipH="1" flipV="1" rot="5400000">
              <a:off x="3477240" y="4003920"/>
              <a:ext cx="205560" cy="1914840"/>
            </a:xfrm>
            <a:prstGeom prst="bentConnector3">
              <a:avLst>
                <a:gd name="adj1" fmla="val 49473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86" name="_s91163"/>
            <p:cNvSpPr/>
            <p:nvPr/>
          </p:nvSpPr>
          <p:spPr>
            <a:xfrm>
              <a:off x="3623400" y="3956040"/>
              <a:ext cx="1825200" cy="90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EXISTENTE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E DIVID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Y SUBSIS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_s91164"/>
            <p:cNvSpPr/>
            <p:nvPr/>
          </p:nvSpPr>
          <p:spPr>
            <a:xfrm>
              <a:off x="1800360" y="5064120"/>
              <a:ext cx="164196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1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_s91165"/>
            <p:cNvSpPr/>
            <p:nvPr/>
          </p:nvSpPr>
          <p:spPr>
            <a:xfrm>
              <a:off x="3715920" y="5064120"/>
              <a:ext cx="16405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_s91166"/>
            <p:cNvSpPr/>
            <p:nvPr/>
          </p:nvSpPr>
          <p:spPr>
            <a:xfrm>
              <a:off x="5629680" y="5064120"/>
              <a:ext cx="1642320" cy="1173240"/>
            </a:xfrm>
            <a:prstGeom prst="roundRect">
              <a:avLst>
                <a:gd name="adj" fmla="val 1666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82440" rIns="82440" tIns="41040" bIns="41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SA 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600" spc="-1" strike="noStrike">
                  <a:solidFill>
                    <a:srgbClr val="000000"/>
                  </a:solidFill>
                  <a:latin typeface="Arial"/>
                </a:rPr>
                <a:t>NUEV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202560" y="5084640"/>
              <a:ext cx="309744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02560" y="5159520"/>
              <a:ext cx="3097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647960" y="3500280"/>
              <a:ext cx="645120" cy="144720"/>
            </a:xfrm>
            <a:prstGeom prst="rightArrow">
              <a:avLst>
                <a:gd name="adj1" fmla="val 50000"/>
                <a:gd name="adj2" fmla="val 111443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920" bIns="25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4" name=""/>
          <p:cNvSpPr/>
          <p:nvPr/>
        </p:nvSpPr>
        <p:spPr>
          <a:xfrm>
            <a:off x="684360" y="1700280"/>
            <a:ext cx="75610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omparado reconoce diversas formas de división, según qué proporción del patrimonio se transfiere a las nuevas ent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ede originar duplicar la estructura accionaria en todas las entidades subsisten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 puede originar una distribución de las sociedades subsistentes entre grupos heterogéneos de accionist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quiere posterior canje de acciones y posibles alcanc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1254240" y="620640"/>
            <a:ext cx="668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ivisión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84360" y="1940040"/>
            <a:ext cx="75610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Chileno sólo parece reconocer la duplicidad de la estructura accionaria en todas las entidades subsistente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94: misma proporción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JA Extraordinaria supone aprobar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patrimonio,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os nuevas sociedades (pueden diferir, al contrario de lo que ocurre con el patrimoni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orporación de pleno derecho en nuevas socie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Quorum calific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rgen SA’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ut y F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826920" y="3716280"/>
            <a:ext cx="252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244160" y="620640"/>
            <a:ext cx="67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Quiebra 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684360" y="1940040"/>
            <a:ext cx="75610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inción tipos de SA según leyes de insolvencia aplicables (Bancos, Cías de Seguros, AFP’s, Securitizador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n general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égimen Ley de Quiebras plenamente aplicab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io y la propia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y la mercant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a JA por el Directo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abierta: aviso a Superintendencia de Valores y Segu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102 Presunción de conocimiento de directores, liquida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s de disminución de capital son preferidos por los de los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no sufren deterio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3:30:03Z</dcterms:modified>
  <cp:revision>138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