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2E3-2CD4-46E3-A07E-B5909C68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B74-B359-4218-BA6B-B68507A9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D61-D0DF-4C80-9DA6-DCCC932E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256-0AE9-4E48-B754-F6D6CA66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ACE-FD3B-44BA-96AD-FFDD1664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89E-1B71-42E7-ACCC-AAAE08C8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07F5-035F-4CF6-92E0-A1065B56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602-3163-487D-B2FD-49E93859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2A8-9AA7-49A2-BAB9-2034AC95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454-ED96-4039-BEF8-253076F5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941-3D4D-4C84-81E4-5C626217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FE6-20A6-42F6-90EC-B8BD8360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8E6B-98BC-4B5B-B718-F018DA511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18760" y="62064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989000"/>
            <a:ext cx="7417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á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á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956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00360" y="4171680"/>
            <a:ext cx="5471640" cy="2006640"/>
            <a:chOff x="1800360" y="4171680"/>
            <a:chExt cx="5471640" cy="2006640"/>
          </a:xfrm>
        </p:grpSpPr>
        <p:cxnSp>
          <p:nvCxnSpPr>
            <p:cNvPr id="101" name="_s88095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379480" y="3785400"/>
              <a:ext cx="229320" cy="191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88094"/>
            <p:cNvCxnSpPr>
              <a:stCxn id="105" idx="0"/>
              <a:endCxn id="103" idx="2"/>
            </p:cNvCxnSpPr>
            <p:nvPr/>
          </p:nvCxnSpPr>
          <p:spPr>
            <a:xfrm flipV="1">
              <a:off x="4537440" y="462816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88093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464280" y="3783960"/>
              <a:ext cx="229320" cy="191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88089"/>
            <p:cNvSpPr/>
            <p:nvPr/>
          </p:nvSpPr>
          <p:spPr>
            <a:xfrm>
              <a:off x="3702960" y="4171680"/>
              <a:ext cx="16660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NUE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88090"/>
            <p:cNvSpPr/>
            <p:nvPr/>
          </p:nvSpPr>
          <p:spPr>
            <a:xfrm>
              <a:off x="180036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88091"/>
            <p:cNvSpPr/>
            <p:nvPr/>
          </p:nvSpPr>
          <p:spPr>
            <a:xfrm>
              <a:off x="3715560" y="4857480"/>
              <a:ext cx="164088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88092"/>
            <p:cNvSpPr/>
            <p:nvPr/>
          </p:nvSpPr>
          <p:spPr>
            <a:xfrm>
              <a:off x="563148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2920" y="5300280"/>
              <a:ext cx="309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2920" y="5373360"/>
              <a:ext cx="309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4360" y="20541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POR CRE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itución de sociedad nueva por todos los accionistas de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. de SA fusionadas aprobando aportes de activos y pa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de SA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sencia de liquidación de sociedades absor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8392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800360" y="4171680"/>
            <a:ext cx="5471640" cy="2006640"/>
            <a:chOff x="1800360" y="4171680"/>
            <a:chExt cx="5471640" cy="2006640"/>
          </a:xfrm>
        </p:grpSpPr>
        <p:cxnSp>
          <p:nvCxnSpPr>
            <p:cNvPr id="132" name="_s8911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379120" y="3784680"/>
              <a:ext cx="229320" cy="1916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89113"/>
            <p:cNvCxnSpPr>
              <a:stCxn id="136" idx="0"/>
              <a:endCxn id="134" idx="2"/>
            </p:cNvCxnSpPr>
            <p:nvPr/>
          </p:nvCxnSpPr>
          <p:spPr>
            <a:xfrm flipV="1">
              <a:off x="4536000" y="4628160"/>
              <a:ext cx="108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89114"/>
            <p:cNvCxnSpPr>
              <a:stCxn id="138" idx="0"/>
              <a:endCxn id="134" idx="2"/>
            </p:cNvCxnSpPr>
            <p:nvPr/>
          </p:nvCxnSpPr>
          <p:spPr>
            <a:xfrm flipH="1" flipV="1" rot="5400000">
              <a:off x="3463560" y="3784680"/>
              <a:ext cx="229320" cy="1916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89115"/>
            <p:cNvSpPr/>
            <p:nvPr/>
          </p:nvSpPr>
          <p:spPr>
            <a:xfrm>
              <a:off x="3601440" y="4171680"/>
              <a:ext cx="187092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89116"/>
            <p:cNvSpPr/>
            <p:nvPr/>
          </p:nvSpPr>
          <p:spPr>
            <a:xfrm>
              <a:off x="180036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89117"/>
            <p:cNvSpPr/>
            <p:nvPr/>
          </p:nvSpPr>
          <p:spPr>
            <a:xfrm>
              <a:off x="3715560" y="4857480"/>
              <a:ext cx="164088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89118"/>
            <p:cNvSpPr/>
            <p:nvPr/>
          </p:nvSpPr>
          <p:spPr>
            <a:xfrm>
              <a:off x="563148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2920" y="5300280"/>
              <a:ext cx="309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2920" y="5373360"/>
              <a:ext cx="309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4360" y="205416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POR INCOR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xistente absorbe a otra/s SA ex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. de SA fusionante aprobando la incorporación, aumentando capital y renuncia a ejercicio suscripción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 SA fusionadas aprobando aportes de activos y pa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de SA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sencia de liquidación de sociedades absor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1120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05416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uerdos de materias de Q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orga derecho a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aprueban balance auditados, informes periciales, estatutos sociedad creada o ab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orum 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es periciales se puede suplir por unanimidad de accionistas involuc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 del canje del patrimonio de las sociedades involuc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acciones entre accionistas de acuerdo a la proporción del patrimonio de cada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onante puede no ser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uestión del Rut y del F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4240" y="62064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ivi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800360" y="3500280"/>
            <a:ext cx="5471640" cy="2737080"/>
            <a:chOff x="1800360" y="3500280"/>
            <a:chExt cx="5471640" cy="2737080"/>
          </a:xfrm>
        </p:grpSpPr>
        <p:cxnSp>
          <p:nvCxnSpPr>
            <p:cNvPr id="184" name="_s91160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391000" y="4003920"/>
              <a:ext cx="205560" cy="1914480"/>
            </a:xfrm>
            <a:prstGeom prst="bentConnector3">
              <a:avLst>
                <a:gd name="adj1" fmla="val 49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91161"/>
            <p:cNvCxnSpPr>
              <a:stCxn id="188" idx="0"/>
              <a:endCxn id="186" idx="2"/>
            </p:cNvCxnSpPr>
            <p:nvPr/>
          </p:nvCxnSpPr>
          <p:spPr>
            <a:xfrm flipV="1">
              <a:off x="4536720" y="4858560"/>
              <a:ext cx="1080" cy="20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91162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3477240" y="4003920"/>
              <a:ext cx="205560" cy="1914840"/>
            </a:xfrm>
            <a:prstGeom prst="bentConnector3">
              <a:avLst>
                <a:gd name="adj1" fmla="val 49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91163"/>
            <p:cNvSpPr/>
            <p:nvPr/>
          </p:nvSpPr>
          <p:spPr>
            <a:xfrm>
              <a:off x="3623400" y="3956040"/>
              <a:ext cx="1825200" cy="90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EXISTENT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E DIVI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Y SUBSIS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_s91164"/>
            <p:cNvSpPr/>
            <p:nvPr/>
          </p:nvSpPr>
          <p:spPr>
            <a:xfrm>
              <a:off x="1800360" y="5064120"/>
              <a:ext cx="164196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_s91165"/>
            <p:cNvSpPr/>
            <p:nvPr/>
          </p:nvSpPr>
          <p:spPr>
            <a:xfrm>
              <a:off x="3715920" y="5064120"/>
              <a:ext cx="164052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_s91166"/>
            <p:cNvSpPr/>
            <p:nvPr/>
          </p:nvSpPr>
          <p:spPr>
            <a:xfrm>
              <a:off x="5629680" y="5064120"/>
              <a:ext cx="164232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02560" y="5084640"/>
              <a:ext cx="3097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2560" y="5159520"/>
              <a:ext cx="3097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47960" y="3500280"/>
              <a:ext cx="645120" cy="144720"/>
            </a:xfrm>
            <a:prstGeom prst="rightArrow">
              <a:avLst>
                <a:gd name="adj1" fmla="val 50000"/>
                <a:gd name="adj2" fmla="val 1114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4360" y="170028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comparado reconoce diversas formas de división, según qué proporción del patrimonio se transfiere a las nuevas e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originar duplicar la estructura accionaria en todas las entidades subs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puede originar una distribución de las sociedades subsistentes entre grupos heterogéneos de accionist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quiere posterior canje de acciones y posibles 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54240" y="62064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ivi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1940040"/>
            <a:ext cx="756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Chileno sólo parece reconocer la duplicidad de la estructura accionaria en todas las entidades subsist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94: misma proporció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raordinaria supone aproba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patrimoni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os nuevas sociedades (pueden diferir, al contrario de lo que ocurre con el patrimon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ción de pleno derecho en nuevas soci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orum cal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rgen SA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t y F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4160" y="620640"/>
            <a:ext cx="67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Quiebra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1940040"/>
            <a:ext cx="75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ción tipos de SA según leyes de insolvencia aplicables (Bancos, Cías de Seguros, AFP’s, Securitizado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n gener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égimen Ley de Quiebras plenamente apli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io y la propi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y la mercan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a JA por el 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abierta: aviso a Superintendencia de Valores y Seg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2 Presunción de conocimiento de directores, liquid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s de disminución de capital son preferidos por los de lo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no sufren deteri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5-24T03:30:03Z</dcterms:modified>
  <cp:revision>138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