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F6E5B-BC09-4BAB-A612-247CDE848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A4337-C9AE-48B3-8A1A-CA7E270E1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4C2-7C2C-4AC6-AB71-835ACE858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A45A-86DC-4909-8F86-E11BF8CB5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0CAE2-61BC-4387-AB60-C3E5C2954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6B0E-6416-4F95-BF75-30E663877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D5139-A82B-4536-AA5A-1025E70C0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03F0A-B67D-46A0-B5AB-6E766B275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860-7A55-4C9B-90FD-84E59594F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C4BB-8F8B-49A9-B78A-81D90C7BE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3436-48B7-4B7A-88A4-CD0DA797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B00C8-8AA6-422A-8FD3-D499293F1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0666C-C9B8-4081-8CF8-5A02E25F83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0400" y="35020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grasty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2128680"/>
            <a:ext cx="8351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2) Pagado // (continu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ción pericial o acuerdo unánime bienes distintos del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ón preferente suscripción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pción y emis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 colo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nor o mayor valor precio colocación y relación valor lib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 Lib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istribución patrimo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entas de utilidades y revalorizaciones leg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 o nuev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SMINUCION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2128680"/>
            <a:ext cx="83516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 con reparto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tencial perjuicio acreedores: hay pérdida de lo aportado, no menor ingreso esperado (dif. con utilida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s de protección a terceros acreed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ación de av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édito de acreedores es prefe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ocial y disminución de capital: Acreedor mantiene intactos sus derechos en contra de las sociedades resultantes de la div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ación de disminución y acreencia social (id. Dividen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con biene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: capital inicial no suscrito ni pagado en 3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de acciones propias: Venta de acciones propias en car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835280" y="2392560"/>
            <a:ext cx="4581000" cy="3843720"/>
            <a:chOff x="1835280" y="2392560"/>
            <a:chExt cx="4581000" cy="3843720"/>
          </a:xfrm>
        </p:grpSpPr>
        <p:cxnSp>
          <p:nvCxnSpPr>
            <p:cNvPr id="315" name="_s75804"/>
            <p:cNvCxnSpPr>
              <a:stCxn id="316" idx="0"/>
              <a:endCxn id="317" idx="2"/>
            </p:cNvCxnSpPr>
            <p:nvPr/>
          </p:nvCxnSpPr>
          <p:spPr>
            <a:xfrm flipV="1" rot="16200000">
              <a:off x="4542480" y="3512160"/>
              <a:ext cx="769320" cy="160344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8" name="_s75803"/>
            <p:cNvCxnSpPr>
              <a:stCxn id="319" idx="0"/>
              <a:endCxn id="317" idx="2"/>
            </p:cNvCxnSpPr>
            <p:nvPr/>
          </p:nvCxnSpPr>
          <p:spPr>
            <a:xfrm flipV="1">
              <a:off x="4125600" y="3929400"/>
              <a:ext cx="1800" cy="76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0" name="_s75802"/>
            <p:cNvCxnSpPr>
              <a:stCxn id="321" idx="0"/>
              <a:endCxn id="317" idx="2"/>
            </p:cNvCxnSpPr>
            <p:nvPr/>
          </p:nvCxnSpPr>
          <p:spPr>
            <a:xfrm flipH="1" flipV="1" rot="5400000">
              <a:off x="2939400" y="3512160"/>
              <a:ext cx="769320" cy="160380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7" name="_s75798"/>
            <p:cNvSpPr/>
            <p:nvPr/>
          </p:nvSpPr>
          <p:spPr>
            <a:xfrm>
              <a:off x="3412800" y="2392560"/>
              <a:ext cx="1425600" cy="15375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537560"/>
                <a:gd name="textAreaBottom" fmla="*/ 1468080 h 1537560"/>
              </a:gdLst>
              <a:ahLst/>
              <a:rect l="textAreaLeft" t="textAreaTop" r="textAreaRight" b="textAreaBottom"/>
              <a:pathLst>
                <a:path w="21600" h="23296">
                  <a:moveTo>
                    <a:pt x="3600" y="0"/>
                  </a:moveTo>
                  <a:arcTo wR="3600" hR="3600" stAng="16200000" swAng="-5400000"/>
                  <a:lnTo>
                    <a:pt x="0" y="19696"/>
                  </a:lnTo>
                  <a:arcTo wR="3600" hR="3600" stAng="10800000" swAng="-5400000"/>
                  <a:lnTo>
                    <a:pt x="18000" y="232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_s75799"/>
            <p:cNvSpPr/>
            <p:nvPr/>
          </p:nvSpPr>
          <p:spPr>
            <a:xfrm>
              <a:off x="183528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lícuota del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apital soci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_s75800"/>
            <p:cNvSpPr/>
            <p:nvPr/>
          </p:nvSpPr>
          <p:spPr>
            <a:xfrm>
              <a:off x="3438360" y="4698720"/>
              <a:ext cx="1374480" cy="1537560"/>
            </a:xfrm>
            <a:custGeom>
              <a:avLst/>
              <a:gdLst>
                <a:gd name="textAreaLeft" fmla="*/ 66960 w 1374480"/>
                <a:gd name="textAreaRight" fmla="*/ 1307520 w 137448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62">
                  <a:moveTo>
                    <a:pt x="3600" y="0"/>
                  </a:moveTo>
                  <a:arcTo wR="3600" hR="3600" stAng="16200000" swAng="-5400000"/>
                  <a:lnTo>
                    <a:pt x="0" y="20562"/>
                  </a:lnTo>
                  <a:arcTo wR="3600" hR="3600" stAng="10800000" swAng="-5400000"/>
                  <a:lnTo>
                    <a:pt x="18000" y="241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Título val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_s75801"/>
            <p:cNvSpPr/>
            <p:nvPr/>
          </p:nvSpPr>
          <p:spPr>
            <a:xfrm>
              <a:off x="504144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Fuente d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Derech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2128680"/>
            <a:ext cx="8351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tas / pagadas 16 –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ces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ago / libe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unes / privilegiadas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les o de valor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 / a la orden / Portador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 o traspasos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y contractuales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causantes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 / Sin derecho a voto / limitado 16 –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la 1 acción 1 voto, 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7 /21, perjud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canía con el acreedor / b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o múltiple prohib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industria / organización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nos Convert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1280" y="2128680"/>
            <a:ext cx="835164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s que conf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esión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o solem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bertad plena en SA Abiertas, sólo pactos limitativ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en SA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gociación en bolsa, venta privada directa (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1280" y="1989000"/>
            <a:ext cx="835164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evalorización o aj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giro o expl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dendos y política de divide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lance anual al 31.12, aprobación JA pre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 Utilidades, absorción de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tivos / provisorio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ínimos obligatorios, estatutarios o legales, SA abiertas y cerrada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icionales: acuerdo JA para el año del acuerdo,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entuales: reservas futuros dividendos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ales 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y en especies 84, 85 LSA - 85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ejecutivo 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2128680"/>
            <a:ext cx="835164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minución de capital y liquidación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iquid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oridad en el pago de pasivos sociales 1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o en opciones, concepto amplio 1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imestrales o 5% valor libros (relación quiebra, repartos acre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cionistas beneficiados: Quinto día hábil pago       Acciones continúa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án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liquidadores por repartos erró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os preferentes acciones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12000" y="4579920"/>
            <a:ext cx="287280" cy="2890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1280" y="1989000"/>
            <a:ext cx="8351640" cy="59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, manifest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ctuar con voz y voto en Juntas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cánica j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elegir y ser elegido administrador / fisc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lterar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ocación directorio: total, en cualquier junta 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tación juntas: 10% acciones con derecho a voto 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l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3716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Material Básico: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4292640"/>
            <a:ext cx="648036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 SA: Títulos I, III, VI, VII, X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lamento SA: Títulos I, II,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, Tomo II  A. Puelma, (3a. Edición/2001/ Edit. Jurídica), Párraf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94 a 403, 405, 431 a 459, 525 a 5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 Mercado Valores Títulos I y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CG 30 SVS, parte pertinente a indicar en cl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18760" y="62064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989000"/>
            <a:ext cx="7417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pos de Sociedades Anón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ciedades Anónimas Abiertas y el 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n Sociedades Anónimas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, Accionistas, Acciones,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1989000"/>
            <a:ext cx="8351640" cy="61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por desacuerdo en acciones de administración (disidenc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alternativo a la disolución forzada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tiro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clusión del socio moro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disidente: opción de venta a la SA (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SA: obligación de compra acciones propias, esfuerzo de enajenar o disminución automática capi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usales del retir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tut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LSA – gené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bis /106 DL 3500 / 56 DFL 251– 81: Inversionsita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ter: Consecuencia de 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y excede el mero ámbito de la disidencia (Ley O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 objetiva del precio de compra de acciones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68360" y="2924280"/>
            <a:ext cx="719280" cy="144360"/>
          </a:xfrm>
          <a:prstGeom prst="leftRightArrow">
            <a:avLst>
              <a:gd name="adj1" fmla="val 50000"/>
              <a:gd name="adj2" fmla="val 991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468360" y="1268280"/>
            <a:ext cx="806436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tes fuentes legales del derecho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95280" y="1628640"/>
          <a:ext cx="8207280" cy="4732560"/>
        </p:xfrm>
        <a:graphic>
          <a:graphicData uri="http://schemas.openxmlformats.org/drawingml/2006/table">
            <a:tbl>
              <a:tblPr/>
              <a:tblGrid>
                <a:gridCol w="3024360"/>
                <a:gridCol w="3097080"/>
                <a:gridCol w="208584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bis /106 DL 3500 / 56 DFL 251– 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 JA det. mate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Quiebra o Convenio en interín: asegura pago pasiv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s (i) Transformación, (ii) fusión, (iii) enajenación activos, (iv) cauciones por terceros no filiales, (v) preferencias (creación, aumento, reducción) sólo series perjudicadas y (vi) saneamiento nu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s minoritarios del Estado controlador, Cias Seguros y AFP’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rincipio sólo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lasificación o rebaja clasificación de ries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es: deterioro actual o toma de riesgo (análisis de ries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especial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disidentes pueden negociar condiciones de p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 adquiere y llega a más de 2/3 ac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ción para OPA por acciones rest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ecio no inferior a derecho ret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no hay OPA nace derecho retiro para restantes accionis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11280" y="1989000"/>
            <a:ext cx="83516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independiente de otros medios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ares de Estatutos y listas de accionistas 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Público Indic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tores: obligación de informar a accionistas según det. Ley o Superintendencia de Valores y Seguros (4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que deben recibir en JA y examen de ellos en 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de memoria, balance, inventario, actas, libros, informes de auditores para revisión 15 días antes junta ordi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acho de memoria y balance 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icitud de citación a JA por 10%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lusión en la memoria de comentarios de 10% o más de accionistas (7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% o más demanda disolución social por existir causa para ello (1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95280" y="1989000"/>
            <a:ext cx="874872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s de su existen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ntrol, poder que otorga, 97 LMV y el acuerdo de actuación conjunta (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cción accionistas desprovistos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aviso de toma de control alternativo a las OPAS (54 B L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lta de control se puede deber a restricciones legales (ej. 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liquidez de la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ultad de vender, previo al retiro, diferencial de pre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rrateo del precio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egulación alcanza a ofertas voluntarias y forz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9640" y="5587920"/>
            <a:ext cx="576360" cy="505080"/>
          </a:xfrm>
          <a:prstGeom prst="rightArrow">
            <a:avLst>
              <a:gd name="adj1" fmla="val 50000"/>
              <a:gd name="adj2" fmla="val 28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1280" y="1989000"/>
            <a:ext cx="835164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,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XXV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fiere a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sociedades anónimas que hacen oferta pública de sus acciones o de valores convertibles en accion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“Valor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a oferta de compra de Valores, a sus propietarios (accionistas o ten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 de Valores y Seguros fiscaliza el proceso y por ell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odos los actor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regulados por la SVS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ara este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11280" y="1989000"/>
            <a:ext cx="8351640" cy="70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be haber O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(1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a oferta permite tomar el control de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9 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accionistas minoritarios de la SA, cuando el control lo tiene la Holding cuyas acciones se pretende adqui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tomar el control de la serie preferente (2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a en bolsa a controlador sin premio y en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trans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enajenación for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700360" y="2421000"/>
            <a:ext cx="2735280" cy="2448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ón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ubTriangle"/>
          <p:cNvSpPr/>
          <p:nvPr/>
        </p:nvSpPr>
        <p:spPr>
          <a:xfrm>
            <a:off x="4067280" y="2421000"/>
            <a:ext cx="1296720" cy="15127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2421000"/>
            <a:ext cx="3097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 % capital suscr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0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n contar quienes tengan más del 10%, directa o indirect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234936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0 o más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alquiera sea el porcentaj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en manso de may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62560" y="4437000"/>
            <a:ext cx="309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pción voluntaria de acciones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 rot="5400000">
            <a:off x="1510920" y="4832280"/>
            <a:ext cx="1369080" cy="72144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2050920" y="5734080"/>
            <a:ext cx="2952720" cy="93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2060640"/>
            <a:ext cx="41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ías aseguradoras y reasegur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. Fondos Mutu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5245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206064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22766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5396040"/>
            <a:ext cx="144720" cy="554040"/>
          </a:xfrm>
          <a:custGeom>
            <a:avLst/>
            <a:gdLst>
              <a:gd name="textAreaLeft" fmla="*/ 0 w 144720"/>
              <a:gd name="textAreaRight" fmla="*/ 52200 w 14472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554040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inguna de las anteri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320364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30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3141720"/>
            <a:ext cx="144720" cy="554040"/>
          </a:xfrm>
          <a:custGeom>
            <a:avLst/>
            <a:gdLst>
              <a:gd name="textAreaLeft" fmla="*/ 0 w 144720"/>
              <a:gd name="textAreaRight" fmla="*/ 52200 w 14472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319572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specto S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" y="4067280"/>
            <a:ext cx="417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e por disposición legal están obligadas a a hacerlo, ej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A Securitiz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ortadores de Larga Dista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4170240"/>
            <a:ext cx="71640" cy="1130400"/>
          </a:xfrm>
          <a:custGeom>
            <a:avLst/>
            <a:gdLst>
              <a:gd name="textAreaLeft" fmla="*/ 0 w 71640"/>
              <a:gd name="textAreaRight" fmla="*/ 25920 w 7164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427680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uperintendencia de Valores y Seguros, u otra entidad o simple sometimiento a normas de SA mediante procedimiento NCG 30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y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2080" y="2133720"/>
            <a:ext cx="1214280" cy="11523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98680" y="2276640"/>
            <a:ext cx="1201680" cy="609480"/>
          </a:xfrm>
          <a:prstGeom prst="wedgeRoundRectCallout">
            <a:avLst>
              <a:gd name="adj1" fmla="val 100199"/>
              <a:gd name="adj2" fmla="val -2994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1628640"/>
            <a:ext cx="1295280" cy="609840"/>
          </a:xfrm>
          <a:prstGeom prst="wedgeEllipseCallout">
            <a:avLst>
              <a:gd name="adj1" fmla="val -45587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3567240"/>
            <a:ext cx="86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Valores y de Capi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acto de oferentes y demandantes de Valores y Capitales representados en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l e Informal, art 1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 valores, emisores, intermediarios, mer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nto de vista de la oferta pública, no impide transacciones priv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nto de vista del Inversionista Institucional que participa en la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luso hay cabida para acciones de sociedades anónimas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nos referimos a valores diferentes de las acciones (bonos, efectos de comercio, cuotas, etc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/>
          <p:nvPr/>
        </p:nvCxnSpPr>
        <p:spPr>
          <a:xfrm flipV="1">
            <a:off x="5148360" y="2420640"/>
            <a:ext cx="1224720" cy="50400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6300720" y="1628640"/>
            <a:ext cx="284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horr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pecul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/>
          <p:nvPr/>
        </p:nvCxnSpPr>
        <p:spPr>
          <a:xfrm flipV="1" rot="10800000">
            <a:off x="1042200" y="2923920"/>
            <a:ext cx="2421720" cy="388080"/>
          </a:xfrm>
          <a:prstGeom prst="curvedConnector5">
            <a:avLst>
              <a:gd name="adj1" fmla="val 19134"/>
              <a:gd name="adj2" fmla="val 49953"/>
              <a:gd name="adj3" fmla="val 1913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324000" y="2276640"/>
            <a:ext cx="7920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68360" y="2128680"/>
            <a:ext cx="835200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scalización esta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speciales y su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Valores, Normativa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 accionaria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ctos de control y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acción pública y privada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, Frecuencia, Com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e Incompatibilidades de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dito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ición mínima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y transparenc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50280" y="132552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37560" y="23716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316404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4440" y="36687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9320" y="424512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8800" y="2300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3480" y="273204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5640" y="316404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85720" y="366876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82840" y="41590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15480" y="285264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Pasivo Ex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19098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9080" y="54687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03800" y="5445000"/>
            <a:ext cx="244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84360" y="2421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036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24640" y="4240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“</a:t>
            </a: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Deuda” con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51640" y="4076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32440" y="27306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1879920" y="1706400"/>
            <a:ext cx="4524120" cy="3503880"/>
            <a:chOff x="1879920" y="1706400"/>
            <a:chExt cx="4524120" cy="3503880"/>
          </a:xfrm>
        </p:grpSpPr>
        <p:sp>
          <p:nvSpPr>
            <p:cNvPr id="231" name="_s68636"/>
            <p:cNvSpPr/>
            <p:nvPr/>
          </p:nvSpPr>
          <p:spPr>
            <a:xfrm flipH="1">
              <a:off x="3528720" y="413064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_s68635"/>
            <p:cNvSpPr/>
            <p:nvPr/>
          </p:nvSpPr>
          <p:spPr>
            <a:xfrm>
              <a:off x="2525760" y="413244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icial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Pag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_s68634"/>
            <p:cNvSpPr/>
            <p:nvPr/>
          </p:nvSpPr>
          <p:spPr>
            <a:xfrm>
              <a:off x="4929120" y="413064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_s68633"/>
            <p:cNvSpPr/>
            <p:nvPr/>
          </p:nvSpPr>
          <p:spPr>
            <a:xfrm>
              <a:off x="5326200" y="413244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ri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_s68632"/>
            <p:cNvSpPr/>
            <p:nvPr/>
          </p:nvSpPr>
          <p:spPr>
            <a:xfrm flipV="1">
              <a:off x="4464000" y="278280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_s68631"/>
            <p:cNvSpPr/>
            <p:nvPr/>
          </p:nvSpPr>
          <p:spPr>
            <a:xfrm>
              <a:off x="3925800" y="1706400"/>
              <a:ext cx="1077840" cy="1078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evalo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z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_s68630"/>
            <p:cNvSpPr/>
            <p:nvPr/>
          </p:nvSpPr>
          <p:spPr>
            <a:xfrm>
              <a:off x="3925800" y="332424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79920" y="278136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292720" y="1557360"/>
            <a:ext cx="352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juste de plen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aprobación del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corrección mone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9272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erdos Estatu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mento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minu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8000" y="1628640"/>
            <a:ext cx="33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tros medios de financiamiento por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tas. Ctes. Merca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800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ligación de a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rte, entero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2128680"/>
            <a:ext cx="835164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aloriz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mente no es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 por aprobación del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: Impropiedades art. 10 # 2 LSA; corrección art. 8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revalorización entre cuentas del patrimonio n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orma estatutaria / Junt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sorción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ización o distribución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ción en aumento de número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u otras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5-05-24T02:19:41Z</dcterms:modified>
  <cp:revision>126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