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829FB-1887-4A17-8836-17C57FBB5B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93B71-F29C-4011-BF56-CF70D7922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B7DD-0295-4FCA-BF44-7E8E65FAB6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F181-BE26-4CD2-81F0-9CAB8ACE13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ADCE5-E002-4DFF-BB71-4EECFF603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21667-CE35-4A65-8C53-6E4BEFA4C0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86C4A-A79C-49CE-BC06-0F91890FC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183E6-9474-432B-8B76-5B50DCBE4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62E6C-1B4A-466F-BF1C-C6705F20D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93DF-B602-42F2-A45B-B8F6E6A1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8DD04-BEC8-4EA8-B472-D6133FABC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C8EF-A9BD-4F8A-9905-B1F4FE42D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35A62-1B23-4B8A-8BDD-7B4F3B4998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2128680"/>
            <a:ext cx="835164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2) Pagado // (continu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asación pericial o acuerdo unánime bienes distintos del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ón preferente suscripción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pción y emis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 coloc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nor o mayor valor precio colocación y relación valor lib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 Lib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distribución patrimon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uentas de utilidades y revalorizaciones leg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 o nuev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SMINUCION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611280" y="2128680"/>
            <a:ext cx="8351640" cy="464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 con reparto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tencial perjuicio acreedores: hay pérdida de lo aportado, no menor ingreso esperado (dif. con utilida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rmas de protección a terceros acreedor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blicación de avi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rédito de acreedores es prefer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sión social y disminución de capital: Acreedor mantiene intactos sus derechos en contra de las sociedades resultantes de la div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claración de disminución y acreencia social (id. Dividend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con bienes so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: capital inicial no suscrito ni pagado en 3 añ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de acciones propias: Venta de acciones propias en carte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13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4" name=""/>
          <p:cNvGrpSpPr/>
          <p:nvPr/>
        </p:nvGrpSpPr>
        <p:grpSpPr>
          <a:xfrm>
            <a:off x="1835280" y="2392560"/>
            <a:ext cx="4581000" cy="3843720"/>
            <a:chOff x="1835280" y="2392560"/>
            <a:chExt cx="4581000" cy="3843720"/>
          </a:xfrm>
        </p:grpSpPr>
        <p:cxnSp>
          <p:nvCxnSpPr>
            <p:cNvPr id="315" name="_s75804"/>
            <p:cNvCxnSpPr>
              <a:stCxn id="316" idx="0"/>
              <a:endCxn id="317" idx="2"/>
            </p:cNvCxnSpPr>
            <p:nvPr/>
          </p:nvCxnSpPr>
          <p:spPr>
            <a:xfrm flipV="1" rot="16200000">
              <a:off x="4542480" y="3512160"/>
              <a:ext cx="769320" cy="160344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18" name="_s75803"/>
            <p:cNvCxnSpPr>
              <a:stCxn id="319" idx="0"/>
              <a:endCxn id="317" idx="2"/>
            </p:cNvCxnSpPr>
            <p:nvPr/>
          </p:nvCxnSpPr>
          <p:spPr>
            <a:xfrm flipV="1">
              <a:off x="4125600" y="3929400"/>
              <a:ext cx="1800" cy="769320"/>
            </a:xfrm>
            <a:prstGeom prst="bentConnector2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320" name="_s75802"/>
            <p:cNvCxnSpPr>
              <a:stCxn id="321" idx="0"/>
              <a:endCxn id="317" idx="2"/>
            </p:cNvCxnSpPr>
            <p:nvPr/>
          </p:nvCxnSpPr>
          <p:spPr>
            <a:xfrm flipH="1" flipV="1" rot="5400000">
              <a:off x="2939400" y="3512160"/>
              <a:ext cx="769320" cy="1603800"/>
            </a:xfrm>
            <a:prstGeom prst="bentConnector3">
              <a:avLst>
                <a:gd name="adj1" fmla="val 14840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317" name="_s75798"/>
            <p:cNvSpPr/>
            <p:nvPr/>
          </p:nvSpPr>
          <p:spPr>
            <a:xfrm>
              <a:off x="3412800" y="2392560"/>
              <a:ext cx="1425600" cy="1537560"/>
            </a:xfrm>
            <a:custGeom>
              <a:avLst/>
              <a:gdLst>
                <a:gd name="textAreaLeft" fmla="*/ 69480 w 1425600"/>
                <a:gd name="textAreaRight" fmla="*/ 1356120 w 1425600"/>
                <a:gd name="textAreaTop" fmla="*/ 69480 h 1537560"/>
                <a:gd name="textAreaBottom" fmla="*/ 1468080 h 1537560"/>
              </a:gdLst>
              <a:ahLst/>
              <a:rect l="textAreaLeft" t="textAreaTop" r="textAreaRight" b="textAreaBottom"/>
              <a:pathLst>
                <a:path w="21600" h="23296">
                  <a:moveTo>
                    <a:pt x="3600" y="0"/>
                  </a:moveTo>
                  <a:arcTo wR="3600" hR="3600" stAng="16200000" swAng="-5400000"/>
                  <a:lnTo>
                    <a:pt x="0" y="19696"/>
                  </a:lnTo>
                  <a:arcTo wR="3600" hR="3600" stAng="10800000" swAng="-5400000"/>
                  <a:lnTo>
                    <a:pt x="18000" y="2329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CCIONE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_s75799"/>
            <p:cNvSpPr/>
            <p:nvPr/>
          </p:nvSpPr>
          <p:spPr>
            <a:xfrm>
              <a:off x="183528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Alícuota del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capital social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_s75800"/>
            <p:cNvSpPr/>
            <p:nvPr/>
          </p:nvSpPr>
          <p:spPr>
            <a:xfrm>
              <a:off x="3438360" y="4698720"/>
              <a:ext cx="1374480" cy="1537560"/>
            </a:xfrm>
            <a:custGeom>
              <a:avLst/>
              <a:gdLst>
                <a:gd name="textAreaLeft" fmla="*/ 66960 w 1374480"/>
                <a:gd name="textAreaRight" fmla="*/ 1307520 w 137448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62">
                  <a:moveTo>
                    <a:pt x="3600" y="0"/>
                  </a:moveTo>
                  <a:arcTo wR="3600" hR="3600" stAng="16200000" swAng="-5400000"/>
                  <a:lnTo>
                    <a:pt x="0" y="20562"/>
                  </a:lnTo>
                  <a:arcTo wR="3600" hR="3600" stAng="10800000" swAng="-5400000"/>
                  <a:lnTo>
                    <a:pt x="18000" y="2416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Título valor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_s75801"/>
            <p:cNvSpPr/>
            <p:nvPr/>
          </p:nvSpPr>
          <p:spPr>
            <a:xfrm>
              <a:off x="5041440" y="4698720"/>
              <a:ext cx="1374840" cy="1537560"/>
            </a:xfrm>
            <a:custGeom>
              <a:avLst/>
              <a:gdLst>
                <a:gd name="textAreaLeft" fmla="*/ 66960 w 1374840"/>
                <a:gd name="textAreaRight" fmla="*/ 1307880 w 1374840"/>
                <a:gd name="textAreaTop" fmla="*/ 66960 h 1537560"/>
                <a:gd name="textAreaBottom" fmla="*/ 1470600 h 1537560"/>
              </a:gdLst>
              <a:ahLst/>
              <a:rect l="textAreaLeft" t="textAreaTop" r="textAreaRight" b="textAreaBottom"/>
              <a:pathLst>
                <a:path w="21600" h="24156">
                  <a:moveTo>
                    <a:pt x="3600" y="0"/>
                  </a:moveTo>
                  <a:arcTo wR="3600" hR="3600" stAng="16200000" swAng="-5400000"/>
                  <a:lnTo>
                    <a:pt x="0" y="20556"/>
                  </a:lnTo>
                  <a:arcTo wR="3600" hR="3600" stAng="10800000" swAng="-5400000"/>
                  <a:lnTo>
                    <a:pt x="18000" y="2415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7040" rIns="77040" tIns="38520" bIns="385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Fuente de 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500" spc="-1" strike="noStrike">
                  <a:solidFill>
                    <a:srgbClr val="000000"/>
                  </a:solidFill>
                  <a:latin typeface="Arial"/>
                </a:rPr>
                <a:t>Derechos</a:t>
              </a:r>
              <a:endParaRPr b="0" lang="en-US" sz="15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611280" y="2128680"/>
            <a:ext cx="835164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scritas / pagadas 16 – 1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cesion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ago / libe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unes / privilegiadas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les o de valor re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 / a la orden / Portador 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 o traspasos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y contractuales 1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causantes 1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tegoría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 / Sin derecho a voto / limitado 16 – 2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la 1 acción 1 voto, 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7 /21, perjudic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canía con el acreedor / bon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16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o múltiple prohibi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industria / organización 1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es 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onos Convertib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74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611280" y="2128680"/>
            <a:ext cx="8351640" cy="30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s que confier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39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11280" y="2128680"/>
            <a:ext cx="8351640" cy="332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Cesión de las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minativ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to solem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ibertad plena en SA Abiertas, sólo pactos limitativos;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tricciones estatutarias en SA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egociación en bolsa, venta privada directa (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611280" y="1989000"/>
            <a:ext cx="8351640" cy="49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enefic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revalorización o ajus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giro o explot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videndos y política de dividen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lance anual al 31.12, aprobación JA prev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 Utilidades, absorción de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finitivos / provisorio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ínimos obligatorios, estatutarios o legales, SA abiertas y cerradas 7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icionales: acuerdo JA para el año del acuerdo,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ventuales: reservas futuros dividendos 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Opcionales 8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y en especies 84, 85 LSA - 85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ejecutivo 8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7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28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11280" y="2128680"/>
            <a:ext cx="835164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repartos de capital (disminuciones, liquidació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minución de capital y liquidación so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Liquidación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ioridad en el pago de pasivos sociales 11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o en opciones, concepto amplio 1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imestrales o 5% valor libros (relación quiebra, repartos acre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ccionistas beneficiados: Quinto día hábil pago       Acciones continúan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ándo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sponsabilidad solidaria liquidadores por repartos erróne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os preferentes acciones privilegi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6012000" y="4579920"/>
            <a:ext cx="287280" cy="289080"/>
          </a:xfrm>
          <a:custGeom>
            <a:avLst/>
            <a:gdLst>
              <a:gd name="textAreaLeft" fmla="*/ 118440 w 287280"/>
              <a:gd name="textAreaRight" fmla="*/ 168840 w 287280"/>
              <a:gd name="textAreaTop" fmla="*/ 119160 h 289080"/>
              <a:gd name="textAreaBottom" fmla="*/ 169920 h 289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611280" y="1989000"/>
            <a:ext cx="8351640" cy="59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ticipación en la Administración, manifestacion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ctuar con voz y voto en Juntas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cánica jun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elegir y ser elegido administrador / fiscaliz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ot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alterar la 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ocación directorio: total, en cualquier junta 3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itación juntas: 10% acciones con derecho a voto 5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l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11280" y="141300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413000"/>
            <a:ext cx="15264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26920" y="371628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00000" y="4292640"/>
            <a:ext cx="6480360" cy="225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: Títulos I, III, VI, VII, XI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: Títulos I, II, 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, (3a. Edición/2001/ Edit. Jurídica), Párrafo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94 a 403, 405, 431 a 459, 525 a 53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Mercado Valores Títulos I y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CG 30 SVS, parte pertinente a indicar en cla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318760" y="620640"/>
            <a:ext cx="487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39640" y="3340080"/>
            <a:ext cx="1728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26920" y="1989000"/>
            <a:ext cx="741708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ipos de Sociedades Anónim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ciedades Anónimas Abiertas y el 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cias con Sociedades Anónimas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, Accionistas, Acciones, Acreed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11280" y="1989000"/>
            <a:ext cx="8351640" cy="618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retiro por desacuerdo en acciones de administración (disidenc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étodo alternativo a la disolución forzada de la socie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tiro 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clusión del socio moroso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disidente: opción de venta a la SA (Pu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to. vista SA: obligación de compra acciones propias, esfuerzo de enajenar o disminución automática capit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usales del retiro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tatutar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LSA – genér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bis /106 DL 3500 / 56 DFL 251– 81: Inversionsitas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4" marL="22860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rt 69 ter: Consecuencia de OP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Hoy excede el mero ámbito de la disidencia (Ley Opa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 objetiva del precio de compra de acciones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268360" y="2924280"/>
            <a:ext cx="719280" cy="144360"/>
          </a:xfrm>
          <a:prstGeom prst="leftRightArrow">
            <a:avLst>
              <a:gd name="adj1" fmla="val 50000"/>
              <a:gd name="adj2" fmla="val 991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3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484" name=""/>
          <p:cNvSpPr/>
          <p:nvPr/>
        </p:nvSpPr>
        <p:spPr>
          <a:xfrm>
            <a:off x="468360" y="1268280"/>
            <a:ext cx="8064360" cy="206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ferentes fuentes legales del derecho de reti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5" name=""/>
          <p:cNvGraphicFramePr/>
          <p:nvPr/>
        </p:nvGraphicFramePr>
        <p:xfrm>
          <a:off x="395280" y="1628640"/>
          <a:ext cx="8207280" cy="4732560"/>
        </p:xfrm>
        <a:graphic>
          <a:graphicData uri="http://schemas.openxmlformats.org/drawingml/2006/table">
            <a:tbl>
              <a:tblPr/>
              <a:tblGrid>
                <a:gridCol w="3024360"/>
                <a:gridCol w="3097080"/>
                <a:gridCol w="2085840"/>
              </a:tblGrid>
              <a:tr h="63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bis /106 DL 3500 / 56 DFL 251– 8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. 69 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0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erdo JA det. materi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Quiebra o Convenio en interín: asegura pago pasivos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terias (i) Transformación, (ii) fusión, (iii) enajenación activos, (iv) cauciones por terceros no filiales, (v) preferencias (creación, aumento, reducción) sólo series perjudicadas y (vi) saneamiento nulida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s minoritarios del Estado controlador, Cias Seguros y AFP’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 principio sólo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lasificación o rebaja clasificación de ries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nifestación disidenc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ausales: deterioro actual o toma de riesgo (análisis de riesgo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o especial SA abier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/3 disidentes pueden negociar condiciones de pag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cionista adquiere y llega a más de 2/3 accion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pción para OPA por acciones restant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 precio no inferior a derecho retir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CL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 no hay OPA nace derecho retiro para restantes accionist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buClr>
                          <a:srgbClr val="00000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02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CCIONES, SU ROL Y DERECH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611280" y="1989000"/>
            <a:ext cx="835164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recho a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independiente de otros medios de fiscaliz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jemplares de Estatutos y listas de accionistas (7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Público Indicativ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rectores: obligación de informar a accionistas según det. Ley o Superintendencia de Valores y Seguros (46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que deben recibir en JA y examen de ellos en J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ntrega de memoria, balance, inventario, actas, libros, informes de auditores para revisión 15 días antes junta ordina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spacho de memoria y balance 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licitud de citación a JA por 10%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ión en la memoria de comentarios de 10% o más de accionistas (7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20% o más demanda disolución social por existir causa para ello (105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20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95280" y="1989000"/>
            <a:ext cx="8748720" cy="481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undamentos de su existencia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control, poder que otorga, 97 LMV y el acuerdo de actuación conjunta (98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tección accionistas desprovistos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aviso de toma de control alternativo a las OPAS (54 B LMV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lta de control se puede deber a restricciones legales (ej. AFP’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ecio del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liquidez de la ac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acultad de vender, previo al retiro, diferencial de preci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rrateo del precio de contro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regulación alcanza a ofertas voluntarias y forzos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39640" y="5587920"/>
            <a:ext cx="576360" cy="505080"/>
          </a:xfrm>
          <a:prstGeom prst="rightArrow">
            <a:avLst>
              <a:gd name="adj1" fmla="val 50000"/>
              <a:gd name="adj2" fmla="val 28528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611280" y="1989000"/>
            <a:ext cx="8351640" cy="45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ción,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ítulo XXV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e refiere a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sociedades anónimas que hacen oferta pública de sus acciones o de valores convertibles en accion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“Valores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una oferta de compra de Valores, a sus propietarios (accionistas o tenedor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 de Valores y Seguros fiscaliza el proceso y por ello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todos los actore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on regulados por la SVS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para este proce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557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OP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611280" y="1989000"/>
            <a:ext cx="8351640" cy="70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Debe haber OPA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(19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la oferta permite tomar el control de 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69 t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accionistas minoritarios de la SA, cuando el control lo tiene la Holding cuyas acciones se pretende adquiri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ra tomar el control de la serie preferente (20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Arial"/>
              </a:rPr>
              <a:t>Excep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quisición acciones de pag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mpra en bolsa a controlador sin premio y en d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fu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transmis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i por enajenación forzad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2700360" y="2421000"/>
            <a:ext cx="2735280" cy="244800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nóni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ubTriangle"/>
          <p:cNvSpPr/>
          <p:nvPr/>
        </p:nvSpPr>
        <p:spPr>
          <a:xfrm>
            <a:off x="4067280" y="2421000"/>
            <a:ext cx="1296720" cy="1512720"/>
          </a:xfr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219640" y="2421000"/>
            <a:ext cx="309744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 % capital suscri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l menos 100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in contar quienes tengan más del 10%, directa o indirect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79280" y="2349360"/>
            <a:ext cx="309744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500 o más 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ualquiera sea el porcentaje d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es en manso de may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362560" y="4437000"/>
            <a:ext cx="3097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nscripción voluntaria de acciones en Registr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3" name=""/>
          <p:cNvCxnSpPr/>
          <p:nvPr/>
        </p:nvCxnSpPr>
        <p:spPr>
          <a:xfrm rot="5400000">
            <a:off x="1510920" y="4832280"/>
            <a:ext cx="1369080" cy="721440"/>
          </a:xfrm>
          <a:prstGeom prst="curvedConnector5">
            <a:avLst>
              <a:gd name="adj1" fmla="val 50000"/>
              <a:gd name="adj2" fmla="val 49975"/>
              <a:gd name="adj3" fmla="val 50000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04" name=""/>
          <p:cNvSpPr/>
          <p:nvPr/>
        </p:nvSpPr>
        <p:spPr>
          <a:xfrm>
            <a:off x="2050920" y="5734080"/>
            <a:ext cx="2952720" cy="93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4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Tipos de Sociedades Anónim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79280" y="2060640"/>
            <a:ext cx="417672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26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ías aseguradoras y reasegur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. Fondos Mutu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de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68360" y="552456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95640" y="2060640"/>
            <a:ext cx="152640" cy="914400"/>
          </a:xfrm>
          <a:custGeom>
            <a:avLst/>
            <a:gdLst>
              <a:gd name="textAreaLeft" fmla="*/ 0 w 152640"/>
              <a:gd name="textAreaRight" fmla="*/ 5508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211640" y="227664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95640" y="539604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11640" y="5540400"/>
            <a:ext cx="417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Ninguna de las anteri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79280" y="3203640"/>
            <a:ext cx="4176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30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995640" y="3141720"/>
            <a:ext cx="144720" cy="554040"/>
          </a:xfrm>
          <a:custGeom>
            <a:avLst/>
            <a:gdLst>
              <a:gd name="textAreaLeft" fmla="*/ 0 w 144720"/>
              <a:gd name="textAreaRight" fmla="*/ 52200 w 144720"/>
              <a:gd name="textAreaTop" fmla="*/ 14400 h 554040"/>
              <a:gd name="textAreaBottom" fmla="*/ 539640 h 55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140360" y="3195720"/>
            <a:ext cx="41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rospecto SAF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8000" y="4067280"/>
            <a:ext cx="41767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 L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Que por disposición legal están obligadas a a hacerlo, ejs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A Securitizador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ortadores de Larga Dista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356000" y="4170240"/>
            <a:ext cx="71640" cy="1130400"/>
          </a:xfrm>
          <a:custGeom>
            <a:avLst/>
            <a:gdLst>
              <a:gd name="textAreaLeft" fmla="*/ 0 w 71640"/>
              <a:gd name="textAreaRight" fmla="*/ 25920 w 71640"/>
              <a:gd name="textAreaTop" fmla="*/ 29160 h 1130400"/>
              <a:gd name="textAreaBottom" fmla="*/ 1101240 h 113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276800"/>
            <a:ext cx="4176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utorización de Existencia Superintendencia de Valores y Seguros, u otra entidad o simple sometimiento a normas de SA mediante procedimiento NCG 30 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y Mercado de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395280" y="1557360"/>
            <a:ext cx="309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502080" y="2133720"/>
            <a:ext cx="1214280" cy="1152360"/>
          </a:xfrm>
          <a:custGeom>
            <a:avLst/>
            <a:gdLst>
              <a:gd name="textAreaLeft" fmla="*/ 303480 w 1214280"/>
              <a:gd name="textAreaRight" fmla="*/ 910800 w 1214280"/>
              <a:gd name="textAreaTop" fmla="*/ 0 h 1152360"/>
              <a:gd name="textAreaBottom" fmla="*/ 1152360 h 115236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16200" y="0"/>
                </a:lnTo>
                <a:lnTo>
                  <a:pt x="16200" y="8100"/>
                </a:lnTo>
                <a:lnTo>
                  <a:pt x="18900" y="8100"/>
                </a:lnTo>
                <a:lnTo>
                  <a:pt x="18900" y="5500"/>
                </a:lnTo>
                <a:lnTo>
                  <a:pt x="21600" y="10800"/>
                </a:lnTo>
                <a:lnTo>
                  <a:pt x="18900" y="16100"/>
                </a:lnTo>
                <a:lnTo>
                  <a:pt x="18900" y="13500"/>
                </a:lnTo>
                <a:lnTo>
                  <a:pt x="16200" y="13500"/>
                </a:lnTo>
                <a:lnTo>
                  <a:pt x="16200" y="21600"/>
                </a:lnTo>
                <a:lnTo>
                  <a:pt x="5400" y="21600"/>
                </a:lnTo>
                <a:lnTo>
                  <a:pt x="5400" y="13500"/>
                </a:lnTo>
                <a:lnTo>
                  <a:pt x="2700" y="13500"/>
                </a:lnTo>
                <a:lnTo>
                  <a:pt x="2700" y="16100"/>
                </a:lnTo>
                <a:lnTo>
                  <a:pt x="0" y="10800"/>
                </a:lnTo>
                <a:lnTo>
                  <a:pt x="2700" y="5500"/>
                </a:lnTo>
                <a:lnTo>
                  <a:pt x="2700" y="8100"/>
                </a:lnTo>
                <a:lnTo>
                  <a:pt x="5400" y="8100"/>
                </a:ln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98680" y="2276640"/>
            <a:ext cx="1201680" cy="609480"/>
          </a:xfrm>
          <a:prstGeom prst="wedgeRoundRectCallout">
            <a:avLst>
              <a:gd name="adj1" fmla="val 100199"/>
              <a:gd name="adj2" fmla="val -29949"/>
              <a:gd name="adj3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PR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788000" y="1628640"/>
            <a:ext cx="1295280" cy="609840"/>
          </a:xfrm>
          <a:prstGeom prst="wedgeEllipseCallout">
            <a:avLst>
              <a:gd name="adj1" fmla="val -45587"/>
              <a:gd name="adj2" fmla="val 7005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END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3567240"/>
            <a:ext cx="8675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Mercado Valores y de Capit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ontacto de oferentes y demandantes de Valores y Capitales representados en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ormal e Informal, art 1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ula valores, emisores, intermediarios, merca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 la oferta pública, no impide transacciones priv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unto de vista del Inversionista Institucional que participa en la ope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cluso hay cabida para acciones de sociedades anónimas cerra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nos referimos a valores diferentes de las acciones (bonos, efectos de comercio, cuotas, etc …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5" name=""/>
          <p:cNvCxnSpPr/>
          <p:nvPr/>
        </p:nvCxnSpPr>
        <p:spPr>
          <a:xfrm flipV="1">
            <a:off x="5148360" y="2420640"/>
            <a:ext cx="1224720" cy="504000"/>
          </a:xfrm>
          <a:prstGeom prst="bentConnector3">
            <a:avLst>
              <a:gd name="adj1" fmla="val 49926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6300720" y="1628640"/>
            <a:ext cx="2843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Ahorr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Especulad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versionist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</a:rPr>
              <a:t>Institucion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7" name=""/>
          <p:cNvCxnSpPr/>
          <p:nvPr/>
        </p:nvCxnSpPr>
        <p:spPr>
          <a:xfrm flipV="1" rot="10800000">
            <a:off x="1042200" y="2923920"/>
            <a:ext cx="2421720" cy="388080"/>
          </a:xfrm>
          <a:prstGeom prst="curvedConnector5">
            <a:avLst>
              <a:gd name="adj1" fmla="val 19134"/>
              <a:gd name="adj2" fmla="val 49953"/>
              <a:gd name="adj3" fmla="val 19134"/>
            </a:avLst>
          </a:prstGeom>
          <a:ln w="9360">
            <a:solidFill>
              <a:srgbClr val="00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324000" y="2276640"/>
            <a:ext cx="792000" cy="9144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DIFERENCIAS SA ABIERTAS, CERRADAS Y ESPE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68360" y="2128680"/>
            <a:ext cx="835200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Fiscalización esta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uperintendenci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SA Especiales y su obj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gistro de Valores, Normativa LM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piedad accionaria y su cesibilid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ctos de control y de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ransacción pública y privada de val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úmero, Frecuencia, Comité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habilidades e Incompatibilidades de Director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ditor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artición mínima de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formación y transparenci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250280" y="1325520"/>
            <a:ext cx="637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ahoma"/>
              </a:rPr>
              <a:t>Representación financiera del Cap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203960" y="62373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637560" y="2371680"/>
            <a:ext cx="105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ACT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11280" y="3164040"/>
            <a:ext cx="132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irculan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04440" y="3668760"/>
            <a:ext cx="60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Fij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89320" y="4245120"/>
            <a:ext cx="715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Otr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358800" y="2300400"/>
            <a:ext cx="1043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SIV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73480" y="2732040"/>
            <a:ext cx="24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Larg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75640" y="3164040"/>
            <a:ext cx="240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Acreedores Corto Plaz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85720" y="3668760"/>
            <a:ext cx="175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 u="sng">
                <a:solidFill>
                  <a:srgbClr val="000000"/>
                </a:solidFill>
                <a:uFillTx/>
                <a:latin typeface="Tahoma"/>
              </a:rPr>
              <a:t>Patrimonio Ne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82840" y="4159080"/>
            <a:ext cx="2148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Capital Pag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Utilidades / Pérdi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serv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Revalorizaci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6315480" y="2852640"/>
            <a:ext cx="19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Pasivo Exig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1909800"/>
            <a:ext cx="590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Balance</a:t>
            </a:r>
            <a:r>
              <a:rPr b="0" lang="es-CL" sz="18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ahoma"/>
              </a:rPr>
              <a:t>Fotografía, estático - Patrimon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339080" y="5468760"/>
            <a:ext cx="2395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SUSTENTO DEL AC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303800" y="5445000"/>
            <a:ext cx="2448000" cy="43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flipH="1">
            <a:off x="1258920" y="5877000"/>
            <a:ext cx="4176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258920" y="4869000"/>
            <a:ext cx="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933560" y="6021360"/>
            <a:ext cx="21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Ecuación de Suma 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979640" y="6021360"/>
            <a:ext cx="2016000" cy="287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84360" y="2421000"/>
            <a:ext cx="0" cy="30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940360" y="3284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24640" y="42400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“</a:t>
            </a:r>
            <a:r>
              <a:rPr b="0" lang="es-CL" sz="2000" spc="-1" strike="noStrike">
                <a:solidFill>
                  <a:srgbClr val="800000"/>
                </a:solidFill>
                <a:latin typeface="Tahoma"/>
              </a:rPr>
              <a:t>Deuda” con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651640" y="407664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932440" y="2730600"/>
            <a:ext cx="152280" cy="914400"/>
          </a:xfrm>
          <a:custGeom>
            <a:avLst/>
            <a:gdLst>
              <a:gd name="textAreaLeft" fmla="*/ 0 w 152280"/>
              <a:gd name="textAreaRight" fmla="*/ 55080 w 15228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, Capita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1879920" y="1706400"/>
            <a:ext cx="4524120" cy="3503880"/>
            <a:chOff x="1879920" y="1706400"/>
            <a:chExt cx="4524120" cy="3503880"/>
          </a:xfrm>
        </p:grpSpPr>
        <p:sp>
          <p:nvSpPr>
            <p:cNvPr id="231" name="_s68636"/>
            <p:cNvSpPr/>
            <p:nvPr/>
          </p:nvSpPr>
          <p:spPr>
            <a:xfrm flipH="1">
              <a:off x="3528720" y="4130640"/>
              <a:ext cx="469800" cy="270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_s68635"/>
            <p:cNvSpPr/>
            <p:nvPr/>
          </p:nvSpPr>
          <p:spPr>
            <a:xfrm>
              <a:off x="252576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Inicial /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Pag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_s68634"/>
            <p:cNvSpPr/>
            <p:nvPr/>
          </p:nvSpPr>
          <p:spPr>
            <a:xfrm>
              <a:off x="4929120" y="4130640"/>
              <a:ext cx="468360" cy="27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_s68633"/>
            <p:cNvSpPr/>
            <p:nvPr/>
          </p:nvSpPr>
          <p:spPr>
            <a:xfrm>
              <a:off x="5326200" y="41324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Vari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_s68632"/>
            <p:cNvSpPr/>
            <p:nvPr/>
          </p:nvSpPr>
          <p:spPr>
            <a:xfrm flipV="1">
              <a:off x="4464000" y="2782800"/>
              <a:ext cx="0" cy="5414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_s68631"/>
            <p:cNvSpPr/>
            <p:nvPr/>
          </p:nvSpPr>
          <p:spPr>
            <a:xfrm>
              <a:off x="3925800" y="1706400"/>
              <a:ext cx="1077840" cy="107820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Revalor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zacione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_s68630"/>
            <p:cNvSpPr/>
            <p:nvPr/>
          </p:nvSpPr>
          <p:spPr>
            <a:xfrm>
              <a:off x="3925800" y="3324240"/>
              <a:ext cx="1077840" cy="107784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8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879920" y="2781360"/>
              <a:ext cx="1828080" cy="1828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5292720" y="1557360"/>
            <a:ext cx="35272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juste de pleno derech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aprobación del bal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Relación con corrección monetar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29272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cuerdos Estatutari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umento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Disminución de Capit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8000" y="1628640"/>
            <a:ext cx="33116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tros medios de financiamiento por los accionist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éstam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tas. Ctes. Mercanti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08000" y="5229360"/>
            <a:ext cx="3456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ontribución ini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Obligación de apor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porte, entero y pa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640" y="728640"/>
            <a:ext cx="7623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99"/>
                </a:solidFill>
                <a:latin typeface="Arial"/>
              </a:rPr>
              <a:t>Sociedades Anónima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95280" y="155736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99"/>
                </a:solidFill>
                <a:latin typeface="Arial"/>
              </a:rPr>
              <a:t>AUMENTOS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2128680"/>
            <a:ext cx="8351640" cy="49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valoriz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Técnicamente no es aumento de capi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e pleno derecho por aprobación del bal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umento valor nominal: Impropiedades art. 10 # 2 LSA; corrección art. 8 RS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ribución de revalorización entre cuentas del patrimonio ne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forma estatutaria / Junta Accionist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AutoNum type="arabicParenR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s previ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bsorción pérdida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Capitalización o distribución utilidad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3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Representación en aumento de número de ac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4)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ago en dinero u otras espe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5-24T02:19:41Z</dcterms:modified>
  <cp:revision>126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