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D70-4736-4319-84C8-7935741B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28E-211C-413A-A23E-46D1BA21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728-51C5-464F-90D8-29A5022C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421-7094-4FBA-8836-DD41B2A0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0B5-A17C-4948-8C66-9D4FA07C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617-E2EB-4D8B-A74E-04F104B7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D34-707C-4398-BBAF-E7CC95D5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C7C-0775-4571-8A0C-FB20932C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CD6-3099-4740-A9BF-13241A1D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E99-9D85-40EB-93B1-965E653C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562-B4C8-4201-B48E-0775898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A63-5352-4B9D-B60C-606DDF1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AE99-14B8-4EFF-9D66-2D6AF64EA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315" name="_s75804"/>
            <p:cNvCxnSpPr>
              <a:stCxn id="316" idx="0"/>
              <a:endCxn id="317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8" name="_s75803"/>
            <p:cNvCxnSpPr>
              <a:stCxn id="319" idx="0"/>
              <a:endCxn id="317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0" name="_s75802"/>
            <p:cNvCxnSpPr>
              <a:stCxn id="321" idx="0"/>
              <a:endCxn id="317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7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sólo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292640"/>
            <a:ext cx="64803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: Títulos I, III, VI, VII,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: Títulos I, II,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, (3a. Edición/2001/ Edit. Jurídica), Párraf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94 a 403, 405, 431 a 459, 525 a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Mercado Valores Títulos I 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CG 30 SVS, parte pertinente a indicar en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4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s de Sociedades Anó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ciedades Anónimas Abiertas y 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Sociedades Anónimas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Accionistas, Acciones,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21000"/>
            <a:ext cx="309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so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4437000"/>
            <a:ext cx="309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rot="5400000">
            <a:off x="1510920" y="4832280"/>
            <a:ext cx="1369080" cy="72144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050920" y="5734080"/>
            <a:ext cx="2952720" cy="93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5245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0606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39604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5404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14172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67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por disposición legal están obligadas a a hacerlo, ej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 Securitiz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tadores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170240"/>
            <a:ext cx="71640" cy="1130400"/>
          </a:xfrm>
          <a:custGeom>
            <a:avLst/>
            <a:gdLst>
              <a:gd name="textAreaLeft" fmla="*/ 0 w 71640"/>
              <a:gd name="textAreaRight" fmla="*/ 25920 w 7164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2768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uperintendencia de Valores y Seguros, u otra entidad o simple sometimiento a normas de SA mediante procedimiento NCG 30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6724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Valores y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cto de oferentes y demandantes de Valores y Capitales representados en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l e Informal, art 1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 valores, emisores, intermediarios,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 la oferta pública, no impide transacciones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l Inversionista Institucional que participa en la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o hay cabida para acciones de sociedades anónimas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nos referimos a valores diferentes de las acciones (bonos, efectos de comercio, cuotas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300720" y="162864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V="1" rot="10800000">
            <a:off x="1042200" y="2923920"/>
            <a:ext cx="2421720" cy="388080"/>
          </a:xfrm>
          <a:prstGeom prst="curvedConnector5">
            <a:avLst>
              <a:gd name="adj1" fmla="val 19134"/>
              <a:gd name="adj2" fmla="val 49953"/>
              <a:gd name="adj3" fmla="val 191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324000" y="2276640"/>
            <a:ext cx="792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2128680"/>
            <a:ext cx="835200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879920" y="1706400"/>
            <a:ext cx="4524120" cy="3503880"/>
            <a:chOff x="1879920" y="1706400"/>
            <a:chExt cx="4524120" cy="3503880"/>
          </a:xfrm>
        </p:grpSpPr>
        <p:sp>
          <p:nvSpPr>
            <p:cNvPr id="231" name="_s68636"/>
            <p:cNvSpPr/>
            <p:nvPr/>
          </p:nvSpPr>
          <p:spPr>
            <a:xfrm flipH="1">
              <a:off x="3528720" y="41306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68635"/>
            <p:cNvSpPr/>
            <p:nvPr/>
          </p:nvSpPr>
          <p:spPr>
            <a:xfrm>
              <a:off x="252576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_s68634"/>
            <p:cNvSpPr/>
            <p:nvPr/>
          </p:nvSpPr>
          <p:spPr>
            <a:xfrm>
              <a:off x="4929120" y="413064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68633"/>
            <p:cNvSpPr/>
            <p:nvPr/>
          </p:nvSpPr>
          <p:spPr>
            <a:xfrm>
              <a:off x="532620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_s68632"/>
            <p:cNvSpPr/>
            <p:nvPr/>
          </p:nvSpPr>
          <p:spPr>
            <a:xfrm flipV="1">
              <a:off x="4464000" y="27828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68631"/>
            <p:cNvSpPr/>
            <p:nvPr/>
          </p:nvSpPr>
          <p:spPr>
            <a:xfrm>
              <a:off x="3925800" y="1706400"/>
              <a:ext cx="1077840" cy="1078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68630"/>
            <p:cNvSpPr/>
            <p:nvPr/>
          </p:nvSpPr>
          <p:spPr>
            <a:xfrm>
              <a:off x="3925800" y="33242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2:19:41Z</dcterms:modified>
  <cp:revision>12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