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CC67-12B3-4432-99A8-C35EB538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BFBB-7EDB-4453-89D8-E867CBE7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351-A5DB-44A1-9782-A0F337795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148-DC0B-4B3E-A37C-53E22CC22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7B77-1ADA-4BA5-96D7-A3339675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C85-CB19-44EB-9DFD-D2DB23A0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4A3-6810-42DB-9951-A45B44D51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DFBB-B04F-4E57-A471-9E8CC58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0B5E-D5A9-43F5-93D9-397DF034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63FD-9799-4885-903A-4EADAC35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CC4-1694-46CC-9DD6-154A443A6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E43E-8522-4F9B-A467-DB0ECBBC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24DC-FA03-4CA6-8038-06C639366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36720" y="2924280"/>
            <a:ext cx="3897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Ta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Títulos de créd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yudante Fernanda Zelada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fzelada@grasty.c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920" y="1773360"/>
            <a:ext cx="72741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Atendiendo a su conteni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ítulos de crédito que representan un derecho real. Ej: certificado de depó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ítulos de crédito que representan un derecho pers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Atendiendo a la formación del obje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ítulos de crédito que atribuyen al poseedor varios derechos. Ej: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ítulos de crédito que atribuyen al poseedor un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00920" y="1336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26920" y="1773360"/>
            <a:ext cx="7274160" cy="44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Principal clasificación es aquella que atiende a la forma de su transfer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minativos       pagaderos a favor de una persona determinada, quien no puede transferirlos válidamente sin el consentimiento del deu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la orden         son pagaderos a más de una persona determinada y su transferencia se realiza por endoso junto a la entrega material del tít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l portador          se pagan a quien lo tenga en su poder y se transfiere por la mera entre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00920" y="133668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916360" y="321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443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00360" y="5661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1773360"/>
            <a:ext cx="669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ítulos de crédito e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tra d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gar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uenta corriente y cheque (D.F.L. 7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aller 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01280" y="1338120"/>
            <a:ext cx="149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177336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ocumentos necesarios para transferir o exigir el derecho literal y autónomo que en él cons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echo literal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tenido determinado por preciso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nor del títu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echo autónom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independiza de relación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usal que le da or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62760" y="1338120"/>
            <a:ext cx="26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iones gene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9280" y="35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5280" y="4437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6920" y="1773360"/>
            <a:ext cx="727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rédito existe según la determinación contenida en el título, cualquier restricción al alcance del crédito debe resultar del título mism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undamentos de su exist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- certeza de la existencia del crédito al momento de la adquisición del instrumento juríd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- rapidez en las negociaciones de las distintas etapas de circulación del créd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- seguridad en la realización del crédi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62760" y="1338120"/>
            <a:ext cx="26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iones gene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26920" y="1773360"/>
            <a:ext cx="727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ácter necesario del documento: es imprescindible tener materialmente el título para disponer del derecho que co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ítulo de pres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ácter literal de derecho: literalización de la obligación. Importancia de la voluntad (unilateral) declar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utela de certeza en adquisición del der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ácter autónomo del derecho: titular del crédito lo adquiere </a:t>
            </a:r>
            <a:r>
              <a:rPr b="0" i="1" lang="es-CL" sz="2000" spc="-1" strike="noStrike">
                <a:solidFill>
                  <a:srgbClr val="000000"/>
                </a:solidFill>
                <a:latin typeface="Tahoma"/>
              </a:rPr>
              <a:t>ex nov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, mediante la debida tradición. Adquiere en forma origin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rescinde de circunstancias subjetivas de tenedores ant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54840" y="1338120"/>
            <a:ext cx="32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acterísticas esenci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asificación sin concepto preciso ni orde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es mobiliarios        fundamentalmente valores de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inversión. Ejs: bonos, 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os de comercio         medios de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es mobiliarios se emiten a largo plazo, a diferencia de los efectos de comer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es mobiliarios deben ser emitidos por personas con ciertas facultades, efectos de comercio pueden ser emitidos por cualquier pers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9040" y="1338120"/>
            <a:ext cx="51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ores mobiliarios y efectos de comerc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64000" y="292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70836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1773360"/>
            <a:ext cx="727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es mobiliarios son fungibles económicamente. Efectos de comercio no lo son por la seguridad de su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alores mobiliarios representan capital, efectos de comercio representan obligación de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mbos son títulos negociables y se tranzan en bol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mbos son bienes mue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mbos generan rentas a su titular (efectos de comercio: intere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99040" y="1338120"/>
            <a:ext cx="51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ores mobiliarios y efectos de comerc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26920" y="1773360"/>
            <a:ext cx="72741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ncipio de la incorporación     derecho se incorpora a título, le da valor extrínse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ncipio de la necesariedad        tenencia del documentos es necesaria para el ejercicio del derecho que co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ncipio de la literalidad         título debe contener todas las condiciones necesarias para determinar contenido de la obligación, debe ser autosufi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50160" y="133812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cipios cambiari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26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3500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284720" y="4437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727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ncipio de la independencia de las relaciones cambiar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da relación cambiaria es originaria e independiente de otra, de modo tal que no hay relación de dependencia ni de accesoriedad entre una relación anterior y la pos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ncipio de la purga o inoponibilidad de las excepcion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s obligaciones cambiarias difieren de aquellas del derecho común, al ser transferidas no se incluyen condiciones particulares de la relación a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28 ley 18.09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Títulos de créd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650160" y="1338120"/>
            <a:ext cx="279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ncipios cambiari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16:44:51Z</dcterms:created>
  <dc:creator>Fernanda Zelada </dc:creator>
  <dc:description/>
  <dc:language>en-US</dc:language>
  <cp:lastModifiedBy>Fernanda Zelada </cp:lastModifiedBy>
  <dcterms:modified xsi:type="dcterms:W3CDTF">2005-05-04T01:01:01Z</dcterms:modified>
  <cp:revision>17</cp:revision>
  <dc:subject/>
  <dc:title>Diapositiva 1</dc:title>
</cp:coreProperties>
</file>