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5238-074D-44EC-A6F9-48FA4BEE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92B-F6EF-4FFB-989A-EE5775F2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B52D-C0EC-4C02-9445-457EBEF4B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3F90-321E-4E16-B35F-074B5E30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F9BE-F369-40D9-9FE5-29F556DE4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3E01-4C9E-40C0-BB55-FF5301AD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3065-C188-4918-B0D3-3340CB02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8DBA-0956-42FE-9E0C-241007428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79C-50F7-4203-BF57-5D99BB17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BC52-68A4-4009-80CE-275A537E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B458-F2B9-402B-8160-1F88DF20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261-95F3-472F-8381-BA601FD8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EF1C-CFC7-4752-A9CD-19905AFEE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315" name="_s75804"/>
            <p:cNvCxnSpPr>
              <a:stCxn id="316" idx="0"/>
              <a:endCxn id="317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8" name="_s75803"/>
            <p:cNvCxnSpPr>
              <a:stCxn id="319" idx="0"/>
              <a:endCxn id="317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0" name="_s75802"/>
            <p:cNvCxnSpPr>
              <a:stCxn id="321" idx="0"/>
              <a:endCxn id="317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7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sólo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2128680"/>
            <a:ext cx="8351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292640"/>
            <a:ext cx="64803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: Títulos I, III, VI, VII, X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: Títulos I, II,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, (3a. Edición/2001/ Edit. Jurídica), Párraf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94 a 403, 405, 431 a 459, 525 a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Mercado Valores Títulos I y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CG 30 SVS, parte pertinente a indicar en 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89000"/>
            <a:ext cx="74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pos de Sociedades Anó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ciedades Anónimas Abiertas y 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Sociedades Anónimas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Accionistas, Acciones,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421000"/>
            <a:ext cx="309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so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4437000"/>
            <a:ext cx="309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 rot="5400000">
            <a:off x="1510920" y="4832280"/>
            <a:ext cx="1369080" cy="72144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050920" y="5734080"/>
            <a:ext cx="2952720" cy="93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5245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206064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39604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55404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14172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4067280"/>
            <a:ext cx="41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por disposición legal están obligadas a a hacerlo, ej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 Securitiz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tadores de Larga Dis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170240"/>
            <a:ext cx="71640" cy="1130400"/>
          </a:xfrm>
          <a:custGeom>
            <a:avLst/>
            <a:gdLst>
              <a:gd name="textAreaLeft" fmla="*/ 0 w 71640"/>
              <a:gd name="textAreaRight" fmla="*/ 25920 w 7164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27680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uperintendencia de Valores y Seguros, u otra entidad o simple sometimiento a normas de SA mediante procedimiento NCG 30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56724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Valores y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cto de oferentes y demandantes de Valores y Capitales representados en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l e Informal, art 1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 valores, emisores, intermediarios, mer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 la oferta pública, no impide transacciones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l Inversionista Institucional que participa en la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o hay cabida para acciones de sociedades anónimas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nos referimos a valores diferentes de las acciones (bonos, efectos de comercio, cuotas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6300720" y="162864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 flipV="1" rot="10800000">
            <a:off x="1042200" y="2923920"/>
            <a:ext cx="2421720" cy="388080"/>
          </a:xfrm>
          <a:prstGeom prst="curvedConnector5">
            <a:avLst>
              <a:gd name="adj1" fmla="val 19134"/>
              <a:gd name="adj2" fmla="val 49953"/>
              <a:gd name="adj3" fmla="val 191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324000" y="2276640"/>
            <a:ext cx="792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2128680"/>
            <a:ext cx="835200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879920" y="1706400"/>
            <a:ext cx="4524120" cy="3503880"/>
            <a:chOff x="1879920" y="1706400"/>
            <a:chExt cx="4524120" cy="3503880"/>
          </a:xfrm>
        </p:grpSpPr>
        <p:sp>
          <p:nvSpPr>
            <p:cNvPr id="231" name="_s68636"/>
            <p:cNvSpPr/>
            <p:nvPr/>
          </p:nvSpPr>
          <p:spPr>
            <a:xfrm flipH="1">
              <a:off x="3528720" y="413064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68635"/>
            <p:cNvSpPr/>
            <p:nvPr/>
          </p:nvSpPr>
          <p:spPr>
            <a:xfrm>
              <a:off x="252576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_s68634"/>
            <p:cNvSpPr/>
            <p:nvPr/>
          </p:nvSpPr>
          <p:spPr>
            <a:xfrm>
              <a:off x="4929120" y="413064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68633"/>
            <p:cNvSpPr/>
            <p:nvPr/>
          </p:nvSpPr>
          <p:spPr>
            <a:xfrm>
              <a:off x="532620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_s68632"/>
            <p:cNvSpPr/>
            <p:nvPr/>
          </p:nvSpPr>
          <p:spPr>
            <a:xfrm flipV="1">
              <a:off x="4464000" y="278280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68631"/>
            <p:cNvSpPr/>
            <p:nvPr/>
          </p:nvSpPr>
          <p:spPr>
            <a:xfrm>
              <a:off x="3925800" y="1706400"/>
              <a:ext cx="1077840" cy="1078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68630"/>
            <p:cNvSpPr/>
            <p:nvPr/>
          </p:nvSpPr>
          <p:spPr>
            <a:xfrm>
              <a:off x="3925800" y="33242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4-25T01:14:00Z</dcterms:modified>
  <cp:revision>105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