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505-59AE-4399-8206-A0B74CBD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4DF-B868-4777-B03F-FB5801CF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B3E-2448-4684-BF4D-2E8B080B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7E3-01FA-4787-BFAA-C50ADCA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413-0D5D-45FE-A99F-6559BEC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6CD-A617-48AD-834E-E0FF4FEF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165-8A16-4CD8-AAA2-98C57CA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088-5844-46B3-A9B8-3EFBB0B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E76-BB15-418F-9E91-C0FE0203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EB3-CAC0-4176-908D-37898CA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96B-0D55-4D7F-BE0A-05B253B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DA8-AF0C-41F5-A48C-13D9B42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B62-67CC-4E94-A5DF-2496075A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96: Cambio de especie o tipo social, efectuado por reforma de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s estatutos, subsistiendo su personalidad jur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pia            transformación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inuación de la persona jurídica sólo se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transforma el tipo de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ropia           transformación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alteración de la estructura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8400" y="133812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0, 111: Comisión liquid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              Junta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osición          3 miembros, salvo acuerdo unánime de l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acciones emitidas con derech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idente de comisión        representación judicial y extrajudicia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 l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uración           determinada por estatutos, junta de accionistas 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justicia. Máximo 3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53737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ocación              art. 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muneración            fijada por estatutos o por la misma junt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de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designa SVS o Tribunales remuneración no podrá ser inferior a ½% del total del activo ni superior al 3% del repartos a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aplicable              normas especiales y normativ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general aplicable a dire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22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501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1773360"/>
            <a:ext cx="80661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la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ción y representación de S.A. (art. 114 inc. 1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repartos a los accioni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Se realizan luego de pagadas o aseguradas deud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Se pagan a accionistas que tengan tal calidad al 5º día hábil anterior a la fecha fijada para el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Regla general: a prorrata del número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ón: acciones preferentes (capital o uti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Se realizarán al menos trimestralmente y cada vez que existan fondos en caj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Deberán hacerse en dinero, salvo acuerdo en junta extraord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itar a Juntas de Accionistas (art. 115 incs. 1º y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ndir cuenta de liquidación (norma general de derec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enera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Requisitos necesarios para la reforma de estat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Requisitos para la constitución del nuevo tipo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Particu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de S.A. a otro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Junta de Accionistas (art. 67 Nº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rge derecho a retiro para disidentes (art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 otro tipo 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modificación de estat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480" y="13381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si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806616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ece de efectos retroac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duce sus efectos desde el cumplimiento de la última formalidad requer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complejo, los vicios en constitución o modificación hacen inoponible el negocio comp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 a socios y terc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roduce efectos tribu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7733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orta la terminación del contrato de socie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diferencia de la terminación de otros contratos de tracto sucesivo genera obligación de realizar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8400" y="13381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773360"/>
            <a:ext cx="806616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 de duración (art. 103 Nº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unión de todas las acciones de la S.A. en manos de una misma persona (art. 103 Nº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de la Junta Extraordinaria de Accionistas (art. 103 Nº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currencia de causales estatutarias (art. 103 Nº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claración de nulidad de la sociedad (art. 6 inc. 4º, 110 inc.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7480" y="13381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3 Nº 5, 1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para que op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se trate de S.A. no sometidas a fiscalización de la S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demanden accionistas representantes del 20% del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damentos de la dema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Infracción grave de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claración de quiebra, administración fraudulenta u otras de igual grav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5680" y="1338120"/>
            <a:ext cx="40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olución por sentencia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iste personalidad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 último directori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social queda sin 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dan vigentes los estatutos en lo que sean compatibles con la nuev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773360"/>
            <a:ext cx="806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oducen, respecto de accionistas y de terceros, desde el momento en que se cumple la última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Junta de Accionistas                 art. 3 inc. 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, reunión de acciones o causales estatutarias               art.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pués de producida la disolución se admite la reacti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21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414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9, 112 y 11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 personalidad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n estatutos en lo compatible con estado de liqu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estatutaria sobre objeto social deja de tener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es sustituido por comisión liquidadora o liquid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11720" y="133812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 leg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3:28:55Z</dcterms:created>
  <dc:creator>Fernanda Zelada </dc:creator>
  <dc:description/>
  <dc:language>en-US</dc:language>
  <cp:lastModifiedBy>Fernanda Zelada </cp:lastModifiedBy>
  <dcterms:modified xsi:type="dcterms:W3CDTF">2005-04-04T18:53:41Z</dcterms:modified>
  <cp:revision>22</cp:revision>
  <dc:subject/>
  <dc:title>Diapositiva 1</dc:title>
</cp:coreProperties>
</file>