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6ABC-274D-4B1F-8F6E-1B770DCA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C5A0-285B-4DDF-8E8D-7F5CF1B8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1B30-C622-47EC-B216-5E14C0EE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39E1-D4B7-4DCF-971C-D9EED991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BAB4-7624-46DE-87DB-9A866040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2532-4AEB-440E-8289-6AB72B31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E832-7DAB-41DF-B63B-9480B786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2411-9BBE-4F08-BDC1-F2BF97A2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A19E-9493-49A6-A60A-8399F601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5A41-42FF-447A-9A85-9851A5B0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3211-70AA-41CD-8D80-7EB52D47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78F-4695-483A-94D3-3B930787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D418-13F0-40A2-882E-AD24A25BF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1773360"/>
            <a:ext cx="8066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96: Cambio de especie o tipo social, efectuado por reforma de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us estatutos, subsistiendo su personalidad juríd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opia            transformación juríd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tinuación de la persona jurídica sólo se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transforma el tipo de soci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mpropia           transformación económ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hay alteración de la estructura le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Trans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98400" y="1338120"/>
            <a:ext cx="23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epto y cl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95640" y="3500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72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6920" y="1773360"/>
            <a:ext cx="8066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110, 111: Comisión liquidad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ección               Junta de Accion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mposición          3 miembros, salvo acuerdo unánime de las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acciones emitidas con derecho a vo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esidente de comisión        representación judicial y extrajudicial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 la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uración           determinada por estatutos, junta de accionistas o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justicia. Máximo 3 a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iquid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82560" y="133812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ionami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1280" y="29242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95640" y="443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4360" y="537372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26920" y="1773360"/>
            <a:ext cx="8066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ocación              art. 1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muneración            fijada por estatutos o por la misma junta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de accionis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i designa SVS o Tribunales remuneración no podrá ser inferior a ½% del total del activo ni superior al 3% del repartos a accionis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tiva aplicable              normas especiales y normativa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general aplicable a direc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Comisión liquida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82560" y="133812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ionami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771640" y="2276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32000" y="29242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08360" y="501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6920" y="1773360"/>
            <a:ext cx="806616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fectuar la liquidación de la soci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dministración y representación de S.A. (art. 114 inc. 1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fectuar repartos a los accionis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Se realizan luego de pagadas o aseguradas deuda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Se pagan a accionistas que tengan tal calidad al 5º día hábil anterior a la fecha fijada para el p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 Regla general: a prorrata del número de ac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cepción: acciones preferentes (capital o utilida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Comisión liquida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698760" y="133812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ribu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6920" y="1773360"/>
            <a:ext cx="8066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 Se realizarán al menos trimestralmente y cada vez que existan fondos en caja soc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. Deberán hacerse en dinero, salvo acuerdo en junta extraordin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itar a Juntas de Accionistas (art. 115 incs. 1º y 2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ndir cuenta de liquidación (norma general de derech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Comisión liquida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98760" y="133812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ribu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1773360"/>
            <a:ext cx="8066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Genera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Requisitos necesarios para la reforma de estatu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Requisitos para la constitución del nuevo tipo soc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Particula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de S.A. a otro tip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uerdo Junta de Accionistas (art. 67 Nº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urge derecho a retiro para disidentes (art. 6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de otro tipo a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quisitos modificación de estat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Trans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08480" y="133812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sit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1773360"/>
            <a:ext cx="8066160" cy="46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rece de efectos retroactiv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oduce sus efectos desde el cumplimiento de la última formalidad requer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to complejo, los vicios en constitución o modificación hacen inoponible el negocio compl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bliga a socios y terc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produce efectos tribut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Trans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32600" y="1338120"/>
            <a:ext cx="104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1773360"/>
            <a:ext cx="8066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mporta la terminación del contrato de socie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 diferencia de la terminación de otros contratos de tracto sucesivo genera obligación de realizar liquidación de la soci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98400" y="1338120"/>
            <a:ext cx="22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epto y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1773360"/>
            <a:ext cx="8066160" cy="45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encimiento del plazo de duración (art. 103 Nº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unión de todas las acciones de la S.A. en manos de una misma persona (art. 103 Nº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uerdo de la Junta Extraordinaria de Accionistas (art. 103 Nº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currencia de causales estatutarias (art. 103 Nº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claración de nulidad de la sociedad (art. 6 inc. 4º, 110 inc. 2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17480" y="13381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u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1773360"/>
            <a:ext cx="8066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s. 103 Nº 5, 1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quisitos para que op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Que se trate de S.A. no sometidas a fiscalización de la SV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Que demanden accionistas representantes del 20% del ca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undamentos de la deman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Infracción grave de 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Declaración de quiebra, administración fraudulenta u otras de igual grave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25680" y="1338120"/>
            <a:ext cx="40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olución por sentencia jud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6920" y="1773360"/>
            <a:ext cx="8066160" cy="35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ersiste personalidad juríd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dministra último directorio vig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bjeto social queda sin efe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Quedan vigentes los estatutos en lo que sean compatibles con la nueva sit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32600" y="1338120"/>
            <a:ext cx="104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1773360"/>
            <a:ext cx="8066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e producen, respecto de accionistas y de terceros, desde el momento en que se cumple la última form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Junta de Accionistas                 art. 3 inc. 2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encimiento del plazo, reunión de acciones o causales estatutarias               art. 1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spués de producida la disolución se admite la reactiv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32600" y="1338120"/>
            <a:ext cx="104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80000" y="3213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43280" y="4149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6920" y="1773360"/>
            <a:ext cx="8066160" cy="35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s. 109, 112 y 11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ubsiste personalidad jurí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ubsisten estatutos en lo compatible con estado de liquid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láusula estatutaria sobre objeto social deja de tener vig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rectorio es sustituido por comisión liquidadora o liquid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iquid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11720" y="1338120"/>
            <a:ext cx="201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ectos leg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13:28:55Z</dcterms:created>
  <dc:creator>Fernanda Zelada </dc:creator>
  <dc:description/>
  <dc:language>en-US</dc:language>
  <cp:lastModifiedBy>Fernanda Zelada </cp:lastModifiedBy>
  <dcterms:modified xsi:type="dcterms:W3CDTF">2005-04-04T18:53:41Z</dcterms:modified>
  <cp:revision>22</cp:revision>
  <dc:subject/>
  <dc:title>Diapositiva 1</dc:title>
</cp:coreProperties>
</file>