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FE9-3A1A-4CFE-A6B0-F0325F7F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742-57B8-4085-9D05-16523472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903-5226-4A20-82F1-EB885627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B86-5A09-4385-AA7E-0A9B0CFD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A03-F07C-4C35-ABD7-6B62F6A4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399-31FF-4E81-AF8D-07E68FE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B55-C85A-44EB-90E4-6EDBCD8F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CE6-892F-41D8-A2A9-23A3081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288-E385-42A1-B6A3-C9DA789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720-D959-47BD-A7D9-79ED49A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F65-42DD-4BE1-AC10-DD42745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B65-FEE1-4F9D-9B23-E7EC19F2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CD3-8D84-470F-A596-760046A26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806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96: Cambio de especie o tipo social, efectuado por reforma de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s estatutos, subsistiendo su personalidad jur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pia            transformación jur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inuación de la persona jurídica sólo se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transforma el tipo de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ropia           transformación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hay alteración de la estructura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8400" y="133812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o y cl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77336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10, 111: Comisión liquid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cción               Junta de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osición          3 miembros, salvo acuerdo unánime de l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acciones emitidas con derecho a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idente de comisión        representación judicial y extrajudicial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 l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uración           determinada por estatutos, junta de accionistas 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justicia. Máximo 3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iqu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2560" y="133812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5640" y="44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53737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ocación              art. 1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muneración            fijada por estatutos o por la misma junt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de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designa SVS o Tribunales remuneración no podrá ser inferior a ½% del total del activo ni superior al 3% del repartos a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tiva aplicable              normas especiales y normativ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general aplicable a dire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2560" y="133812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227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8360" y="501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1773360"/>
            <a:ext cx="806616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uar la liquidación 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dministración y representación de S.A. (art. 114 inc. 1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uar repartos a los accioni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Se realizan luego de pagadas o aseguradas deud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Se pagan a accionistas que tengan tal calidad al 5º día hábil anterior a la fecha fijada para el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Regla general: a prorrata del número de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ón: acciones preferentes (capital o uti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98760" y="13381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rib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Se realizarán al menos trimestralmente y cada vez que existan fondos en caja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. Deberán hacerse en dinero, salvo acuerdo en junta extraord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itar a Juntas de Accionistas (art. 115 incs. 1º y 2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ndir cuenta de liquidación (norma general de derec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misión liquid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98760" y="13381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ribu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77336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enera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Requisitos necesarios para la reforma de estat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Requisitos para la constitución del nuevo tipo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Particul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de S.A. a otro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Junta de Accionistas (art. 67 Nº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rge derecho a retiro para disidentes (art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e otro tipo 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modificación de estat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8480" y="133812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si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73360"/>
            <a:ext cx="806616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ece de efectos retroac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duce sus efectos desde el cumplimiento de la última formalidad requer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complejo, los vicios en constitución o modificación hacen inoponible el negocio comp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 a socios y terc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produce efectos tribu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7733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orta la terminación del contrato de socie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diferencia de la terminación de otros contratos de tracto sucesivo genera obligación de realizar liquidación 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8400" y="133812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o y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773360"/>
            <a:ext cx="806616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del plazo de duración (art. 103 Nº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unión de todas las acciones de la S.A. en manos de una misma persona (art. 103 Nº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de la Junta Extraordinaria de Accionistas (art. 103 Nº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currencia de causales estatutarias (art. 103 Nº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claración de nulidad de la sociedad (art. 6 inc. 4º, 110 inc. 2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7480" y="13381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03 Nº 5, 1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para que op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se trate de S.A. no sometidas a fiscalización de la S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demanden accionistas representantes del 20% del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damentos de la dema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Infracción grave de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eclaración de quiebra, administración fraudulenta u otras de igual grav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25680" y="1338120"/>
            <a:ext cx="40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olución por sentencia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1773360"/>
            <a:ext cx="8066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iste personalidad juríd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dministra último directori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social queda sin ef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dan vigentes los estatutos en lo que sean compatibles con la nuev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773360"/>
            <a:ext cx="806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roducen, respecto de accionistas y de terceros, desde el momento en que se cumple la última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Junta de Accionistas                 art. 3 inc. 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del plazo, reunión de acciones o causales estatutarias               art. 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pués de producida la disolución se admite la reacti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32600" y="133812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21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4149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1773360"/>
            <a:ext cx="806616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09, 112 y 11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 personalidad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n estatutos en lo compatible con estado de liqu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estatutaria sobre objeto social deja de tener 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io es sustituido por comisión liquidadora o liquid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iqu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11720" y="133812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ectos leg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3:28:55Z</dcterms:created>
  <dc:creator>Fernanda Zelada </dc:creator>
  <dc:description/>
  <dc:language>en-US</dc:language>
  <cp:lastModifiedBy>Fernanda Zelada </cp:lastModifiedBy>
  <dcterms:modified xsi:type="dcterms:W3CDTF">2005-04-04T18:53:41Z</dcterms:modified>
  <cp:revision>22</cp:revision>
  <dc:subject/>
  <dc:title>Diapositiva 1</dc:title>
</cp:coreProperties>
</file>