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F6BA-83F9-4ECC-B46D-621CBBBBE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EF54-DA18-401F-9B2E-07FBDCB65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C31F-AF7D-4A83-879D-1FAD4E2F8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3259-14BD-43C7-9121-B1183126A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B2C4-C904-41E0-8EFF-0EA46643D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8B60-6147-4BD4-AA55-69A8159DF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292C-34A0-4B85-8DED-F916CF127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10C9-C39F-4D7A-B8B1-8E804C057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A319-4849-47E0-9AB3-9741B7193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161D-AAA9-49BD-B130-55E1BED8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CEDF-4F2D-4592-9976-98C0B190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9A14-C4B3-4796-8653-6DC4B7A5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4F3DD-AAAF-4536-A969-FD6E4814C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6920" y="1773360"/>
            <a:ext cx="80661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rts. 1, 31 y 40 inc. 1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ey encomienda administración y representación judicial y extrajudicial de la S.A. a su directo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- Norma de orden púb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- Ejercicio directo de la administración o por medio de ejecut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- Posibilidad de delegar facultades (art. 40 inc. 2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Administración y Represen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05240" y="1338120"/>
            <a:ext cx="144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ori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26920" y="1773360"/>
            <a:ext cx="8066160" cy="34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itación a reuniones (art. 40 Reg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arta certificada a domicilio de directores con 3 días de anticipación o 24 horas si es entregada personal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itación a sesión extraordinaria deberá contener referencia a materia a tratar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statuto puede establecer reglas distin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Directorio 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675360" y="1338120"/>
            <a:ext cx="211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ion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71640" y="2924280"/>
            <a:ext cx="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3860640"/>
            <a:ext cx="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26920" y="1773360"/>
            <a:ext cx="8066160" cy="44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ugar, día y hora para celebración de sesiones: lo que determinen estatu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sistencia a sesiones (arts. 32 inc. 2º, 49 inc. 2º y 92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. directores titul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b. directores suplentes: sólo derecho a voz, salvo ausencia de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titul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. gerente general: derecho a vo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. directores de sociedad matriz a sesiones de fil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Directorio 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675360" y="1338120"/>
            <a:ext cx="211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ion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771640" y="2924280"/>
            <a:ext cx="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203640" y="3860640"/>
            <a:ext cx="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26920" y="1773360"/>
            <a:ext cx="80661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Quórum (art. 47 inc. 1º y 2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. para sesionar            mayoría absoluta de directores titulares establecidos en estatu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b. para adoptar acuerdos          mayoría absoluta de directores asistentes con derecho a vo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statuto social puede establecer quórum superi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Directorio 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675360" y="1338120"/>
            <a:ext cx="211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ion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1640" y="2924280"/>
            <a:ext cx="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203640" y="3860640"/>
            <a:ext cx="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276720" y="2924280"/>
            <a:ext cx="574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284720" y="3789360"/>
            <a:ext cx="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284720" y="3789360"/>
            <a:ext cx="574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26920" y="1773360"/>
            <a:ext cx="80661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rts. 31 inc. 2º, 32 inc. final, 38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s esencialmente revocable por junta de accionistas, pero revocación debe ser to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rincipio           directorio es de la exclusiva confianza de los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accionis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Directorio 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713880" y="1338120"/>
            <a:ext cx="152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vo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771640" y="2924280"/>
            <a:ext cx="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203640" y="3860640"/>
            <a:ext cx="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284720" y="3789360"/>
            <a:ext cx="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411280" y="3789360"/>
            <a:ext cx="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411280" y="3860640"/>
            <a:ext cx="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411280" y="3789360"/>
            <a:ext cx="648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11280" y="1700280"/>
            <a:ext cx="82818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gla general: deber de reserva (art. 4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xcepción: obligación de información (art. 4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Objeto de la información           situación legal, económica y financiera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e la socie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onfección anual de balance y memoria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que presenta a junta de accionis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estinatario de inform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.A. cerradas         accionis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.A. abiertas          accionistas, ente fiscalizador, públ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Directorio 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649080" y="1338120"/>
            <a:ext cx="30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beres de infor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771640" y="2924280"/>
            <a:ext cx="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203640" y="3860640"/>
            <a:ext cx="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284720" y="3789360"/>
            <a:ext cx="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411280" y="3789360"/>
            <a:ext cx="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411280" y="3860640"/>
            <a:ext cx="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564000" y="3429000"/>
            <a:ext cx="647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340000" y="5589720"/>
            <a:ext cx="431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268360" y="6165720"/>
            <a:ext cx="503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11280" y="1700280"/>
            <a:ext cx="82818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rts. 42 Nº5, 44, 89, 93 y 126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ermiten que la sociedad celebre actos o contratos con personas que tiene injerencia en administración o propiedad de la mis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quisitos para su celebr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. Acuerdo del directo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b. condiciones de equidad similares a las que prevalecen en el mer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Directorio 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587880" y="1338120"/>
            <a:ext cx="548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tos y contratos con personas relacion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771640" y="2924280"/>
            <a:ext cx="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203640" y="3860640"/>
            <a:ext cx="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284720" y="3789360"/>
            <a:ext cx="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411280" y="3789360"/>
            <a:ext cx="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411280" y="3860640"/>
            <a:ext cx="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11280" y="1700280"/>
            <a:ext cx="8281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istin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ctos en los cuales tiene interés un director, sea por sí o como representante de otra pers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resunción de derecho art 44 inc. 2º: ca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.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ctúa director por sí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b.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ónyuges o parientes hasta 2º gr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Directorio 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/>
          <p:nvPr/>
        </p:nvSpPr>
        <p:spPr>
          <a:xfrm>
            <a:off x="587880" y="1338120"/>
            <a:ext cx="548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tos y contratos con personas relacion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771640" y="2924280"/>
            <a:ext cx="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203640" y="3860640"/>
            <a:ext cx="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284720" y="3789360"/>
            <a:ext cx="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411280" y="3789360"/>
            <a:ext cx="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411280" y="3860640"/>
            <a:ext cx="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11280" y="1700280"/>
            <a:ext cx="8281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.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ociedades o empresas que sea director o dueño de un 10% o más de su capital (a través de personas naturales o jurídica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ociedades o empresa en que cónyuge o parientes hasta 2º grado sean directores o dueños de un 10% o más del capi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a ley exige sólo que haya “interés” no que actué personalmente un direc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Directorio 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587880" y="1338120"/>
            <a:ext cx="548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tos y contratos con personas relacion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771640" y="2924280"/>
            <a:ext cx="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203640" y="3860640"/>
            <a:ext cx="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284720" y="3789360"/>
            <a:ext cx="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411280" y="3789360"/>
            <a:ext cx="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411280" y="3860640"/>
            <a:ext cx="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11280" y="1700280"/>
            <a:ext cx="8281800" cy="34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ctos en los que la contraparte es una sociedad coligada, la matriz o fil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 requiere acuerdo previo del directo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ctos que puede realizar sociedad filial con un director de la matriz o con personas mencionadas en art. 44 inc. 2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Directorio 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587880" y="1338120"/>
            <a:ext cx="548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tos y contratos con personas relacion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771640" y="2924280"/>
            <a:ext cx="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203640" y="3860640"/>
            <a:ext cx="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284720" y="3789360"/>
            <a:ext cx="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411280" y="3789360"/>
            <a:ext cx="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411280" y="3860640"/>
            <a:ext cx="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11280" y="1700280"/>
            <a:ext cx="8281800" cy="54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cto con persona relacionada que involucra monto relevante (art. 44 incs. 4º-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Hipótesi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cto o contrato que supere el 1% del patrimonio social, siempre que dicho acto exceda 2.000 U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i excede 20.000 U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irectorio puede aprobar o rechazar el a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i lo considera necesario designa 2 evaluadores independ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Directorio 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587880" y="1338120"/>
            <a:ext cx="548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tos y contratos con personas relacion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771640" y="2924280"/>
            <a:ext cx="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203640" y="3860640"/>
            <a:ext cx="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284720" y="3789360"/>
            <a:ext cx="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411280" y="3789360"/>
            <a:ext cx="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411280" y="3860640"/>
            <a:ext cx="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6920" y="1773360"/>
            <a:ext cx="806616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presentación legal amplia del directorio reconoce lími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ctos no comprendidos en el giro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ctos entregados por ley o por estatutos al conocimiento exclusivo de la Junta de Accionis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Administración y Representación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705240" y="1338120"/>
            <a:ext cx="144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ori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11280" y="1700280"/>
            <a:ext cx="8281800" cy="47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Tanto el acto como la designación de evaluadores tienen el carácter de hecho esencial        información a SV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Objeto de informe de evaluadores: condiciones de la operación y forma de pago del precio (si no es en diner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irectorio sólo puede pronunciarse transcurridos 20 días desde que informes fueron puestos a disposición de accionistas y directores en oficinas so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ccionistas que representen 5% pueden oponerse a operación. Directorio cita a junta que resolverá por acuerdo de 2/3 de acciones emitidas con derecho a vo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Directorio 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587880" y="1338120"/>
            <a:ext cx="548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tos y contratos con personas relacion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771640" y="2924280"/>
            <a:ext cx="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203640" y="3860640"/>
            <a:ext cx="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284720" y="3789360"/>
            <a:ext cx="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411280" y="3789360"/>
            <a:ext cx="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411280" y="3860640"/>
            <a:ext cx="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203640" y="2565360"/>
            <a:ext cx="431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1773360"/>
            <a:ext cx="80661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i los estatutos nada dicen aplicación art. 31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.A. cerradas            3 miembros míni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.A. abiertas             5 miembros míni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uración en el cargo: máximo 3 años, mínimo 1 añ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novación total del directo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Directorio 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86520" y="1338120"/>
            <a:ext cx="18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osició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492360" y="2924280"/>
            <a:ext cx="648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19640" y="3789360"/>
            <a:ext cx="720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26920" y="1773360"/>
            <a:ext cx="80661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irectores titul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                                        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riterio de distinción: forma de la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irectores suplentes                  elección (arts. 66, 34 Reg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irectorio provisorio                  Designado por accionistas              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          fund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residente del directorio             Atribuciones espec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Directorio 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30440" y="1338120"/>
            <a:ext cx="93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635280" y="2133720"/>
            <a:ext cx="792360" cy="1368360"/>
          </a:xfrm>
          <a:custGeom>
            <a:avLst/>
            <a:gdLst>
              <a:gd name="textAreaLeft" fmla="*/ 0 w 792360"/>
              <a:gd name="textAreaRight" fmla="*/ 286200 w 79236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635280" y="4149720"/>
            <a:ext cx="7923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67280" y="5013360"/>
            <a:ext cx="792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26920" y="1773360"/>
            <a:ext cx="80661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tribuci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ega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. dirimir empates (47 inc. 1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b. citación a reuniones extraordinarias de directorio (38 Reg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. presidir juntas de accionistas (72 Reg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. firmar títulos accionarios (19 Reg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Directorio 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44040" y="1338120"/>
            <a:ext cx="312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sidente del directo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26920" y="1773360"/>
            <a:ext cx="80661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statutaria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. reducir a escritura pública actas de directorios y juntas de accionis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b. apoderado del directo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. llevar a efecto acuerdos de junta de accionis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. confeccionar tabla de materias a tratar en sesión de directo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Directorio 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1640" y="1338120"/>
            <a:ext cx="14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sid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26920" y="1773360"/>
            <a:ext cx="80661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Función princip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levar libro de actas y cooperar en redacción de sesiones del directorio (art. 48, 41 Reglamen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 falta de designación ejerce el cargo el Gerente General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Directorio 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713520" y="1338120"/>
            <a:ext cx="139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re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26920" y="1773360"/>
            <a:ext cx="806616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Funcionamiento en sala legalmente constituida (39 inc. 1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l acuerdo adoptado para ser válido requie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er adoptado en sesión de directo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Que dicha sesión haya cumplido con formalidades de citación, quórum de asistencia y para tomar acuerd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Que se deje constancia de ella en el libro de actas y que sea debidamente firm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anción         inoponibilidad a la socie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Directorio 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675360" y="1338120"/>
            <a:ext cx="211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ion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843280" y="5950080"/>
            <a:ext cx="43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26920" y="1773360"/>
            <a:ext cx="8066160" cy="50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2. Tipos de sesio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Ordinarias             se celebran en fecha y hora predeterminada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    por el directo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xtraordinarias            se celebran cuando lo determine el               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presidente, por su propia iniciativa o a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petición de cualquier direc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i lo solicita la mayoría de los directores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está obligado a citar a ses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rt. 40 inc. final Regl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Directorio 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675360" y="1338120"/>
            <a:ext cx="211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ion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771640" y="2924280"/>
            <a:ext cx="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627280" y="2924280"/>
            <a:ext cx="649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203640" y="3860640"/>
            <a:ext cx="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03640" y="3789360"/>
            <a:ext cx="720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9T01:10:25Z</dcterms:created>
  <dc:creator>Fernanda Zelada </dc:creator>
  <dc:description/>
  <dc:language>en-US</dc:language>
  <cp:lastModifiedBy>Fernanda Zelada </cp:lastModifiedBy>
  <dcterms:modified xsi:type="dcterms:W3CDTF">2005-03-29T18:14:23Z</dcterms:modified>
  <cp:revision>18</cp:revision>
  <dc:subject/>
  <dc:title>Diapositiva 1</dc:title>
</cp:coreProperties>
</file>