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F12-4388-4CEC-8D58-C98EB3E1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1A9-75A4-48FD-B470-E9F5F8AC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1D7-A012-41DD-AEB8-08973A81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291-D874-4FE8-8D2A-F4413FC9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B3A-6C69-4C5D-B0DA-7CF93537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9725-6AF1-4948-9789-189907A3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507-B406-4218-A3A1-44A4813D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628-559D-4F4B-A58D-CD918FD5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16D-5383-4AE0-B874-708538C8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C9E-760A-4EE6-858F-E3BEB8DB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67B-DDC8-4528-96EF-9B866BE8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F65-C33F-4F6F-85A1-2EE07766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21D6-497A-420C-BC28-C7B0E1854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716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Material Básico: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4292640"/>
            <a:ext cx="648036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SA: Títulos I, III, VI, VII, X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SA: Títulos I, II,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, Tomo II  A. Puelma, (3a. Edición/2001/ Edit. Jurídica), Párraf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94 a 403, 405, 431 a 459, 525 a 5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Mercado Valores Títulos I y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CG 30 SVS, parte pertinente a indicar en cl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18760" y="62064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989000"/>
            <a:ext cx="7417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pos de Sociedades Anón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ciedades Anónimas Abiertas y el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n Sociedades Anónimas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, Accionistas, Acciones,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00360" y="2421000"/>
            <a:ext cx="2735280" cy="244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ó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ubTriangle"/>
          <p:cNvSpPr/>
          <p:nvPr/>
        </p:nvSpPr>
        <p:spPr>
          <a:xfrm>
            <a:off x="4067280" y="2421000"/>
            <a:ext cx="1296720" cy="15127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2421000"/>
            <a:ext cx="309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 % capital susc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0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n contar quienes tengan más del 10%, directa o indirec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34936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 o más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alquiera sea el porcentaj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en manso de may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62560" y="4437000"/>
            <a:ext cx="309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pción voluntaria de acciones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 rot="5400000">
            <a:off x="1510920" y="4832280"/>
            <a:ext cx="1369080" cy="72144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2050920" y="5734080"/>
            <a:ext cx="2952720" cy="93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06064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ías aseguradoras y reasegur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. Fondos Mut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5245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206064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276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5396040"/>
            <a:ext cx="144720" cy="554040"/>
          </a:xfrm>
          <a:custGeom>
            <a:avLst/>
            <a:gdLst>
              <a:gd name="textAreaLeft" fmla="*/ 0 w 144720"/>
              <a:gd name="textAreaRight" fmla="*/ 52200 w 14472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554040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inguna de las anteri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203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30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3141720"/>
            <a:ext cx="144720" cy="554040"/>
          </a:xfrm>
          <a:custGeom>
            <a:avLst/>
            <a:gdLst>
              <a:gd name="textAreaLeft" fmla="*/ 0 w 144720"/>
              <a:gd name="textAreaRight" fmla="*/ 52200 w 14472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3195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specto S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4067280"/>
            <a:ext cx="41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e por disposición legal están obligadas a a hacerlo, ej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A Securitiz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rtadores de Larga Dista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4170240"/>
            <a:ext cx="71640" cy="1130400"/>
          </a:xfrm>
          <a:custGeom>
            <a:avLst/>
            <a:gdLst>
              <a:gd name="textAreaLeft" fmla="*/ 0 w 71640"/>
              <a:gd name="textAreaRight" fmla="*/ 25920 w 7164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427680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uperintendencia de Valores y Seguros, u otra entidad o simple sometimiento a normas de SA mediante procedimiento NCG 30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y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2080" y="2133720"/>
            <a:ext cx="1214280" cy="11523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98680" y="2276640"/>
            <a:ext cx="1201680" cy="609480"/>
          </a:xfrm>
          <a:prstGeom prst="wedgeRoundRectCallout">
            <a:avLst>
              <a:gd name="adj1" fmla="val 100199"/>
              <a:gd name="adj2" fmla="val -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1628640"/>
            <a:ext cx="1295280" cy="609840"/>
          </a:xfrm>
          <a:prstGeom prst="wedgeEllipseCallout">
            <a:avLst>
              <a:gd name="adj1" fmla="val -45587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567240"/>
            <a:ext cx="86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Valores y de Cap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cto de oferentes y demandantes de Valores y Capitales representados en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l e Informal, art 1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 valores, emisores, intermediarios, mer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nto de vista de la oferta pública, no impide transacciones priv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nto de vista del Inversionista Institucional que participa en la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o hay cabida para acciones de sociedades anónimas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nos referimos a valores diferentes de las acciones (bonos, efectos de comercio, cuotas, etc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/>
          <p:nvPr/>
        </p:nvCxnSpPr>
        <p:spPr>
          <a:xfrm flipV="1">
            <a:off x="5148360" y="2420640"/>
            <a:ext cx="1224720" cy="504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6300720" y="1628640"/>
            <a:ext cx="284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hor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pecu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/>
          <p:nvPr/>
        </p:nvCxnSpPr>
        <p:spPr>
          <a:xfrm flipV="1" rot="10800000">
            <a:off x="1042200" y="2923920"/>
            <a:ext cx="2421720" cy="388080"/>
          </a:xfrm>
          <a:prstGeom prst="curvedConnector5">
            <a:avLst>
              <a:gd name="adj1" fmla="val 19134"/>
              <a:gd name="adj2" fmla="val 49953"/>
              <a:gd name="adj3" fmla="val 1913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324000" y="2276640"/>
            <a:ext cx="7920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2128680"/>
            <a:ext cx="835200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speciales y s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Valores, Normativa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 accionaria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ctos de control y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acción pública y privada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, Frecuencia, Com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e Incompatibilidades de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dito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ición mínima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y transparenc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50280" y="132552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37560" y="23716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3164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4440" y="3668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9320" y="42451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8800" y="2300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3480" y="273204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5640" y="316404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85720" y="36687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82840" y="41590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15480" y="285264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Pasivo Ex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19098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9080" y="54687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03800" y="5445000"/>
            <a:ext cx="244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2421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24640" y="424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Deuda” con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51640" y="4076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32440" y="27306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1879920" y="1706400"/>
            <a:ext cx="4524120" cy="3503880"/>
            <a:chOff x="1879920" y="1706400"/>
            <a:chExt cx="4524120" cy="3503880"/>
          </a:xfrm>
        </p:grpSpPr>
        <p:sp>
          <p:nvSpPr>
            <p:cNvPr id="231" name="_s68636"/>
            <p:cNvSpPr/>
            <p:nvPr/>
          </p:nvSpPr>
          <p:spPr>
            <a:xfrm flipH="1">
              <a:off x="3528720" y="413064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_s68635"/>
            <p:cNvSpPr/>
            <p:nvPr/>
          </p:nvSpPr>
          <p:spPr>
            <a:xfrm>
              <a:off x="2525760" y="41324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icial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ag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_s68634"/>
            <p:cNvSpPr/>
            <p:nvPr/>
          </p:nvSpPr>
          <p:spPr>
            <a:xfrm>
              <a:off x="4929120" y="413064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68633"/>
            <p:cNvSpPr/>
            <p:nvPr/>
          </p:nvSpPr>
          <p:spPr>
            <a:xfrm>
              <a:off x="5326200" y="41324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ri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_s68632"/>
            <p:cNvSpPr/>
            <p:nvPr/>
          </p:nvSpPr>
          <p:spPr>
            <a:xfrm flipV="1">
              <a:off x="4464000" y="278280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_s68631"/>
            <p:cNvSpPr/>
            <p:nvPr/>
          </p:nvSpPr>
          <p:spPr>
            <a:xfrm>
              <a:off x="3925800" y="1706400"/>
              <a:ext cx="1077840" cy="1078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evalo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z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_s68630"/>
            <p:cNvSpPr/>
            <p:nvPr/>
          </p:nvSpPr>
          <p:spPr>
            <a:xfrm>
              <a:off x="3925800" y="33242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9920" y="278136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292720" y="1557360"/>
            <a:ext cx="35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juste de plen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aprobación de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corrección mone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s Estatu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mento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8000" y="1628640"/>
            <a:ext cx="33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tros medios de financiamiento por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tas. Ctes.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800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a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rte, entero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3-26T02:46:24Z</dcterms:modified>
  <cp:revision>91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