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EE46-37AF-4CB8-A2BA-51907181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7395-5F97-444C-A528-8F6E6DBB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C331-E421-4679-875B-A5F4E03D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7535-7AAD-422E-A466-6FD3926F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D4DD-C175-49AB-86FE-21F5C8DF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A6BA-C935-4ADA-A87E-6074CAB9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57EE-9A26-4654-B72A-CB3A73CD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77B3-62B7-4A67-A64E-D3D56EB0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C0BD-0CA2-4F39-8ECB-153F37C5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72A4-5D8F-4E95-88A1-44DBC391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229F-5543-4964-A15D-F909ADE7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65A1-E20D-44D9-A17E-4BA062C1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DD77-48F0-49E4-892D-9F2CE6D45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1773360"/>
            <a:ext cx="80661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Acta junta de accionistas reducida a escritura pública (art. 3 inc.       2º, 57 Nº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¿Quién practica reduc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Persona designada por al ju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Persona designada en estatutos (Presid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 Todos los asistente a la ju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 Apoderados del directorio o Gerente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Modificacione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6160" y="133812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olemnida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26920" y="1773360"/>
            <a:ext cx="8066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Asistencia              arts. 53, 57 inc. final, 61 inc. final, 62, 63 inc.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final, 68 Regl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Presidente del directorio, secretario (gerente gene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Acciones inscritas en Registro de Accionistas con 5 días de anticip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 Auditores externos e inspectores de cuen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 No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. S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56000" y="213372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6920" y="1773360"/>
            <a:ext cx="8066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Representación          arts. 64 y 63-65 Regl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crituración del mandato: Me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critura pública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ugar y fecha de otorg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vidualización apod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vidualización man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strumento privado            menciones art. 63 Regl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59280" y="2133720"/>
            <a:ext cx="502920" cy="287280"/>
          </a:xfrm>
          <a:prstGeom prst="rightArrow">
            <a:avLst>
              <a:gd name="adj1" fmla="val 50000"/>
              <a:gd name="adj2" fmla="val 43766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16360" y="3789360"/>
            <a:ext cx="57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48000" y="530064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48000" y="566100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773360"/>
            <a:ext cx="8066160" cy="50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4. Calificación de poderes          arts. 66-70 Regl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omento de la calificación: mismo día de junta o 3 días antes si se anunció en avisos de convoc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bjeto calificación: cumplimiento art. 63 Reglamento, poderes repetidos, poderes obje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lificador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.A. abiertas         Abogado Calificador (Registro SV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.A. cerradas        persona designada de común acuer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24360" y="213372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16360" y="537372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16360" y="59500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26920" y="1773360"/>
            <a:ext cx="806616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5. Quórum para sesionar            arts. 61, 71 Regl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ª citación          mayoría absoluta de acciones emitidas con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derecho a v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ª citación         acciones presentes o represent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irma hoja de asis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24360" y="213372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00360" y="29242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77164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0036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0036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27280" y="386064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773360"/>
            <a:ext cx="8066160" cy="31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5. Quórum para adoptar acuerdos           arts. 61 y 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gla general          mayoría absoluta de acciones emitidas con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derecho a v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Quórums especiales         art. 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59280" y="213372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59280" y="3213000"/>
            <a:ext cx="502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7164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0036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0036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708360" y="414972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1773360"/>
            <a:ext cx="8066160" cy="81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Extracto (art. 5 inc. fi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. Fecha de la escri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. Nombre y domicilio de no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. Referencia a contenido de reforma si se modifican Nºs 1,2, 3 y 4 de art.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Inscripción en Registro de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4. Publicación en Diario Of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Modificacione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6160" y="133812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olemnida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1773360"/>
            <a:ext cx="80661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Fuerza obligatoria de acuerdos válidamente adop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Derecho a vo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Una acción un voto (art. 2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Limitación en estatutos: acciones preferentes (art. 6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 Distribución de votos (art. 6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Límites a su actu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Esta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 Derechos individuales de accionistas e interés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68520" y="13381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incipios recto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1773360"/>
            <a:ext cx="8066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Modificación de esta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Aprobación gestión administrativa y con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Nombrar y remover direc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4. Acordar disolución, transformación, fusión y di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5. Pronunciarse sobre cualquier asunto de interés social que la ley no encargue a un órgano en part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91920" y="133812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tribucion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1773360"/>
            <a:ext cx="8066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rdin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traordin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peciales               reuniones de accionistas, de una misma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serie, de accionistas preferentes o de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ordinarios habiendo preferentes (derecho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de reunió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actos de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30440" y="133812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l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414972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2060640"/>
            <a:ext cx="1223640" cy="1297080"/>
          </a:xfrm>
          <a:custGeom>
            <a:avLst/>
            <a:gdLst>
              <a:gd name="textAreaLeft" fmla="*/ 0 w 1223640"/>
              <a:gd name="textAreaRight" fmla="*/ 441720 w 122364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1773360"/>
            <a:ext cx="8066160" cy="38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amen situación contable y financi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stribución de utilidades y reparto de dividen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ección o revocación del directorio, liquidadores y fiscaliz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ualquier materia de interés social que no sea propia de junta extraordin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Ordinari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13880" y="1338120"/>
            <a:ext cx="21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aterias: art. 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6920" y="1773360"/>
            <a:ext cx="8066160" cy="54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ransformación, fusión, división, reforma de esta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misión de bonos o debentures convertibles en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ajenación de activo y p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torgamiento garantías reales y pers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más materias que por ley o estatutos le corresponda cono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terias 1, 2, 3 y 4              Presencia de no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Extraordinari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13880" y="1338120"/>
            <a:ext cx="21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aterias: art. 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5950080"/>
            <a:ext cx="790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1773360"/>
            <a:ext cx="806616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Convocatoria              Directorio (art. 5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Junta Ordinaria: dentro de cuatrimestre siguiente a fecha del    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Junta Extraordinaria: intereses sociales lo justifiqu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 Junta ordinaria o extraordinar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olicitud de accionistas al menos 10% acciones emitidas con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recho a v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olicitud de S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508464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43280" y="2133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6920" y="1773360"/>
            <a:ext cx="80661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Citación              (art. 5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viso destacado por 3 veces en días distintos en periódico de domicilio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.A. abiertas: citación por correo a domicilio de accionista con 15 días de anticip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60: celebración válida de junta si concurren todas las acciones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mitidas con derecho a voto aún no habiéndose cumplido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ormalidades 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40000" y="2133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Fernanda Zelada </cp:lastModifiedBy>
  <dcterms:modified xsi:type="dcterms:W3CDTF">2005-03-21T14:34:24Z</dcterms:modified>
  <cp:revision>102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42458701</vt:r8>
  </property>
  <property fmtid="{D5CDD505-2E9C-101B-9397-08002B2CF9AE}" pid="3" name="_AuthorEmail">
    <vt:lpwstr>obofill@grasty.cl</vt:lpwstr>
  </property>
  <property fmtid="{D5CDD505-2E9C-101B-9397-08002B2CF9AE}" pid="4" name="_AuthorEmailDisplayName">
    <vt:lpwstr>Octavio Bofill</vt:lpwstr>
  </property>
  <property fmtid="{D5CDD505-2E9C-101B-9397-08002B2CF9AE}" pid="5" name="_EmailSubject">
    <vt:lpwstr>Taller S.A.1.ppt</vt:lpwstr>
  </property>
  <property fmtid="{D5CDD505-2E9C-101B-9397-08002B2CF9AE}" pid="6" name="_PreviousAdHocReviewCycleID">
    <vt:r8>1658573310</vt:r8>
  </property>
</Properties>
</file>