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1FB-2634-4381-B1A9-2FFE7C14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73D-518B-4621-BE8D-D88A13B2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0B8-7609-4F2A-9629-E6E28C43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8CF-B7D5-4D12-ABED-12C67BC9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398-4707-43B8-9434-717D37EC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10B-010E-46B3-B82D-B7FF6DBD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0CC-463B-4FAD-B404-AE4F39C9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04A-9DD4-4AE6-918D-ABE5C22D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51F-8DBA-4A07-A6A1-5C19192F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7D2-3351-449D-9014-B5ED3D29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797-639B-4265-8B67-3B8CD6FD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2E8-D34A-44F3-BB62-88F555D7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0064-08A7-4633-B674-71159F178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773360"/>
            <a:ext cx="80661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Acta junta de accionistas reducida a escritura pública (art. 3 inc.       2º, 57 Nº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¿Quién practica reduc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ersona designada por al 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Persona designada en estatutos (Presid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Todos los asistente a la 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Apoderados del directorio o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Modificacione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6160" y="133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lem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sistencia              arts. 53, 57 inc. final, 61 inc. final, 62, 63 inc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final, 68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residente del directorio, secretario (gerente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Acciones inscritas en Registro de Accionistas con 5 días de an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Auditores externos e inspectores de cu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No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.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Representación          arts. 64 y 63-65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turación del mandato: M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tura pública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y fecha de otor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apo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strumento privado            menciones art. 63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59280" y="2133720"/>
            <a:ext cx="502920" cy="287280"/>
          </a:xfrm>
          <a:prstGeom prst="rightArrow">
            <a:avLst>
              <a:gd name="adj1" fmla="val 50000"/>
              <a:gd name="adj2" fmla="val 4376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378936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530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5661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773360"/>
            <a:ext cx="806616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Calificación de poderes          arts. 66-70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omento de la calificación: mismo día de junta o 3 días antes si se anunció en avisos de convoc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calificación: cumplimiento art. 63 Reglamento, poderes repetidos, poderes obje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lificador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         Abogado Calificador (Registro SV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cerradas        persona designada de común acue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6360" y="5373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59500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1773360"/>
            <a:ext cx="806616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Quórum para sesionar            arts. 61, 71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ª citación          mayoría absoluta de acciones emitidas con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ª citación         acciones presentes o represen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hoja de asis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00360" y="29242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27280" y="386064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773360"/>
            <a:ext cx="806616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Quórum para adoptar acuerdos           arts. 61 y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 general          mayoría absoluta de acciones emitidas con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órums especiales         art.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3213000"/>
            <a:ext cx="50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08360" y="414972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773360"/>
            <a:ext cx="8066160" cy="81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Extracto (art. 5 inc. f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. Fecha de la escr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. Nombre y domicilio de no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. Referencia a contenido de reforma si se modifican Nºs 1,2, 3 y 4 de art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Inscripción en Registro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Publicación en Diario O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Modificacione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6160" y="133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lem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3360"/>
            <a:ext cx="80661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Fuerza obligatoria de acuerdos válidamente adop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Derecho a vo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Una acción un voto (art. 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Limitación en estatutos: acciones preferentes (art. 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Distribución de votos (art. 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Límites a su act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Derechos individuales de accionistas e interés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8520" y="13381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incipios rec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Modificación de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probación gestión administrativa y co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Nombrar y remover dir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Acordar disolución, transformación, fusión y 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Pronunciarse sobre cualquier asunto de interés social que la ley no encargue a un órgano en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1920" y="13381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tribu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traord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peciales               reuniones de accionistas, de una mism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serie, de accionistas preferentes o de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ordinarios habiendo preferentes (derecho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de reun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ctos de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0440" y="1338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414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060640"/>
            <a:ext cx="1223640" cy="1297080"/>
          </a:xfrm>
          <a:custGeom>
            <a:avLst/>
            <a:gdLst>
              <a:gd name="textAreaLeft" fmla="*/ 0 w 1223640"/>
              <a:gd name="textAreaRight" fmla="*/ 441720 w 1223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773360"/>
            <a:ext cx="80661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amen situación contable y financ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tribución de utilidades y reparto de divide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cción o revocación del directorio, liquidadores y fiscal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alquier materia de interés social que no sea propia de junta extra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Ordinari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13880" y="13381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erias: art. 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1773360"/>
            <a:ext cx="806616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nsformación, fusión, división, reforma de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sión de bonos o debentures convertibles en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ajenación de activo y 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torgamiento garantías reales y pers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más materias que por ley o estatutos le corresponda cono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terias 1, 2, 3 y 4              Presencia de no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Extraordinari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13880" y="13381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erias: art. 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950080"/>
            <a:ext cx="790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73360"/>
            <a:ext cx="8066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Convocatoria              Directorio (art. 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Junta Ordinaria: dentro de cuatrimestre siguiente a fecha del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Junta Extraordinaria: intereses sociales lo justifiq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Junta ordinaria o extraordina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accionistas al menos 10% acciones emitidas con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08464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43280" y="2133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773360"/>
            <a:ext cx="80661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Citación              (art. 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iso destacado por 3 veces en días distintos en periódico de domicili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: citación por correo a domicilio de accionista con 15 días de an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60: celebración válida de junta si concurren todas las accione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tidas con derecho a voto aún no habiéndose cumplido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ormalidades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2133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Fernanda Zelada </cp:lastModifiedBy>
  <dcterms:modified xsi:type="dcterms:W3CDTF">2005-03-21T14:34:24Z</dcterms:modified>
  <cp:revision>10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42458701</vt:r8>
  </property>
  <property fmtid="{D5CDD505-2E9C-101B-9397-08002B2CF9AE}" pid="3" name="_AuthorEmail">
    <vt:lpwstr>obofill@grasty.cl</vt:lpwstr>
  </property>
  <property fmtid="{D5CDD505-2E9C-101B-9397-08002B2CF9AE}" pid="4" name="_AuthorEmailDisplayName">
    <vt:lpwstr>Octavio Bofill</vt:lpwstr>
  </property>
  <property fmtid="{D5CDD505-2E9C-101B-9397-08002B2CF9AE}" pid="5" name="_EmailSubject">
    <vt:lpwstr>Taller S.A.1.ppt</vt:lpwstr>
  </property>
  <property fmtid="{D5CDD505-2E9C-101B-9397-08002B2CF9AE}" pid="6" name="_PreviousAdHocReviewCycleID">
    <vt:r8>1658573310</vt:r8>
  </property>
</Properties>
</file>