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567-EF51-4D82-B28F-560917FF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FB1-4069-4FBF-80A8-587EB748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634-AF16-4F72-A5A3-D9460294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182-7FDC-457E-BDB2-A672496B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DCE-0912-4706-A030-ABA42CD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75F-CF69-419B-A298-449D70DF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6DC-C5DE-40F3-955D-A76D429D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2ED-7657-423A-B3D3-77B4D09C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CE4-C331-4B08-BAE6-97CEF50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4BD-483A-4046-A9FE-3137E7E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4F3-05DE-4B83-B8FE-EF1E2B98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5A2-B0DB-4DBC-A109-C11E58D8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082-E49A-4D16-8744-2F5B7788A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773360"/>
            <a:ext cx="8066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Acta junta de accionistas reducida a escritura pública (art. 3 inc.       2º, 57 Nº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¿Quién practica reduc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ersona designada por al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Persona designada en estatutos (Presid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Todos los asistente a la 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Apoderados del directorio o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sistencia              arts. 53, 57 inc. final, 61 inc. final, 62, 63 inc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final, 68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esidente del directorio, secretario (gerente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Acciones inscritas en Registro de Accionistas con 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Auditores externos e inspectores de cu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Representación          arts. 64 y 63-65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ción del mandato: 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critura pública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y fecha de otor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ap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privado            menciones art. 63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59280" y="2133720"/>
            <a:ext cx="502920" cy="28728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378936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530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5661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773360"/>
            <a:ext cx="80661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Calificación de poderes          arts. 66-70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omento de la calificación: mismo día de junta o 3 días antes si se anunció en avisos de convoc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calificación: cumplimiento art. 63 Reglamento, poderes repetidos, poderes obje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lificad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         Abogado Calificador (Registro SV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cerradas        persona designada de común acue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537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59500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773360"/>
            <a:ext cx="8066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sesionar            arts. 61, 71 Reg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ª citación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ª citación         acciones presentes o represen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hoja de a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00360" y="2924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27280" y="3860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773360"/>
            <a:ext cx="806616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Quórum para adoptar acuerdos           arts. 61 y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 general          mayoría absoluta de acciones emitidas con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órums especiales         art.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21337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321300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41497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8066160" cy="81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Extracto (art. 5 inc. f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. Fecha de la escr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. Nombre y domicilio de 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Referencia a contenido de reforma si se modifican Nºs 1,2, 3 y 4 de 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Inscripción en Registr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ublicación en Diario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Modificacione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6160" y="133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lem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8066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Fuerza obligatoria de acuerdos válidamente adop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Derecho a vo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Una acción un voto (art. 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imitación en estatutos: acciones preferentes (art. 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istribución de votos (art. 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Límites a su act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Derechos individuales de accionistas e interés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8520" y="13381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incipios rec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Modificación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probación gestión administrativa y co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Nombrar y remover dir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Acordar disolución, transformación, fusión y 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Pronunciarse sobre cualquier asunto de interés social que la ley no encargue a un órgano en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1920" y="13381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tribu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traordin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ales               reuniones de accionistas, de una mism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serie, de accionistas preferentes o de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ordinarios habiendo preferentes (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de reun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ctos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0440" y="1338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414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060640"/>
            <a:ext cx="1223640" cy="1297080"/>
          </a:xfrm>
          <a:custGeom>
            <a:avLst/>
            <a:gdLst>
              <a:gd name="textAreaLeft" fmla="*/ 0 w 1223640"/>
              <a:gd name="textAreaRight" fmla="*/ 441720 w 1223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773360"/>
            <a:ext cx="8066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amen situación contable y financ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tribución de utilidades y reparto de divide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o revocación del directorio, liquidadores y fiscal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alquier materia de interés social que no sea propia de junta extra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1773360"/>
            <a:ext cx="806616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ormación, fusión, división, reforma de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sión de bonos o debentures convertibles en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ajenación de activo y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torgamiento garantías reales y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más materias que por ley o estatutos le corresponda cono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terias 1, 2, 3 y 4              Presencia de no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Extraordinari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3880" y="13381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erias: art. 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950080"/>
            <a:ext cx="790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73360"/>
            <a:ext cx="8066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Convocatoria              Directorio (art. 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Junta Ordinaria: dentro de cuatrimestre siguiente a fecha del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Junta Extraordinaria: intereses sociales lo justifiq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Junta ordinaria o extraordina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accionistas al menos 10% acciones emitidas con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echo a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084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773360"/>
            <a:ext cx="8066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Citación              (art. 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iso destacado por 3 veces en días distintos en periódico de domicili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: citación por correo a domicilio de accionista con 15 días de an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0: celebración válida de junta si concurren todas las accione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das con derecho a voto aún no habiéndose cumplid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ormalidades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Junta de Accionistas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6520" y="133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133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Fernanda Zelada </cp:lastModifiedBy>
  <dcterms:modified xsi:type="dcterms:W3CDTF">2005-03-21T14:34:24Z</dcterms:modified>
  <cp:revision>10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2458701</vt:r8>
  </property>
  <property fmtid="{D5CDD505-2E9C-101B-9397-08002B2CF9AE}" pid="3" name="_AuthorEmail">
    <vt:lpwstr>obofill@grasty.cl</vt:lpwstr>
  </property>
  <property fmtid="{D5CDD505-2E9C-101B-9397-08002B2CF9AE}" pid="4" name="_AuthorEmailDisplayName">
    <vt:lpwstr>Octavio Bofill</vt:lpwstr>
  </property>
  <property fmtid="{D5CDD505-2E9C-101B-9397-08002B2CF9AE}" pid="5" name="_EmailSubject">
    <vt:lpwstr>Taller S.A.1.ppt</vt:lpwstr>
  </property>
  <property fmtid="{D5CDD505-2E9C-101B-9397-08002B2CF9AE}" pid="6" name="_PreviousAdHocReviewCycleID">
    <vt:r8>1658573310</vt:r8>
  </property>
</Properties>
</file>